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15.wmf" ContentType="image/x-wmf"/>
  <Override PartName="/ppt/media/image80.wmf" ContentType="image/x-wmf"/>
  <Override PartName="/ppt/media/image53.jpeg" ContentType="image/jpeg"/>
  <Override PartName="/ppt/media/image46.wmf" ContentType="image/x-wmf"/>
  <Override PartName="/ppt/media/image45.png" ContentType="image/png"/>
  <Override PartName="/ppt/media/image57.jpeg" ContentType="image/jpeg"/>
  <Override PartName="/ppt/media/image20.wmf" ContentType="image/x-wmf"/>
  <Override PartName="/ppt/media/image43.png" ContentType="image/png"/>
  <Override PartName="/ppt/media/image42.wmf" ContentType="image/x-wmf"/>
  <Override PartName="/ppt/media/image23.jpeg" ContentType="image/jpeg"/>
  <Override PartName="/ppt/media/image39.wmf" ContentType="image/x-wmf"/>
  <Override PartName="/ppt/media/image37.wmf" ContentType="image/x-wmf"/>
  <Override PartName="/ppt/media/image36.wmf" ContentType="image/x-wmf"/>
  <Override PartName="/ppt/media/image34.wmf" ContentType="image/x-wmf"/>
  <Override PartName="/ppt/media/image52.jpeg" ContentType="image/jpeg"/>
  <Override PartName="/ppt/media/image33.wmf" ContentType="image/x-wmf"/>
  <Override PartName="/ppt/media/image76.png" ContentType="image/png"/>
  <Override PartName="/ppt/media/image31.png" ContentType="image/png"/>
  <Override PartName="/ppt/media/image51.png" ContentType="image/png"/>
  <Override PartName="/ppt/media/image4.jpeg" ContentType="image/jpeg"/>
  <Override PartName="/ppt/media/image12.wmf" ContentType="image/x-wmf"/>
  <Override PartName="/ppt/media/image27.png" ContentType="image/png"/>
  <Override PartName="/ppt/media/image11.jpeg" ContentType="image/jpeg"/>
  <Override PartName="/ppt/media/image28.jpeg" ContentType="image/jpeg"/>
  <Override PartName="/ppt/media/image9.jpeg" ContentType="image/jpeg"/>
  <Override PartName="/ppt/media/image44.png" ContentType="image/png"/>
  <Override PartName="/ppt/media/image13.jpeg" ContentType="image/jpeg"/>
  <Override PartName="/ppt/media/image47.wmf" ContentType="image/x-wmf"/>
  <Override PartName="/ppt/media/image49.png" ContentType="image/png"/>
  <Override PartName="/ppt/media/image71.wmf" ContentType="image/x-wmf"/>
  <Override PartName="/ppt/media/image72.wmf" ContentType="image/x-wmf"/>
  <Override PartName="/ppt/media/image32.png" ContentType="image/png"/>
  <Override PartName="/ppt/media/image59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9.png" ContentType="image/png"/>
  <Override PartName="/ppt/media/image26.wmf" ContentType="image/x-wmf"/>
  <Override PartName="/ppt/media/image63.wmf" ContentType="image/x-wmf"/>
  <Override PartName="/ppt/media/image64.wmf" ContentType="image/x-wmf"/>
  <Override PartName="/ppt/media/image67.wmf" ContentType="image/x-wmf"/>
  <Override PartName="/ppt/media/image68.wmf" ContentType="image/x-wmf"/>
  <Override PartName="/ppt/media/image7.jpeg" ContentType="image/jpeg"/>
  <Override PartName="/ppt/media/image70.wmf" ContentType="image/x-wmf"/>
  <Override PartName="/ppt/media/image3.jpeg" ContentType="image/jpeg"/>
  <Override PartName="/ppt/media/image30.png" ContentType="image/png"/>
  <Override PartName="/ppt/media/image88.wmf" ContentType="image/x-wmf"/>
  <Override PartName="/ppt/media/image87.wmf" ContentType="image/x-wmf"/>
  <Override PartName="/ppt/media/image1.jpeg" ContentType="image/jpeg"/>
  <Override PartName="/ppt/media/image66.png" ContentType="image/png"/>
  <Override PartName="/ppt/media/image86.wmf" ContentType="image/x-wmf"/>
  <Override PartName="/ppt/media/image60.wmf" ContentType="image/x-wmf"/>
  <Override PartName="/ppt/media/image75.png" ContentType="image/png"/>
  <Override PartName="/ppt/media/image85.wmf" ContentType="image/x-wmf"/>
  <Override PartName="/ppt/media/image74.png" ContentType="image/png"/>
  <Override PartName="/ppt/media/image35.wmf" ContentType="image/x-wmf"/>
  <Override PartName="/ppt/media/image84.wmf" ContentType="image/x-wmf"/>
  <Override PartName="/ppt/media/image73.png" ContentType="image/png"/>
  <Override PartName="/ppt/media/image83.wmf" ContentType="image/x-wmf"/>
  <Override PartName="/ppt/media/image81.wmf" ContentType="image/x-wmf"/>
  <Override PartName="/ppt/media/image79.wmf" ContentType="image/x-wmf"/>
  <Override PartName="/ppt/media/image78.wmf" ContentType="image/x-wmf"/>
  <Override PartName="/ppt/media/image8.jpeg" ContentType="image/jpeg"/>
  <Override PartName="/ppt/media/image19.png" ContentType="image/png"/>
  <Override PartName="/ppt/media/image41.wmf" ContentType="image/x-wmf"/>
  <Override PartName="/ppt/media/image22.wmf" ContentType="image/x-wmf"/>
  <Override PartName="/ppt/media/image65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55.wmf" ContentType="image/x-wmf"/>
  <Override PartName="/ppt/media/image82.wmf" ContentType="image/x-wmf"/>
  <Override PartName="/ppt/media/image17.wmf" ContentType="image/x-wmf"/>
  <Override PartName="/ppt/media/image56.png" ContentType="image/png"/>
  <Override PartName="/ppt/media/image16.jpeg" ContentType="image/jpeg"/>
  <Override PartName="/ppt/media/image77.wmf" ContentType="image/x-wmf"/>
  <Override PartName="/ppt/media/image54.png" ContentType="image/png"/>
  <Override PartName="/ppt/media/image5.jpeg" ContentType="image/jpeg"/>
  <Override PartName="/ppt/media/image48.wmf" ContentType="image/x-wmf"/>
  <Override PartName="/ppt/media/image50.png" ContentType="image/png"/>
  <Override PartName="/ppt/media/image6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38.wmf" ContentType="image/x-wmf"/>
  <Override PartName="/ppt/media/image40.png" ContentType="image/png"/>
  <Override PartName="/ppt/media/image10.wmf" ContentType="image/x-wmf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112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4146480" y="9121680"/>
            <a:ext cx="3167280" cy="478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1" i="1" lang="it-IT" sz="1300" spc="-1" strike="noStrike" u="sng">
                <a:solidFill>
                  <a:srgbClr val="3333cc"/>
                </a:solidFill>
                <a:uFillTx/>
                <a:latin typeface="Tahoma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009ABC-B128-4C14-B956-BDF0BC01563A}" type="slidenum">
              <a:rPr b="1" i="1" lang="it-IT" sz="1300" spc="-1" strike="noStrike" u="sng">
                <a:solidFill>
                  <a:srgbClr val="3333cc"/>
                </a:solidFill>
                <a:uFillTx/>
                <a:latin typeface="Tahoma"/>
                <a:ea typeface="DejaVu Sans"/>
              </a:rPr>
              <a:t>&lt;number&gt;</a:t>
            </a:fld>
            <a:endParaRPr b="1" i="1" lang="en-US" sz="13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B8FDA0-FD41-4585-BE35-8CA9DAB42E47}" type="slidenum">
              <a:rPr b="1" i="1" lang="it-IT" sz="1300" spc="-1" strike="noStrike" u="sng">
                <a:solidFill>
                  <a:srgbClr val="3333cc"/>
                </a:solidFill>
                <a:uFillTx/>
                <a:latin typeface="Tahoma"/>
              </a:rPr>
              <a:t>&lt;number&gt;</a:t>
            </a:fld>
            <a:endParaRPr b="1" i="1" lang="en-US" sz="13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56D8D7-F034-4F9D-ABB0-2CBB5AE218F5}" type="slidenum">
              <a:rPr b="1" i="1" lang="it-IT" sz="1300" spc="-1" strike="noStrike" u="sng">
                <a:solidFill>
                  <a:srgbClr val="3333cc"/>
                </a:solidFill>
                <a:uFillTx/>
                <a:latin typeface="Tahoma"/>
              </a:rPr>
              <a:t>&lt;number&gt;</a:t>
            </a:fld>
            <a:endParaRPr b="1" i="1" lang="en-US" sz="13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F8CCA6-21F2-418D-A093-657DA53148B8}" type="slidenum">
              <a:rPr b="1" i="1" lang="it-IT" sz="1300" spc="-1" strike="noStrike" u="sng">
                <a:solidFill>
                  <a:srgbClr val="3333cc"/>
                </a:solidFill>
                <a:uFillTx/>
                <a:latin typeface="Tahoma"/>
              </a:rPr>
              <a:t>&lt;number&gt;</a:t>
            </a:fld>
            <a:endParaRPr b="1" i="1" lang="en-US" sz="13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8C4FF6-C130-4CFB-B8EB-3C6ED2389287}" type="slidenum">
              <a:rPr b="1" i="1" lang="it-IT" sz="1300" spc="-1" strike="noStrike" u="sng">
                <a:solidFill>
                  <a:srgbClr val="3333cc"/>
                </a:solidFill>
                <a:uFillTx/>
                <a:latin typeface="Tahoma"/>
              </a:rPr>
              <a:t>&lt;number&gt;</a:t>
            </a:fld>
            <a:endParaRPr b="1" i="1" lang="en-US" sz="13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3157E5-3C2A-407E-814F-D906D3F0D0C8}" type="slidenum">
              <a:rPr b="1" i="1" lang="it-IT" sz="1300" spc="-1" strike="noStrike" u="sng">
                <a:solidFill>
                  <a:srgbClr val="3333cc"/>
                </a:solidFill>
                <a:uFillTx/>
                <a:latin typeface="Tahoma"/>
              </a:rPr>
              <a:t>&lt;number&gt;</a:t>
            </a:fld>
            <a:endParaRPr b="1" i="1" lang="en-US" sz="13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667DA7-B96B-4C1C-A69B-D3FC6177AF7A}" type="slidenum">
              <a:rPr b="1" i="1" lang="it-IT" sz="1300" spc="-1" strike="noStrike" u="sng">
                <a:solidFill>
                  <a:srgbClr val="3333cc"/>
                </a:solidFill>
                <a:uFillTx/>
                <a:latin typeface="Tahoma"/>
              </a:rPr>
              <a:t>&lt;number&gt;</a:t>
            </a:fld>
            <a:endParaRPr b="1" i="1" lang="en-US" sz="13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ABE76E-E119-41B7-8300-896858489885}" type="slidenum">
              <a:rPr b="1" i="1" lang="it-IT" sz="1300" spc="-1" strike="noStrike" u="sng">
                <a:solidFill>
                  <a:srgbClr val="3333cc"/>
                </a:solidFill>
                <a:uFillTx/>
                <a:latin typeface="Tahoma"/>
              </a:rPr>
              <a:t>&lt;number&gt;</a:t>
            </a:fld>
            <a:endParaRPr b="1" i="1" lang="en-US" sz="13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28D34B-9A96-42CE-A0D3-3B29196C510A}" type="slidenum">
              <a:rPr b="1" i="1" lang="it-IT" sz="1300" spc="-1" strike="noStrike" u="sng">
                <a:solidFill>
                  <a:srgbClr val="3333cc"/>
                </a:solidFill>
                <a:uFillTx/>
                <a:latin typeface="Tahoma"/>
              </a:rPr>
              <a:t>&lt;number&gt;</a:t>
            </a:fld>
            <a:endParaRPr b="1" i="1" lang="en-US" sz="13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7302BE-DFD4-4D8E-99CC-AE446470FA0D}" type="slidenum">
              <a:rPr b="1" i="1" lang="it-IT" sz="1300" spc="-1" strike="noStrike" u="sng">
                <a:solidFill>
                  <a:srgbClr val="3333cc"/>
                </a:solidFill>
                <a:uFillTx/>
                <a:latin typeface="Tahoma"/>
              </a:rPr>
              <a:t>&lt;number&gt;</a:t>
            </a:fld>
            <a:endParaRPr b="1" i="1" lang="en-US" sz="13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AF56FB-916C-4D4A-997F-8BE45C4FDC20}" type="slidenum">
              <a:rPr b="1" i="1" lang="it-IT" sz="1300" spc="-1" strike="noStrike" u="sng">
                <a:solidFill>
                  <a:srgbClr val="3333cc"/>
                </a:solidFill>
                <a:uFillTx/>
                <a:latin typeface="Tahoma"/>
              </a:rPr>
              <a:t>&lt;number&gt;</a:t>
            </a:fld>
            <a:endParaRPr b="1" i="1" lang="en-US" sz="13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22EEB8-B50D-40CC-94CB-1F8E5419DE1B}" type="slidenum">
              <a:rPr b="1" i="1" lang="it-IT" sz="1300" spc="-1" strike="noStrike" u="sng">
                <a:solidFill>
                  <a:srgbClr val="3333cc"/>
                </a:solidFill>
                <a:uFillTx/>
                <a:latin typeface="Tahoma"/>
              </a:rPr>
              <a:t>&lt;number&gt;</a:t>
            </a:fld>
            <a:endParaRPr b="1" i="1" lang="en-US" sz="13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B8072C-C215-4B13-8458-208F9B5F826C}" type="slidenum">
              <a:rPr b="1" i="1" lang="it-IT" sz="1300" spc="-1" strike="noStrike" u="sng">
                <a:solidFill>
                  <a:srgbClr val="3333cc"/>
                </a:solidFill>
                <a:uFillTx/>
                <a:latin typeface="Tahoma"/>
              </a:rPr>
              <a:t>&lt;number&gt;</a:t>
            </a:fld>
            <a:endParaRPr b="1" i="1" lang="en-US" sz="13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F08748-F915-4782-9032-B922E7B3D1A5}" type="slidenum">
              <a:rPr b="1" i="1" lang="it-IT" sz="1300" spc="-1" strike="noStrike" u="sng">
                <a:solidFill>
                  <a:srgbClr val="3333cc"/>
                </a:solidFill>
                <a:uFillTx/>
                <a:latin typeface="Tahoma"/>
              </a:rPr>
              <a:t>&lt;number&gt;</a:t>
            </a:fld>
            <a:endParaRPr b="1" i="1" lang="en-US" sz="13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F4F01E-CA7F-495E-8497-0409E2D3451E}" type="slidenum">
              <a:rPr b="1" i="1" lang="it-IT" sz="1300" spc="-1" strike="noStrike" u="sng">
                <a:solidFill>
                  <a:srgbClr val="3333cc"/>
                </a:solidFill>
                <a:uFillTx/>
                <a:latin typeface="Tahoma"/>
              </a:rPr>
              <a:t>&lt;number&gt;</a:t>
            </a:fld>
            <a:endParaRPr b="1" i="1" lang="en-US" sz="13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9BE3F3-0AB4-4A37-89DA-0BECD630A897}" type="slidenum">
              <a:rPr b="1" i="1" lang="it-IT" sz="1300" spc="-1" strike="noStrike" u="sng">
                <a:solidFill>
                  <a:srgbClr val="3333cc"/>
                </a:solidFill>
                <a:uFillTx/>
                <a:latin typeface="Tahoma"/>
              </a:rPr>
              <a:t>&lt;number&gt;</a:t>
            </a:fld>
            <a:endParaRPr b="1" i="1" lang="en-US" sz="13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E919A1-2351-4E35-B279-D840CC9C4E9C}" type="slidenum">
              <a:rPr b="1" i="1" lang="it-IT" sz="1300" spc="-1" strike="noStrike" u="sng">
                <a:solidFill>
                  <a:srgbClr val="3333cc"/>
                </a:solidFill>
                <a:uFillTx/>
                <a:latin typeface="Tahoma"/>
              </a:rPr>
              <a:t>&lt;number&gt;</a:t>
            </a:fld>
            <a:endParaRPr b="1" i="1" lang="en-US" sz="13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5407F2-96C2-40CE-9617-D0742287A9BB}" type="slidenum">
              <a:rPr b="1" i="1" lang="it-IT" sz="1300" spc="-1" strike="noStrike" u="sng">
                <a:solidFill>
                  <a:srgbClr val="3333cc"/>
                </a:solidFill>
                <a:uFillTx/>
                <a:latin typeface="Tahoma"/>
              </a:rPr>
              <a:t>&lt;number&gt;</a:t>
            </a:fld>
            <a:endParaRPr b="1" i="1" lang="en-US" sz="13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C1A5A6-749A-4E97-8717-3931E6EC1C2A}" type="slidenum">
              <a:rPr b="1" i="1" lang="it-IT" sz="1300" spc="-1" strike="noStrike" u="sng">
                <a:solidFill>
                  <a:srgbClr val="3333cc"/>
                </a:solidFill>
                <a:uFillTx/>
                <a:latin typeface="Tahoma"/>
              </a:rPr>
              <a:t>&lt;number&gt;</a:t>
            </a:fld>
            <a:endParaRPr b="1" i="1" lang="en-US" sz="13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83C94C-2BDA-41D2-BB87-E6B85EEEC4B9}" type="slidenum">
              <a:rPr b="1" i="1" lang="it-IT" sz="1300" spc="-1" strike="noStrike" u="sng">
                <a:solidFill>
                  <a:srgbClr val="3333cc"/>
                </a:solidFill>
                <a:uFillTx/>
                <a:latin typeface="Tahoma"/>
              </a:rPr>
              <a:t>&lt;number&gt;</a:t>
            </a:fld>
            <a:endParaRPr b="1" i="1" lang="en-US" sz="13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F0BAD1-BB28-404E-9ADD-172922643C5A}" type="slidenum">
              <a:rPr b="1" i="1" lang="it-IT" sz="1300" spc="-1" strike="noStrike" u="sng">
                <a:solidFill>
                  <a:srgbClr val="3333cc"/>
                </a:solidFill>
                <a:uFillTx/>
                <a:latin typeface="Tahoma"/>
              </a:rPr>
              <a:t>&lt;number&gt;</a:t>
            </a:fld>
            <a:endParaRPr b="1" i="1" lang="en-US" sz="13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6300720" y="637704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000" spc="-1" strike="noStrike" u="sng">
                <a:solidFill>
                  <a:srgbClr val="ccccff"/>
                </a:solidFill>
                <a:uFillTx/>
                <a:latin typeface="Courier New"/>
              </a:rPr>
              <a:t>casagran@elet.polimi.it</a:t>
            </a:r>
            <a:endParaRPr b="1" i="1" lang="en-US" sz="1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407880" y="6377040"/>
            <a:ext cx="39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000" spc="-1" strike="noStrike" u="sng">
                <a:solidFill>
                  <a:srgbClr val="ccccff"/>
                </a:solidFill>
                <a:uFillTx/>
                <a:latin typeface="Tahoma"/>
              </a:rPr>
              <a:t>PRISTEM 2012 –- Renato Casagrandi</a:t>
            </a:r>
            <a:endParaRPr b="1" i="1" lang="en-US" sz="1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4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4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8.wmf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png"/><Relationship Id="rId5" Type="http://schemas.openxmlformats.org/officeDocument/2006/relationships/image" Target="../media/image55.wmf"/><Relationship Id="rId6" Type="http://schemas.openxmlformats.org/officeDocument/2006/relationships/image" Target="../media/image56.png"/><Relationship Id="rId7" Type="http://schemas.openxmlformats.org/officeDocument/2006/relationships/image" Target="../media/image5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4.wmf"/><Relationship Id="rId16" Type="http://schemas.openxmlformats.org/officeDocument/2006/relationships/image" Target="../media/image65.png"/><Relationship Id="rId17" Type="http://schemas.openxmlformats.org/officeDocument/2006/relationships/image" Target="../media/image66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image" Target="../media/image5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8.wmf"/><Relationship Id="rId8" Type="http://schemas.openxmlformats.org/officeDocument/2006/relationships/image" Target="../media/image69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72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8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87.wmf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package" Target="../embeddings/oleObject2.xlsx"/><Relationship Id="rId5" Type="http://schemas.openxmlformats.org/officeDocument/2006/relationships/image" Target="../media/image17.wmf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3200" spc="-1" strike="noStrike" u="sng">
                <a:solidFill>
                  <a:srgbClr val="3399ff"/>
                </a:solidFill>
                <a:uFillTx/>
                <a:latin typeface="Tahoma"/>
              </a:rPr>
              <a:t>Production in creative professions</a:t>
            </a:r>
            <a:endParaRPr b="1" i="1" lang="en-US" sz="3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295280"/>
            <a:ext cx="807696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Instabilities in creative professions: A minimal model</a:t>
            </a:r>
            <a:br>
              <a:rPr sz="2400"/>
            </a:br>
            <a:r>
              <a:rPr b="1" i="1" lang="en-US" sz="1600" spc="-1" strike="noStrike" u="sng">
                <a:solidFill>
                  <a:srgbClr val="3333cc"/>
                </a:solidFill>
                <a:uFillTx/>
                <a:latin typeface="Tahoma"/>
              </a:rPr>
              <a:t>Sergio Rinaldi, Roberto Cordone &amp; Renato Casagrandi (2000) </a:t>
            </a:r>
            <a:br>
              <a:rPr sz="1600"/>
            </a:br>
            <a:r>
              <a:rPr b="1" i="1" lang="en-US" sz="1600" spc="-1" strike="noStrike" u="sng">
                <a:solidFill>
                  <a:srgbClr val="3333cc"/>
                </a:solidFill>
                <a:uFillTx/>
                <a:latin typeface="Tahoma"/>
              </a:rPr>
              <a:t>Nonlinear dynamics, Psychology, and Life Sciences</a:t>
            </a:r>
            <a:r>
              <a:rPr b="1" i="1" lang="en-US" sz="16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r>
              <a:rPr b="1" i="1" lang="en-US" sz="1600" spc="-1" strike="noStrike" u="sng">
                <a:solidFill>
                  <a:srgbClr val="3333cc"/>
                </a:solidFill>
                <a:uFillTx/>
                <a:latin typeface="Tahoma"/>
              </a:rPr>
              <a:t>4</a:t>
            </a:r>
            <a:r>
              <a:rPr b="1" i="1" lang="en-US" sz="1600" spc="-1" strike="noStrike" u="sng">
                <a:solidFill>
                  <a:srgbClr val="3333cc"/>
                </a:solidFill>
                <a:uFillTx/>
                <a:latin typeface="Tahoma"/>
              </a:rPr>
              <a:t>(3): 255-273</a:t>
            </a:r>
            <a:endParaRPr b="1" i="1" lang="en-US" sz="16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Courier New"/>
              </a:rPr>
              <a:t>http://home.dei.polimi.it/casagran</a:t>
            </a:r>
            <a:endParaRPr b="1" i="1" lang="en-US" sz="16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2739960"/>
            <a:ext cx="8136000" cy="1266480"/>
            <a:chOff x="539640" y="2739960"/>
            <a:chExt cx="8136000" cy="1266480"/>
          </a:xfrm>
        </p:grpSpPr>
        <p:sp>
          <p:nvSpPr>
            <p:cNvPr id="54" name=""/>
            <p:cNvSpPr/>
            <p:nvPr/>
          </p:nvSpPr>
          <p:spPr>
            <a:xfrm>
              <a:off x="609480" y="2739960"/>
              <a:ext cx="418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2400" spc="-1" strike="noStrike" u="sng">
                  <a:solidFill>
                    <a:srgbClr val="3399ff"/>
                  </a:solidFill>
                  <a:uFillTx/>
                  <a:latin typeface="Tahoma"/>
                </a:rPr>
                <a:t>Outline</a:t>
              </a:r>
              <a:endParaRPr b="1" i="1" lang="en-US" sz="24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9640" y="3363840"/>
              <a:ext cx="813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3333cc"/>
                </a:buClr>
                <a:buFont typeface="Tahoma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 </a:t>
              </a: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The genesis of the present study and 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  <a:p>
              <a:pPr lvl="4" marL="1828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  <a:ea typeface="Droid Sans Fallback"/>
                </a:rPr>
                <a:t>what we do mean by creative professions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539640" y="4314960"/>
            <a:ext cx="81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Empirical evidence: what the data tell us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499104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A minimal model (its spirit and 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  <a:ea typeface="Droid Sans Fallback"/>
              </a:rPr>
              <a:t>	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  <a:ea typeface="Droid Sans Fallback"/>
              </a:rPr>
              <a:t>the assumed functional forms)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5942160"/>
            <a:ext cx="81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Key model outcomes and further developments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00720" y="2205000"/>
            <a:ext cx="1869840" cy="2057400"/>
            <a:chOff x="4500720" y="2205000"/>
            <a:chExt cx="1869840" cy="2057400"/>
          </a:xfrm>
        </p:grpSpPr>
        <p:sp>
          <p:nvSpPr>
            <p:cNvPr id="60" name=""/>
            <p:cNvSpPr/>
            <p:nvPr/>
          </p:nvSpPr>
          <p:spPr>
            <a:xfrm>
              <a:off x="5292720" y="2205000"/>
              <a:ext cx="1077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9600" spc="-1" strike="noStrike" u="sng">
                  <a:solidFill>
                    <a:srgbClr val="ff0000"/>
                  </a:solidFill>
                  <a:uFillTx/>
                  <a:latin typeface="Tahoma"/>
                </a:rPr>
                <a:t>?</a:t>
              </a:r>
              <a:endParaRPr b="1" i="1" lang="en-US" sz="96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00720" y="3440160"/>
              <a:ext cx="1041120" cy="822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The minimal model</a:t>
            </a:r>
            <a:endParaRPr b="1" i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1197000"/>
            <a:ext cx="79866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imes New Roman"/>
              </a:rPr>
              <a:t>S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imes New Roman"/>
              </a:rPr>
              <a:t>(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imes New Roman"/>
              </a:rPr>
              <a:t>t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imes New Roman"/>
              </a:rPr>
              <a:t>)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</a:rPr>
              <a:t>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= 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</a:rPr>
              <a:t>satisfaction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= self-esteem originated by the results obtained in the past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imes New Roman"/>
              </a:rPr>
              <a:t>C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imes New Roman"/>
              </a:rPr>
              <a:t>(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imes New Roman"/>
              </a:rPr>
              <a:t>t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imes New Roman"/>
              </a:rPr>
              <a:t>)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=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</a:rPr>
              <a:t> creativity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=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</a:rPr>
              <a:t>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fluency in identifying new ideas and directions of research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514800" y="83808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000" spc="-1" strike="noStrike" u="sng">
                <a:solidFill>
                  <a:srgbClr val="3399ff"/>
                </a:solidFill>
                <a:uFillTx/>
                <a:latin typeface="Tahoma"/>
              </a:rPr>
              <a:t>Two variables</a:t>
            </a:r>
            <a:endParaRPr b="1" i="1" lang="en-US" sz="2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71000" y="3573360"/>
            <a:ext cx="8811000" cy="3170160"/>
            <a:chOff x="171000" y="3573360"/>
            <a:chExt cx="8811000" cy="3170160"/>
          </a:xfrm>
        </p:grpSpPr>
        <p:sp>
          <p:nvSpPr>
            <p:cNvPr id="309" name=""/>
            <p:cNvSpPr/>
            <p:nvPr/>
          </p:nvSpPr>
          <p:spPr>
            <a:xfrm>
              <a:off x="682200" y="3573360"/>
              <a:ext cx="24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2000" spc="-1" strike="noStrike" u="sng">
                  <a:solidFill>
                    <a:srgbClr val="3399ff"/>
                  </a:solidFill>
                  <a:uFillTx/>
                  <a:latin typeface="Tahoma"/>
                </a:rPr>
                <a:t>The oblivion terms</a:t>
              </a:r>
              <a:endParaRPr b="1" i="1" lang="en-US" sz="20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graphicFrame>
          <p:nvGraphicFramePr>
            <p:cNvPr id="310" name=""/>
            <p:cNvGraphicFramePr/>
            <p:nvPr/>
          </p:nvGraphicFramePr>
          <p:xfrm>
            <a:off x="3132000" y="5300640"/>
            <a:ext cx="5850000" cy="984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32000" y="5300640"/>
                      <a:ext cx="5850000" cy="98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2" name=""/>
            <p:cNvGrpSpPr/>
            <p:nvPr/>
          </p:nvGrpSpPr>
          <p:grpSpPr>
            <a:xfrm>
              <a:off x="171000" y="4151160"/>
              <a:ext cx="2808720" cy="2592360"/>
              <a:chOff x="171000" y="4151160"/>
              <a:chExt cx="2808720" cy="259236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171000" y="4151160"/>
                <a:ext cx="2808720" cy="2213280"/>
                <a:chOff x="171000" y="4151160"/>
                <a:chExt cx="2808720" cy="2213280"/>
              </a:xfrm>
            </p:grpSpPr>
            <p:sp>
              <p:nvSpPr>
                <p:cNvPr id="314" name=""/>
                <p:cNvSpPr/>
                <p:nvPr/>
              </p:nvSpPr>
              <p:spPr>
                <a:xfrm flipV="1">
                  <a:off x="1011240" y="4151160"/>
                  <a:ext cx="0" cy="19656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grpSp>
              <p:nvGrpSpPr>
                <p:cNvPr id="315" name=""/>
                <p:cNvGrpSpPr/>
                <p:nvPr/>
              </p:nvGrpSpPr>
              <p:grpSpPr>
                <a:xfrm>
                  <a:off x="171000" y="4250880"/>
                  <a:ext cx="2808720" cy="2113560"/>
                  <a:chOff x="171000" y="4250880"/>
                  <a:chExt cx="2808720" cy="211356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1011240" y="6117840"/>
                    <a:ext cx="1968480" cy="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i="1" lang="en-US" sz="1200" spc="-1" strike="noStrike" u="sng">
                      <a:solidFill>
                        <a:srgbClr val="3333cc"/>
                      </a:solidFill>
                      <a:uFillTx/>
                      <a:latin typeface="Tahoma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1011240" y="6117840"/>
                    <a:ext cx="0" cy="15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1" i="1" lang="en-US" sz="1200" spc="-1" strike="noStrike" u="sng">
                      <a:solidFill>
                        <a:srgbClr val="3333cc"/>
                      </a:solidFill>
                      <a:uFillTx/>
                      <a:latin typeface="Tahoma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920160" y="6150960"/>
                    <a:ext cx="907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i="1" lang="it-IT" sz="1400" spc="-1" strike="noStrike" u="sng">
                        <a:solidFill>
                          <a:srgbClr val="000099"/>
                        </a:solidFill>
                        <a:uFillTx/>
                        <a:latin typeface="Times New Roman"/>
                      </a:rPr>
                      <a:t>0</a:t>
                    </a:r>
                    <a:endParaRPr b="1" i="1" lang="en-US" sz="1400" spc="-1" strike="noStrike" u="sng">
                      <a:solidFill>
                        <a:srgbClr val="3333cc"/>
                      </a:solidFill>
                      <a:uFillTx/>
                      <a:latin typeface="Tahoma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1339920" y="6117840"/>
                    <a:ext cx="0" cy="15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1" i="1" lang="en-US" sz="1200" spc="-1" strike="noStrike" u="sng">
                      <a:solidFill>
                        <a:srgbClr val="3333cc"/>
                      </a:solidFill>
                      <a:uFillTx/>
                      <a:latin typeface="Tahoma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1237320" y="6150960"/>
                    <a:ext cx="23076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i="1" lang="it-IT" sz="1400" spc="-1" strike="noStrike" u="sng">
                        <a:solidFill>
                          <a:srgbClr val="008000"/>
                        </a:solidFill>
                        <a:uFillTx/>
                        <a:latin typeface="Times New Roman"/>
                      </a:rPr>
                      <a:t>1/</a:t>
                    </a:r>
                    <a:r>
                      <a:rPr b="1" i="1" lang="it-IT" sz="1400" spc="-1" strike="noStrike" u="sng">
                        <a:solidFill>
                          <a:srgbClr val="008000"/>
                        </a:solidFill>
                        <a:uFillTx/>
                        <a:latin typeface="Times New Roman"/>
                      </a:rPr>
                      <a:t>b</a:t>
                    </a:r>
                    <a:endParaRPr b="1" i="1" lang="en-US" sz="1400" spc="-1" strike="noStrike" u="sng">
                      <a:solidFill>
                        <a:srgbClr val="3333cc"/>
                      </a:solidFill>
                      <a:uFillTx/>
                      <a:latin typeface="Tahoma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1666800" y="6117840"/>
                    <a:ext cx="0" cy="15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1" i="1" lang="en-US" sz="1200" spc="-1" strike="noStrike" u="sng">
                      <a:solidFill>
                        <a:srgbClr val="3333cc"/>
                      </a:solidFill>
                      <a:uFillTx/>
                      <a:latin typeface="Tahoma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1011240" y="4330080"/>
                    <a:ext cx="1968480" cy="169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41" h="1068">
                        <a:moveTo>
                          <a:pt x="0" y="0"/>
                        </a:moveTo>
                        <a:lnTo>
                          <a:pt x="40" y="109"/>
                        </a:lnTo>
                        <a:lnTo>
                          <a:pt x="83" y="210"/>
                        </a:lnTo>
                        <a:lnTo>
                          <a:pt x="127" y="301"/>
                        </a:lnTo>
                        <a:lnTo>
                          <a:pt x="170" y="380"/>
                        </a:lnTo>
                        <a:lnTo>
                          <a:pt x="210" y="453"/>
                        </a:lnTo>
                        <a:lnTo>
                          <a:pt x="254" y="518"/>
                        </a:lnTo>
                        <a:lnTo>
                          <a:pt x="297" y="580"/>
                        </a:lnTo>
                        <a:lnTo>
                          <a:pt x="341" y="634"/>
                        </a:lnTo>
                        <a:lnTo>
                          <a:pt x="384" y="681"/>
                        </a:lnTo>
                        <a:lnTo>
                          <a:pt x="424" y="724"/>
                        </a:lnTo>
                        <a:lnTo>
                          <a:pt x="468" y="764"/>
                        </a:lnTo>
                        <a:lnTo>
                          <a:pt x="511" y="800"/>
                        </a:lnTo>
                        <a:lnTo>
                          <a:pt x="555" y="829"/>
                        </a:lnTo>
                        <a:lnTo>
                          <a:pt x="599" y="858"/>
                        </a:lnTo>
                        <a:lnTo>
                          <a:pt x="638" y="887"/>
                        </a:lnTo>
                        <a:lnTo>
                          <a:pt x="682" y="909"/>
                        </a:lnTo>
                        <a:lnTo>
                          <a:pt x="726" y="931"/>
                        </a:lnTo>
                        <a:lnTo>
                          <a:pt x="769" y="949"/>
                        </a:lnTo>
                        <a:lnTo>
                          <a:pt x="813" y="967"/>
                        </a:lnTo>
                        <a:lnTo>
                          <a:pt x="853" y="982"/>
                        </a:lnTo>
                        <a:lnTo>
                          <a:pt x="896" y="996"/>
                        </a:lnTo>
                        <a:lnTo>
                          <a:pt x="940" y="1011"/>
                        </a:lnTo>
                        <a:lnTo>
                          <a:pt x="983" y="1021"/>
                        </a:lnTo>
                        <a:lnTo>
                          <a:pt x="1027" y="1032"/>
                        </a:lnTo>
                        <a:lnTo>
                          <a:pt x="1067" y="1040"/>
                        </a:lnTo>
                        <a:lnTo>
                          <a:pt x="1110" y="1047"/>
                        </a:lnTo>
                        <a:lnTo>
                          <a:pt x="1154" y="1054"/>
                        </a:lnTo>
                        <a:lnTo>
                          <a:pt x="1197" y="1061"/>
                        </a:lnTo>
                        <a:lnTo>
                          <a:pt x="1241" y="1068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1200" spc="-1" strike="noStrike" u="sng">
                      <a:solidFill>
                        <a:srgbClr val="3333cc"/>
                      </a:solidFill>
                      <a:uFillTx/>
                      <a:latin typeface="Tahoma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1011240" y="4330080"/>
                    <a:ext cx="1968480" cy="178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41" h="1123">
                        <a:moveTo>
                          <a:pt x="0" y="0"/>
                        </a:moveTo>
                        <a:lnTo>
                          <a:pt x="40" y="210"/>
                        </a:lnTo>
                        <a:lnTo>
                          <a:pt x="83" y="380"/>
                        </a:lnTo>
                        <a:lnTo>
                          <a:pt x="127" y="518"/>
                        </a:lnTo>
                        <a:lnTo>
                          <a:pt x="170" y="634"/>
                        </a:lnTo>
                        <a:lnTo>
                          <a:pt x="210" y="724"/>
                        </a:lnTo>
                        <a:lnTo>
                          <a:pt x="254" y="800"/>
                        </a:lnTo>
                        <a:lnTo>
                          <a:pt x="297" y="858"/>
                        </a:lnTo>
                        <a:lnTo>
                          <a:pt x="341" y="909"/>
                        </a:lnTo>
                        <a:lnTo>
                          <a:pt x="384" y="949"/>
                        </a:lnTo>
                        <a:lnTo>
                          <a:pt x="424" y="982"/>
                        </a:lnTo>
                        <a:lnTo>
                          <a:pt x="468" y="1011"/>
                        </a:lnTo>
                        <a:lnTo>
                          <a:pt x="511" y="1032"/>
                        </a:lnTo>
                        <a:lnTo>
                          <a:pt x="555" y="1047"/>
                        </a:lnTo>
                        <a:lnTo>
                          <a:pt x="599" y="1061"/>
                        </a:lnTo>
                        <a:lnTo>
                          <a:pt x="638" y="1076"/>
                        </a:lnTo>
                        <a:lnTo>
                          <a:pt x="682" y="1083"/>
                        </a:lnTo>
                        <a:lnTo>
                          <a:pt x="726" y="1090"/>
                        </a:lnTo>
                        <a:lnTo>
                          <a:pt x="769" y="1097"/>
                        </a:lnTo>
                        <a:lnTo>
                          <a:pt x="813" y="1101"/>
                        </a:lnTo>
                        <a:lnTo>
                          <a:pt x="853" y="1108"/>
                        </a:lnTo>
                        <a:lnTo>
                          <a:pt x="896" y="1108"/>
                        </a:lnTo>
                        <a:lnTo>
                          <a:pt x="940" y="1112"/>
                        </a:lnTo>
                        <a:lnTo>
                          <a:pt x="983" y="1116"/>
                        </a:lnTo>
                        <a:lnTo>
                          <a:pt x="1027" y="1116"/>
                        </a:lnTo>
                        <a:lnTo>
                          <a:pt x="1067" y="1119"/>
                        </a:lnTo>
                        <a:lnTo>
                          <a:pt x="1110" y="1119"/>
                        </a:lnTo>
                        <a:lnTo>
                          <a:pt x="1154" y="1119"/>
                        </a:lnTo>
                        <a:lnTo>
                          <a:pt x="1197" y="1123"/>
                        </a:lnTo>
                        <a:lnTo>
                          <a:pt x="1241" y="1123"/>
                        </a:lnTo>
                      </a:path>
                    </a:pathLst>
                  </a:custGeom>
                  <a:noFill/>
                  <a:ln w="2844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1200" spc="-1" strike="noStrike" u="sng">
                      <a:solidFill>
                        <a:srgbClr val="3333cc"/>
                      </a:solidFill>
                      <a:uFillTx/>
                      <a:latin typeface="Tahoma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1011240" y="4406400"/>
                    <a:ext cx="328680" cy="173196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i="1" lang="en-US" sz="1200" spc="-1" strike="noStrike" u="sng">
                      <a:solidFill>
                        <a:srgbClr val="3333cc"/>
                      </a:solidFill>
                      <a:uFillTx/>
                      <a:latin typeface="Tahoma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998640" y="4355640"/>
                    <a:ext cx="684000" cy="175104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i="1" lang="en-US" sz="1200" spc="-1" strike="noStrike" u="sng">
                      <a:solidFill>
                        <a:srgbClr val="3333cc"/>
                      </a:solidFill>
                      <a:uFillTx/>
                      <a:latin typeface="Tahoma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1618200" y="6150960"/>
                    <a:ext cx="23076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i="1" lang="it-IT" sz="1400" spc="-1" strike="noStrike" u="sng">
                        <a:solidFill>
                          <a:srgbClr val="ff0000"/>
                        </a:solidFill>
                        <a:uFillTx/>
                        <a:latin typeface="Times New Roman"/>
                      </a:rPr>
                      <a:t>1/</a:t>
                    </a:r>
                    <a:r>
                      <a:rPr b="1" i="1" lang="it-IT" sz="1400" spc="-1" strike="noStrike" u="sng">
                        <a:solidFill>
                          <a:srgbClr val="ff0000"/>
                        </a:solidFill>
                        <a:uFillTx/>
                        <a:latin typeface="Times New Roman"/>
                      </a:rPr>
                      <a:t>a</a:t>
                    </a:r>
                    <a:endParaRPr b="1" i="1" lang="en-US" sz="1400" spc="-1" strike="noStrike" u="sng">
                      <a:solidFill>
                        <a:srgbClr val="3333cc"/>
                      </a:solidFill>
                      <a:uFillTx/>
                      <a:latin typeface="Tahoma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171000" y="4250880"/>
                    <a:ext cx="7246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i="1" lang="it-IT" sz="1400" spc="-1" strike="noStrike" u="sng">
                        <a:solidFill>
                          <a:srgbClr val="ff0000"/>
                        </a:solidFill>
                        <a:uFillTx/>
                        <a:latin typeface="Times New Roman"/>
                      </a:rPr>
                      <a:t>S</a:t>
                    </a:r>
                    <a:r>
                      <a:rPr b="1" i="1" lang="it-IT" sz="1400" spc="-1" strike="noStrike" u="sng">
                        <a:solidFill>
                          <a:srgbClr val="ff0000"/>
                        </a:solidFill>
                        <a:uFillTx/>
                        <a:latin typeface="Times New Roman"/>
                      </a:rPr>
                      <a:t>(0)</a:t>
                    </a:r>
                    <a:r>
                      <a:rPr b="1" i="1" lang="it-IT" sz="1400" spc="-1" strike="noStrike" u="sng">
                        <a:solidFill>
                          <a:srgbClr val="000099"/>
                        </a:solidFill>
                        <a:uFillTx/>
                        <a:latin typeface="Times New Roman"/>
                      </a:rPr>
                      <a:t>,</a:t>
                    </a:r>
                    <a:r>
                      <a:rPr b="1" i="1" lang="it-IT" sz="1400" spc="-1" strike="noStrike" u="sng">
                        <a:solidFill>
                          <a:srgbClr val="ff0000"/>
                        </a:solidFill>
                        <a:uFillTx/>
                        <a:latin typeface="Times New Roman"/>
                      </a:rPr>
                      <a:t> </a:t>
                    </a:r>
                    <a:r>
                      <a:rPr b="1" i="1" lang="it-IT" sz="1400" spc="-1" strike="noStrike" u="sng">
                        <a:solidFill>
                          <a:srgbClr val="008000"/>
                        </a:solidFill>
                        <a:uFillTx/>
                        <a:latin typeface="Times New Roman"/>
                      </a:rPr>
                      <a:t>C</a:t>
                    </a:r>
                    <a:r>
                      <a:rPr b="1" i="1" lang="it-IT" sz="1400" spc="-1" strike="noStrike" u="sng">
                        <a:solidFill>
                          <a:srgbClr val="008000"/>
                        </a:solidFill>
                        <a:uFillTx/>
                        <a:latin typeface="Times New Roman"/>
                      </a:rPr>
                      <a:t>(0)</a:t>
                    </a:r>
                    <a:endParaRPr b="1" i="1" lang="en-US" sz="1400" spc="-1" strike="noStrike" u="sng">
                      <a:solidFill>
                        <a:srgbClr val="3333cc"/>
                      </a:solidFill>
                      <a:uFillTx/>
                      <a:latin typeface="Tahoma"/>
                    </a:endParaRPr>
                  </a:p>
                </p:txBody>
              </p:sp>
            </p:grpSp>
          </p:grpSp>
          <p:sp>
            <p:nvSpPr>
              <p:cNvPr id="328" name=""/>
              <p:cNvSpPr/>
              <p:nvPr/>
            </p:nvSpPr>
            <p:spPr>
              <a:xfrm>
                <a:off x="1598760" y="6375240"/>
                <a:ext cx="67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8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time</a:t>
                </a:r>
                <a:endPara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737000" y="4221000"/>
              <a:ext cx="534564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Quantities 1/</a:t>
              </a: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a</a:t>
              </a: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 and 1/</a:t>
              </a: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b</a:t>
              </a: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 are assumed to be</a:t>
              </a:r>
              <a:br>
                <a:rPr sz="1800"/>
              </a:b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	</a:t>
              </a:r>
              <a:r>
                <a:rPr b="1" i="1" lang="en-US" sz="1800" spc="-1" strike="noStrike" u="sng">
                  <a:solidFill>
                    <a:srgbClr val="3399ff"/>
                  </a:solidFill>
                  <a:uFillTx/>
                  <a:latin typeface="Tahoma"/>
                </a:rPr>
                <a:t>constant through time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           </a:t>
              </a: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	</a:t>
              </a: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(in simulations below </a:t>
              </a: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we use </a:t>
              </a: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a</a:t>
              </a: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=1 e </a:t>
              </a: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b</a:t>
              </a: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=2)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85800" y="1930320"/>
            <a:ext cx="8411040" cy="2576520"/>
            <a:chOff x="685800" y="1930320"/>
            <a:chExt cx="8411040" cy="2576520"/>
          </a:xfrm>
        </p:grpSpPr>
        <p:sp>
          <p:nvSpPr>
            <p:cNvPr id="331" name=""/>
            <p:cNvSpPr/>
            <p:nvPr/>
          </p:nvSpPr>
          <p:spPr>
            <a:xfrm>
              <a:off x="685800" y="2057400"/>
              <a:ext cx="77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The dynamics in each compartment can be described in </a:t>
              </a:r>
              <a:br>
                <a:rPr sz="1800"/>
              </a:b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terms of an </a:t>
              </a:r>
              <a:r>
                <a:rPr b="1" i="1" lang="en-US" sz="1800" spc="-1" strike="noStrike" u="sng">
                  <a:solidFill>
                    <a:srgbClr val="3399ff"/>
                  </a:solidFill>
                  <a:uFillTx/>
                  <a:latin typeface="Tahoma"/>
                </a:rPr>
                <a:t>oblivion</a:t>
              </a:r>
              <a:r>
                <a:rPr b="1" i="1" lang="en-US" sz="1800" spc="-1" strike="noStrike" u="sng">
                  <a:solidFill>
                    <a:srgbClr val="3399ff"/>
                  </a:solidFill>
                  <a:uFillTx/>
                  <a:latin typeface="Times New Roman"/>
                </a:rPr>
                <a:t> </a:t>
              </a: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(</a:t>
              </a: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</a:t>
              </a: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) and a </a:t>
              </a:r>
              <a:r>
                <a:rPr b="1" i="1" lang="en-US" sz="1800" spc="-1" strike="noStrike" u="sng">
                  <a:solidFill>
                    <a:srgbClr val="3399ff"/>
                  </a:solidFill>
                  <a:uFillTx/>
                  <a:latin typeface="Tahoma"/>
                </a:rPr>
                <a:t>recovery </a:t>
              </a: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(</a:t>
              </a: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R</a:t>
              </a: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) term, </a:t>
              </a:r>
              <a:br>
                <a:rPr sz="1800"/>
              </a:b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pretty much like in the cask at right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4572000" y="1930320"/>
              <a:ext cx="4524840" cy="2576520"/>
              <a:chOff x="4572000" y="1930320"/>
              <a:chExt cx="4524840" cy="2576520"/>
            </a:xfrm>
          </p:grpSpPr>
          <p:graphicFrame>
            <p:nvGraphicFramePr>
              <p:cNvPr id="333" name=""/>
              <p:cNvGraphicFramePr/>
              <p:nvPr/>
            </p:nvGraphicFramePr>
            <p:xfrm>
              <a:off x="4572000" y="2852640"/>
              <a:ext cx="1784520" cy="938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3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572000" y="2852640"/>
                        <a:ext cx="1784520" cy="938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335" name=""/>
              <p:cNvGrpSpPr/>
              <p:nvPr/>
            </p:nvGrpSpPr>
            <p:grpSpPr>
              <a:xfrm>
                <a:off x="6654600" y="1930320"/>
                <a:ext cx="2442240" cy="2576520"/>
                <a:chOff x="6654600" y="1930320"/>
                <a:chExt cx="2442240" cy="2576520"/>
              </a:xfrm>
            </p:grpSpPr>
            <p:graphicFrame>
              <p:nvGraphicFramePr>
                <p:cNvPr id="336" name=""/>
                <p:cNvGraphicFramePr/>
                <p:nvPr/>
              </p:nvGraphicFramePr>
              <p:xfrm>
                <a:off x="6837480" y="1930320"/>
                <a:ext cx="2124000" cy="25765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337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6837480" y="1930320"/>
                          <a:ext cx="2124000" cy="2576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38" name=""/>
                <p:cNvSpPr/>
                <p:nvPr/>
              </p:nvSpPr>
              <p:spPr>
                <a:xfrm>
                  <a:off x="7189560" y="3127320"/>
                  <a:ext cx="11880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en-US" sz="1400" spc="-1" strike="noStrike" u="sng">
                      <a:solidFill>
                        <a:srgbClr val="ffff00"/>
                      </a:solidFill>
                      <a:uFillTx/>
                      <a:latin typeface="Tahoma"/>
                    </a:rPr>
                    <a:t>Satisfaction</a:t>
                  </a:r>
                  <a:br>
                    <a:rPr sz="1400"/>
                  </a:br>
                  <a:r>
                    <a:rPr b="1" i="1" lang="en-US" sz="1400" spc="-1" strike="noStrike" u="sng">
                      <a:solidFill>
                        <a:srgbClr val="ffff00"/>
                      </a:solidFill>
                      <a:uFillTx/>
                      <a:latin typeface="Tahoma"/>
                    </a:rPr>
                    <a:t>level</a:t>
                  </a:r>
                  <a:endParaRPr b="1" i="1" lang="en-US" sz="14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023240" y="3471840"/>
                  <a:ext cx="1490400" cy="196920"/>
                </a:xfrm>
                <a:custGeom>
                  <a:avLst/>
                  <a:gdLst/>
                  <a:ahLst/>
                  <a:rect l="l" t="t" r="r" b="b"/>
                  <a:pathLst>
                    <a:path w="912" h="153">
                      <a:moveTo>
                        <a:pt x="0" y="0"/>
                      </a:moveTo>
                      <a:cubicBezTo>
                        <a:pt x="24" y="15"/>
                        <a:pt x="88" y="68"/>
                        <a:pt x="144" y="92"/>
                      </a:cubicBezTo>
                      <a:cubicBezTo>
                        <a:pt x="200" y="116"/>
                        <a:pt x="264" y="135"/>
                        <a:pt x="336" y="144"/>
                      </a:cubicBezTo>
                      <a:cubicBezTo>
                        <a:pt x="408" y="153"/>
                        <a:pt x="496" y="152"/>
                        <a:pt x="576" y="144"/>
                      </a:cubicBezTo>
                      <a:cubicBezTo>
                        <a:pt x="656" y="136"/>
                        <a:pt x="760" y="112"/>
                        <a:pt x="816" y="96"/>
                      </a:cubicBezTo>
                      <a:cubicBezTo>
                        <a:pt x="872" y="80"/>
                        <a:pt x="896" y="56"/>
                        <a:pt x="912" y="48"/>
                      </a:cubicBezTo>
                    </a:path>
                  </a:pathLst>
                </a:custGeom>
                <a:noFill/>
                <a:ln w="381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8678520" y="371628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en-US" sz="1800" spc="-1" strike="noStrike" u="sng">
                      <a:solidFill>
                        <a:srgbClr val="3333cc"/>
                      </a:solidFill>
                      <a:uFillTx/>
                      <a:latin typeface="Times New Roman"/>
                    </a:rPr>
                    <a:t>O</a:t>
                  </a:r>
                  <a:r>
                    <a:rPr b="1" i="1" lang="en-US" sz="1800" spc="-1" strike="noStrike" u="sng" baseline="-25000">
                      <a:solidFill>
                        <a:srgbClr val="3333cc"/>
                      </a:solidFill>
                      <a:uFillTx/>
                      <a:latin typeface="Times New Roman"/>
                    </a:rPr>
                    <a:t>S</a:t>
                  </a:r>
                  <a:endParaRPr b="1" i="1" lang="en-US" sz="18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808400" y="2205000"/>
                  <a:ext cx="4060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en-US" sz="1800" spc="-1" strike="noStrike" u="sng">
                      <a:solidFill>
                        <a:srgbClr val="3333cc"/>
                      </a:solidFill>
                      <a:uFillTx/>
                      <a:latin typeface="Times New Roman"/>
                    </a:rPr>
                    <a:t>R</a:t>
                  </a:r>
                  <a:r>
                    <a:rPr b="1" i="1" lang="en-US" sz="1800" spc="-1" strike="noStrike" u="sng" baseline="-25000">
                      <a:solidFill>
                        <a:srgbClr val="3333cc"/>
                      </a:solidFill>
                      <a:uFillTx/>
                      <a:latin typeface="Times New Roman"/>
                    </a:rPr>
                    <a:t>S</a:t>
                  </a:r>
                  <a:endParaRPr b="1" i="1" lang="en-US" sz="18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grpSp>
              <p:nvGrpSpPr>
                <p:cNvPr id="342" name=""/>
                <p:cNvGrpSpPr/>
                <p:nvPr/>
              </p:nvGrpSpPr>
              <p:grpSpPr>
                <a:xfrm>
                  <a:off x="6654600" y="3213000"/>
                  <a:ext cx="307080" cy="368280"/>
                  <a:chOff x="6654600" y="3213000"/>
                  <a:chExt cx="307080" cy="36828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>
                    <a:off x="6654600" y="321300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i="1" lang="en-US" sz="1800" spc="-1" strike="noStrike" u="sng">
                        <a:solidFill>
                          <a:srgbClr val="3333cc"/>
                        </a:solidFill>
                        <a:uFillTx/>
                        <a:latin typeface="Times New Roman"/>
                      </a:rPr>
                      <a:t>S</a:t>
                    </a:r>
                    <a:endParaRPr b="1" i="1" lang="en-US" sz="1800" spc="-1" strike="noStrike" u="sng">
                      <a:solidFill>
                        <a:srgbClr val="3333cc"/>
                      </a:solidFill>
                      <a:uFillTx/>
                      <a:latin typeface="Tahoma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6750000" y="3270240"/>
                    <a:ext cx="142920" cy="0"/>
                  </a:xfrm>
                  <a:prstGeom prst="line">
                    <a:avLst/>
                  </a:prstGeom>
                  <a:ln w="1908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i="1" lang="en-US" sz="1200" spc="-1" strike="noStrike" u="sng">
                      <a:solidFill>
                        <a:srgbClr val="3333cc"/>
                      </a:solidFill>
                      <a:uFillTx/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345" name=""/>
          <p:cNvSpPr/>
          <p:nvPr/>
        </p:nvSpPr>
        <p:spPr>
          <a:xfrm>
            <a:off x="7380360" y="6308640"/>
            <a:ext cx="1584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 fill="hold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533520" y="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The recovery of self-esteem or </a:t>
            </a:r>
            <a:r>
              <a:rPr b="1" i="1" lang="en-US" sz="2800" spc="-1" strike="noStrike" u="sng">
                <a:solidFill>
                  <a:srgbClr val="3399ff"/>
                </a:solidFill>
                <a:uFillTx/>
                <a:latin typeface="Tahoma"/>
              </a:rPr>
              <a:t>production rate</a:t>
            </a:r>
            <a:endParaRPr b="1" i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762120" y="1817640"/>
            <a:ext cx="7086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imes New Roman"/>
              </a:rPr>
              <a:t> 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imes New Roman"/>
              </a:rPr>
              <a:t>e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</a:rPr>
              <a:t>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= 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</a:rPr>
              <a:t>effort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= fraction of time devoted to work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000" spc="-1" strike="noStrike" u="sng">
                <a:solidFill>
                  <a:srgbClr val="3399ff"/>
                </a:solidFill>
                <a:uFillTx/>
                <a:latin typeface="Symbol"/>
                <a:ea typeface="Symbol"/>
              </a:rPr>
              <a:t></a:t>
            </a:r>
            <a:r>
              <a:rPr b="1" i="1" lang="en-US" sz="1800" spc="-1" strike="noStrike" u="sng" baseline="-25000">
                <a:solidFill>
                  <a:srgbClr val="3399ff"/>
                </a:solidFill>
                <a:uFillTx/>
                <a:latin typeface="Times New Roman"/>
              </a:rPr>
              <a:t>c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=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</a:rPr>
              <a:t> conception time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(for a unit of creative work) =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</a:rPr>
              <a:t> 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imes New Roman"/>
              </a:rPr>
              <a:t>1/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imes New Roman"/>
              </a:rPr>
              <a:t>kC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000" spc="-1" strike="noStrike" u="sng">
                <a:solidFill>
                  <a:srgbClr val="3399ff"/>
                </a:solidFill>
                <a:uFillTx/>
                <a:latin typeface="Symbol"/>
                <a:ea typeface="Symbol"/>
              </a:rPr>
              <a:t></a:t>
            </a:r>
            <a:r>
              <a:rPr b="1" i="1" lang="en-US" sz="1800" spc="-1" strike="noStrike" u="sng" baseline="-25000">
                <a:solidFill>
                  <a:srgbClr val="3399ff"/>
                </a:solidFill>
                <a:uFillTx/>
                <a:latin typeface="Times New Roman"/>
              </a:rPr>
              <a:t>r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=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</a:rPr>
              <a:t> realization time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(for a unit of creative work)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548160" y="838080"/>
          <a:ext cx="178596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8160" y="838080"/>
                    <a:ext cx="17859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730800" y="31240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000" spc="-1" strike="noStrike" u="sng">
                <a:solidFill>
                  <a:srgbClr val="3399ff"/>
                </a:solidFill>
                <a:uFillTx/>
                <a:latin typeface="Tahoma"/>
              </a:rPr>
              <a:t>Time balance:</a:t>
            </a:r>
            <a:endParaRPr b="1" i="1" lang="en-US" sz="2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4861080" y="853920"/>
            <a:ext cx="457200" cy="457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124080" y="2971800"/>
          <a:ext cx="1974960" cy="7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971800"/>
                    <a:ext cx="197496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4267080" y="3621240"/>
          <a:ext cx="45151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621240"/>
                    <a:ext cx="45151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"/>
          <p:cNvGrpSpPr/>
          <p:nvPr/>
        </p:nvGrpSpPr>
        <p:grpSpPr>
          <a:xfrm>
            <a:off x="493200" y="3519360"/>
            <a:ext cx="3002400" cy="2730600"/>
            <a:chOff x="493200" y="3519360"/>
            <a:chExt cx="3002400" cy="2730600"/>
          </a:xfrm>
        </p:grpSpPr>
        <p:sp>
          <p:nvSpPr>
            <p:cNvPr id="357" name=""/>
            <p:cNvSpPr/>
            <p:nvPr/>
          </p:nvSpPr>
          <p:spPr>
            <a:xfrm>
              <a:off x="866880" y="5851440"/>
              <a:ext cx="2628720" cy="1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866880" y="3746160"/>
              <a:ext cx="0" cy="2104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836640" y="5851440"/>
              <a:ext cx="30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836640" y="4226040"/>
              <a:ext cx="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866880" y="4329000"/>
              <a:ext cx="2628720" cy="1521000"/>
              <a:chOff x="866880" y="4329000"/>
              <a:chExt cx="2628720" cy="1521000"/>
            </a:xfrm>
          </p:grpSpPr>
          <p:sp>
            <p:nvSpPr>
              <p:cNvPr id="362" name=""/>
              <p:cNvSpPr/>
              <p:nvPr/>
            </p:nvSpPr>
            <p:spPr>
              <a:xfrm>
                <a:off x="866880" y="4343400"/>
                <a:ext cx="2219400" cy="1506600"/>
              </a:xfrm>
              <a:custGeom>
                <a:avLst/>
                <a:gdLst/>
                <a:ahLst/>
                <a:rect l="l" t="t" r="r" b="b"/>
                <a:pathLst>
                  <a:path w="787" h="534">
                    <a:moveTo>
                      <a:pt x="0" y="534"/>
                    </a:moveTo>
                    <a:lnTo>
                      <a:pt x="5" y="480"/>
                    </a:lnTo>
                    <a:lnTo>
                      <a:pt x="12" y="438"/>
                    </a:lnTo>
                    <a:lnTo>
                      <a:pt x="17" y="401"/>
                    </a:lnTo>
                    <a:lnTo>
                      <a:pt x="25" y="369"/>
                    </a:lnTo>
                    <a:lnTo>
                      <a:pt x="30" y="342"/>
                    </a:lnTo>
                    <a:lnTo>
                      <a:pt x="37" y="317"/>
                    </a:lnTo>
                    <a:lnTo>
                      <a:pt x="42" y="298"/>
                    </a:lnTo>
                    <a:lnTo>
                      <a:pt x="49" y="278"/>
                    </a:lnTo>
                    <a:lnTo>
                      <a:pt x="54" y="261"/>
                    </a:lnTo>
                    <a:lnTo>
                      <a:pt x="61" y="246"/>
                    </a:lnTo>
                    <a:lnTo>
                      <a:pt x="66" y="231"/>
                    </a:lnTo>
                    <a:lnTo>
                      <a:pt x="74" y="219"/>
                    </a:lnTo>
                    <a:lnTo>
                      <a:pt x="79" y="209"/>
                    </a:lnTo>
                    <a:lnTo>
                      <a:pt x="86" y="199"/>
                    </a:lnTo>
                    <a:lnTo>
                      <a:pt x="91" y="190"/>
                    </a:lnTo>
                    <a:lnTo>
                      <a:pt x="98" y="180"/>
                    </a:lnTo>
                    <a:lnTo>
                      <a:pt x="103" y="172"/>
                    </a:lnTo>
                    <a:lnTo>
                      <a:pt x="111" y="165"/>
                    </a:lnTo>
                    <a:lnTo>
                      <a:pt x="118" y="158"/>
                    </a:lnTo>
                    <a:lnTo>
                      <a:pt x="123" y="150"/>
                    </a:lnTo>
                    <a:lnTo>
                      <a:pt x="130" y="145"/>
                    </a:lnTo>
                    <a:lnTo>
                      <a:pt x="135" y="138"/>
                    </a:lnTo>
                    <a:lnTo>
                      <a:pt x="143" y="133"/>
                    </a:lnTo>
                    <a:lnTo>
                      <a:pt x="148" y="128"/>
                    </a:lnTo>
                    <a:lnTo>
                      <a:pt x="155" y="123"/>
                    </a:lnTo>
                    <a:lnTo>
                      <a:pt x="160" y="118"/>
                    </a:lnTo>
                    <a:lnTo>
                      <a:pt x="167" y="113"/>
                    </a:lnTo>
                    <a:lnTo>
                      <a:pt x="172" y="111"/>
                    </a:lnTo>
                    <a:lnTo>
                      <a:pt x="180" y="106"/>
                    </a:lnTo>
                    <a:lnTo>
                      <a:pt x="184" y="103"/>
                    </a:lnTo>
                    <a:lnTo>
                      <a:pt x="192" y="99"/>
                    </a:lnTo>
                    <a:lnTo>
                      <a:pt x="197" y="96"/>
                    </a:lnTo>
                    <a:lnTo>
                      <a:pt x="204" y="94"/>
                    </a:lnTo>
                    <a:lnTo>
                      <a:pt x="209" y="89"/>
                    </a:lnTo>
                    <a:lnTo>
                      <a:pt x="216" y="86"/>
                    </a:lnTo>
                    <a:lnTo>
                      <a:pt x="221" y="84"/>
                    </a:lnTo>
                    <a:lnTo>
                      <a:pt x="229" y="81"/>
                    </a:lnTo>
                    <a:lnTo>
                      <a:pt x="236" y="79"/>
                    </a:lnTo>
                    <a:lnTo>
                      <a:pt x="241" y="76"/>
                    </a:lnTo>
                    <a:lnTo>
                      <a:pt x="248" y="74"/>
                    </a:lnTo>
                    <a:lnTo>
                      <a:pt x="253" y="71"/>
                    </a:lnTo>
                    <a:lnTo>
                      <a:pt x="261" y="69"/>
                    </a:lnTo>
                    <a:lnTo>
                      <a:pt x="266" y="67"/>
                    </a:lnTo>
                    <a:lnTo>
                      <a:pt x="273" y="67"/>
                    </a:lnTo>
                    <a:lnTo>
                      <a:pt x="278" y="64"/>
                    </a:lnTo>
                    <a:lnTo>
                      <a:pt x="285" y="62"/>
                    </a:lnTo>
                    <a:lnTo>
                      <a:pt x="290" y="59"/>
                    </a:lnTo>
                    <a:lnTo>
                      <a:pt x="298" y="59"/>
                    </a:lnTo>
                    <a:lnTo>
                      <a:pt x="303" y="57"/>
                    </a:lnTo>
                    <a:lnTo>
                      <a:pt x="310" y="54"/>
                    </a:lnTo>
                    <a:lnTo>
                      <a:pt x="315" y="54"/>
                    </a:lnTo>
                    <a:lnTo>
                      <a:pt x="322" y="52"/>
                    </a:lnTo>
                    <a:lnTo>
                      <a:pt x="327" y="49"/>
                    </a:lnTo>
                    <a:lnTo>
                      <a:pt x="335" y="49"/>
                    </a:lnTo>
                    <a:lnTo>
                      <a:pt x="339" y="47"/>
                    </a:lnTo>
                    <a:lnTo>
                      <a:pt x="347" y="47"/>
                    </a:lnTo>
                    <a:lnTo>
                      <a:pt x="354" y="44"/>
                    </a:lnTo>
                    <a:lnTo>
                      <a:pt x="359" y="44"/>
                    </a:lnTo>
                    <a:lnTo>
                      <a:pt x="367" y="42"/>
                    </a:lnTo>
                    <a:lnTo>
                      <a:pt x="371" y="42"/>
                    </a:lnTo>
                    <a:lnTo>
                      <a:pt x="379" y="39"/>
                    </a:lnTo>
                    <a:lnTo>
                      <a:pt x="384" y="39"/>
                    </a:lnTo>
                    <a:lnTo>
                      <a:pt x="391" y="37"/>
                    </a:lnTo>
                    <a:lnTo>
                      <a:pt x="396" y="37"/>
                    </a:lnTo>
                    <a:lnTo>
                      <a:pt x="403" y="37"/>
                    </a:lnTo>
                    <a:lnTo>
                      <a:pt x="408" y="35"/>
                    </a:lnTo>
                    <a:lnTo>
                      <a:pt x="416" y="35"/>
                    </a:lnTo>
                    <a:lnTo>
                      <a:pt x="421" y="32"/>
                    </a:lnTo>
                    <a:lnTo>
                      <a:pt x="428" y="32"/>
                    </a:lnTo>
                    <a:lnTo>
                      <a:pt x="433" y="32"/>
                    </a:lnTo>
                    <a:lnTo>
                      <a:pt x="440" y="30"/>
                    </a:lnTo>
                    <a:lnTo>
                      <a:pt x="445" y="30"/>
                    </a:lnTo>
                    <a:lnTo>
                      <a:pt x="453" y="30"/>
                    </a:lnTo>
                    <a:lnTo>
                      <a:pt x="458" y="27"/>
                    </a:lnTo>
                    <a:lnTo>
                      <a:pt x="465" y="27"/>
                    </a:lnTo>
                    <a:lnTo>
                      <a:pt x="472" y="27"/>
                    </a:lnTo>
                    <a:lnTo>
                      <a:pt x="477" y="25"/>
                    </a:lnTo>
                    <a:lnTo>
                      <a:pt x="485" y="25"/>
                    </a:lnTo>
                    <a:lnTo>
                      <a:pt x="490" y="25"/>
                    </a:lnTo>
                    <a:lnTo>
                      <a:pt x="497" y="22"/>
                    </a:lnTo>
                    <a:lnTo>
                      <a:pt x="502" y="22"/>
                    </a:lnTo>
                    <a:lnTo>
                      <a:pt x="509" y="22"/>
                    </a:lnTo>
                    <a:lnTo>
                      <a:pt x="514" y="20"/>
                    </a:lnTo>
                    <a:lnTo>
                      <a:pt x="522" y="20"/>
                    </a:lnTo>
                    <a:lnTo>
                      <a:pt x="526" y="20"/>
                    </a:lnTo>
                    <a:lnTo>
                      <a:pt x="534" y="20"/>
                    </a:lnTo>
                    <a:lnTo>
                      <a:pt x="539" y="17"/>
                    </a:lnTo>
                    <a:lnTo>
                      <a:pt x="546" y="17"/>
                    </a:lnTo>
                    <a:lnTo>
                      <a:pt x="551" y="17"/>
                    </a:lnTo>
                    <a:lnTo>
                      <a:pt x="558" y="17"/>
                    </a:lnTo>
                    <a:lnTo>
                      <a:pt x="563" y="17"/>
                    </a:lnTo>
                    <a:lnTo>
                      <a:pt x="571" y="15"/>
                    </a:lnTo>
                    <a:lnTo>
                      <a:pt x="576" y="15"/>
                    </a:lnTo>
                    <a:lnTo>
                      <a:pt x="583" y="15"/>
                    </a:lnTo>
                    <a:lnTo>
                      <a:pt x="590" y="15"/>
                    </a:lnTo>
                    <a:lnTo>
                      <a:pt x="595" y="12"/>
                    </a:lnTo>
                    <a:lnTo>
                      <a:pt x="603" y="12"/>
                    </a:lnTo>
                    <a:lnTo>
                      <a:pt x="608" y="12"/>
                    </a:lnTo>
                    <a:lnTo>
                      <a:pt x="615" y="12"/>
                    </a:lnTo>
                    <a:lnTo>
                      <a:pt x="620" y="12"/>
                    </a:lnTo>
                    <a:lnTo>
                      <a:pt x="627" y="10"/>
                    </a:lnTo>
                    <a:lnTo>
                      <a:pt x="632" y="10"/>
                    </a:lnTo>
                    <a:lnTo>
                      <a:pt x="640" y="10"/>
                    </a:lnTo>
                    <a:lnTo>
                      <a:pt x="645" y="10"/>
                    </a:lnTo>
                    <a:lnTo>
                      <a:pt x="652" y="10"/>
                    </a:lnTo>
                    <a:lnTo>
                      <a:pt x="657" y="10"/>
                    </a:lnTo>
                    <a:lnTo>
                      <a:pt x="664" y="7"/>
                    </a:lnTo>
                    <a:lnTo>
                      <a:pt x="669" y="7"/>
                    </a:lnTo>
                    <a:lnTo>
                      <a:pt x="676" y="7"/>
                    </a:lnTo>
                    <a:lnTo>
                      <a:pt x="681" y="7"/>
                    </a:lnTo>
                    <a:lnTo>
                      <a:pt x="689" y="7"/>
                    </a:lnTo>
                    <a:lnTo>
                      <a:pt x="694" y="7"/>
                    </a:lnTo>
                    <a:lnTo>
                      <a:pt x="701" y="5"/>
                    </a:lnTo>
                    <a:lnTo>
                      <a:pt x="708" y="5"/>
                    </a:lnTo>
                    <a:lnTo>
                      <a:pt x="713" y="5"/>
                    </a:lnTo>
                    <a:lnTo>
                      <a:pt x="721" y="5"/>
                    </a:lnTo>
                    <a:lnTo>
                      <a:pt x="726" y="5"/>
                    </a:lnTo>
                    <a:lnTo>
                      <a:pt x="733" y="5"/>
                    </a:lnTo>
                    <a:lnTo>
                      <a:pt x="738" y="3"/>
                    </a:lnTo>
                    <a:lnTo>
                      <a:pt x="745" y="3"/>
                    </a:lnTo>
                    <a:lnTo>
                      <a:pt x="750" y="3"/>
                    </a:lnTo>
                    <a:lnTo>
                      <a:pt x="758" y="3"/>
                    </a:lnTo>
                    <a:lnTo>
                      <a:pt x="763" y="3"/>
                    </a:lnTo>
                    <a:lnTo>
                      <a:pt x="770" y="3"/>
                    </a:lnTo>
                    <a:lnTo>
                      <a:pt x="775" y="3"/>
                    </a:lnTo>
                    <a:lnTo>
                      <a:pt x="782" y="3"/>
                    </a:lnTo>
                    <a:lnTo>
                      <a:pt x="787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087720" y="4329000"/>
                <a:ext cx="407880" cy="12960"/>
              </a:xfrm>
              <a:custGeom>
                <a:avLst/>
                <a:gdLst/>
                <a:ahLst/>
                <a:rect l="l" t="t" r="r" b="b"/>
                <a:pathLst>
                  <a:path w="145" h="5">
                    <a:moveTo>
                      <a:pt x="0" y="5"/>
                    </a:moveTo>
                    <a:lnTo>
                      <a:pt x="8" y="5"/>
                    </a:lnTo>
                    <a:lnTo>
                      <a:pt x="12" y="5"/>
                    </a:lnTo>
                    <a:lnTo>
                      <a:pt x="20" y="5"/>
                    </a:lnTo>
                    <a:lnTo>
                      <a:pt x="25" y="5"/>
                    </a:lnTo>
                    <a:lnTo>
                      <a:pt x="32" y="5"/>
                    </a:lnTo>
                    <a:lnTo>
                      <a:pt x="40" y="5"/>
                    </a:lnTo>
                    <a:lnTo>
                      <a:pt x="44" y="5"/>
                    </a:lnTo>
                    <a:lnTo>
                      <a:pt x="52" y="3"/>
                    </a:lnTo>
                    <a:lnTo>
                      <a:pt x="57" y="3"/>
                    </a:lnTo>
                    <a:lnTo>
                      <a:pt x="64" y="3"/>
                    </a:lnTo>
                    <a:lnTo>
                      <a:pt x="69" y="3"/>
                    </a:lnTo>
                    <a:lnTo>
                      <a:pt x="76" y="3"/>
                    </a:lnTo>
                    <a:lnTo>
                      <a:pt x="81" y="3"/>
                    </a:lnTo>
                    <a:lnTo>
                      <a:pt x="89" y="3"/>
                    </a:lnTo>
                    <a:lnTo>
                      <a:pt x="94" y="3"/>
                    </a:lnTo>
                    <a:lnTo>
                      <a:pt x="101" y="3"/>
                    </a:lnTo>
                    <a:lnTo>
                      <a:pt x="106" y="3"/>
                    </a:lnTo>
                    <a:lnTo>
                      <a:pt x="113" y="0"/>
                    </a:lnTo>
                    <a:lnTo>
                      <a:pt x="118" y="0"/>
                    </a:lnTo>
                    <a:lnTo>
                      <a:pt x="126" y="0"/>
                    </a:lnTo>
                    <a:lnTo>
                      <a:pt x="131" y="0"/>
                    </a:lnTo>
                    <a:lnTo>
                      <a:pt x="138" y="0"/>
                    </a:lnTo>
                    <a:lnTo>
                      <a:pt x="145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866880" y="4226040"/>
              <a:ext cx="26287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33520" y="5881680"/>
              <a:ext cx="175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Creativity (</a:t>
              </a: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</a:t>
              </a: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)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3200" y="3519360"/>
              <a:ext cx="454680" cy="24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Production rate </a:t>
              </a: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 </a:t>
              </a: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(</a:t>
              </a: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</a:t>
              </a: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)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29160" y="3824280"/>
              <a:ext cx="494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it-IT" sz="1800" spc="-1" strike="noStrike" u="sng" baseline="-25000">
                  <a:solidFill>
                    <a:srgbClr val="3333cc"/>
                  </a:solidFill>
                  <a:uFillTx/>
                  <a:latin typeface="Times New Roman"/>
                </a:rPr>
                <a:t>max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1760" y="580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0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589920" y="433404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</a:rPr>
              <a:t>Please note that: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662640" y="4729320"/>
            <a:ext cx="5184360" cy="471240"/>
            <a:chOff x="3662640" y="4729320"/>
            <a:chExt cx="5184360" cy="471240"/>
          </a:xfrm>
        </p:grpSpPr>
        <p:graphicFrame>
          <p:nvGraphicFramePr>
            <p:cNvPr id="371" name=""/>
            <p:cNvGraphicFramePr/>
            <p:nvPr/>
          </p:nvGraphicFramePr>
          <p:xfrm>
            <a:off x="3978360" y="4776840"/>
            <a:ext cx="4868640" cy="423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78360" y="4776840"/>
                      <a:ext cx="486864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3" name=""/>
            <p:cNvSpPr/>
            <p:nvPr/>
          </p:nvSpPr>
          <p:spPr>
            <a:xfrm>
              <a:off x="3662640" y="47293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 u="sng">
                  <a:solidFill>
                    <a:srgbClr val="3399ff"/>
                  </a:solidFill>
                  <a:uFillTx/>
                  <a:latin typeface="Tahoma"/>
                </a:rPr>
                <a:t>1)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662640" y="5172120"/>
            <a:ext cx="5495760" cy="1108080"/>
            <a:chOff x="3662640" y="5172120"/>
            <a:chExt cx="5495760" cy="1108080"/>
          </a:xfrm>
        </p:grpSpPr>
        <p:graphicFrame>
          <p:nvGraphicFramePr>
            <p:cNvPr id="375" name=""/>
            <p:cNvGraphicFramePr/>
            <p:nvPr/>
          </p:nvGraphicFramePr>
          <p:xfrm>
            <a:off x="4475160" y="5519880"/>
            <a:ext cx="3651120" cy="760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75160" y="5519880"/>
                      <a:ext cx="3651120" cy="76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7" name=""/>
            <p:cNvSpPr/>
            <p:nvPr/>
          </p:nvSpPr>
          <p:spPr>
            <a:xfrm>
              <a:off x="3978360" y="5234040"/>
              <a:ext cx="518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600" spc="-1" strike="noStrike" u="sng">
                  <a:solidFill>
                    <a:srgbClr val="3333cc"/>
                  </a:solidFill>
                  <a:uFillTx/>
                  <a:latin typeface="Tahoma"/>
                </a:rPr>
                <a:t>The first model equation, with </a:t>
              </a:r>
              <a:r>
                <a:rPr b="1" i="1" lang="it-IT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S</a:t>
              </a:r>
              <a:r>
                <a:rPr b="1" i="1" lang="it-IT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(0) = 0</a:t>
              </a:r>
              <a:r>
                <a:rPr b="1" i="1" lang="it-IT" sz="1600" spc="-1" strike="noStrike" u="sng">
                  <a:solidFill>
                    <a:srgbClr val="3333cc"/>
                  </a:solidFill>
                  <a:uFillTx/>
                  <a:latin typeface="Tahoma"/>
                </a:rPr>
                <a:t> reads as</a:t>
              </a:r>
              <a:endParaRPr b="1" i="1" lang="en-US" sz="16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62640" y="51721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 u="sng">
                  <a:solidFill>
                    <a:srgbClr val="3399ff"/>
                  </a:solidFill>
                  <a:uFillTx/>
                  <a:latin typeface="Tahoma"/>
                </a:rPr>
                <a:t>2)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nodeType="clickEffect" fill="hold">
                      <p:stCondLst>
                        <p:cond delay="0"/>
                      </p:stCondLst>
                      <p:childTnLst>
                        <p:par>
                          <p:cTn id="1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 fill="hold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 fill="hold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 fill="hold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 fill="hold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 fill="hold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 fill="hold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The recovery of creativity or </a:t>
            </a:r>
            <a:r>
              <a:rPr b="1" i="1" lang="en-US" sz="2800" spc="-1" strike="noStrike" u="sng">
                <a:solidFill>
                  <a:srgbClr val="3399ff"/>
                </a:solidFill>
                <a:uFillTx/>
                <a:latin typeface="Tahoma"/>
              </a:rPr>
              <a:t>motivation</a:t>
            </a:r>
            <a:endParaRPr b="1" i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548160" y="838080"/>
          <a:ext cx="178596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8160" y="838080"/>
                    <a:ext cx="17859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4892760" y="1339920"/>
            <a:ext cx="457200" cy="457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735480" y="1371600"/>
            <a:ext cx="16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000" spc="-1" strike="noStrike" u="sng">
                <a:solidFill>
                  <a:srgbClr val="3399ff"/>
                </a:solidFill>
                <a:uFillTx/>
                <a:latin typeface="Tahoma"/>
              </a:rPr>
              <a:t>Hypotheses:</a:t>
            </a:r>
            <a:endParaRPr b="1" i="1" lang="en-US" sz="2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1847880"/>
            <a:ext cx="7593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Motivation is mainly related to one’s own state and it is not influenced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by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  <a:ea typeface="Droid Sans Fallback"/>
              </a:rPr>
              <a:t>exogenous factors (e.g. promotions)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i="1" lang="en-US" sz="10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More precisely, the motivation can grow on the basis of the </a:t>
            </a:r>
            <a:br>
              <a:rPr sz="1800"/>
            </a:b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level of satisfaction (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) and/or its trend (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dS/dt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) 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5749920" y="3463920"/>
            <a:ext cx="2998800" cy="17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"/>
          <p:cNvGraphicFramePr/>
          <p:nvPr/>
        </p:nvGraphicFramePr>
        <p:xfrm>
          <a:off x="1606680" y="3786120"/>
          <a:ext cx="3255840" cy="6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6680" y="3786120"/>
                    <a:ext cx="32558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8" name=""/>
          <p:cNvGrpSpPr/>
          <p:nvPr/>
        </p:nvGrpSpPr>
        <p:grpSpPr>
          <a:xfrm>
            <a:off x="265680" y="4780080"/>
            <a:ext cx="5744520" cy="1530360"/>
            <a:chOff x="265680" y="4780080"/>
            <a:chExt cx="5744520" cy="1530360"/>
          </a:xfrm>
        </p:grpSpPr>
        <p:graphicFrame>
          <p:nvGraphicFramePr>
            <p:cNvPr id="389" name=""/>
            <p:cNvGraphicFramePr/>
            <p:nvPr/>
          </p:nvGraphicFramePr>
          <p:xfrm>
            <a:off x="1555920" y="4843440"/>
            <a:ext cx="350640" cy="1314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9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555920" y="4843440"/>
                      <a:ext cx="350640" cy="13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91" name=""/>
            <p:cNvGrpSpPr/>
            <p:nvPr/>
          </p:nvGrpSpPr>
          <p:grpSpPr>
            <a:xfrm>
              <a:off x="265680" y="4780080"/>
              <a:ext cx="5744520" cy="1530360"/>
              <a:chOff x="265680" y="4780080"/>
              <a:chExt cx="5744520" cy="1530360"/>
            </a:xfrm>
          </p:grpSpPr>
          <p:sp>
            <p:nvSpPr>
              <p:cNvPr id="392" name=""/>
              <p:cNvSpPr/>
              <p:nvPr/>
            </p:nvSpPr>
            <p:spPr>
              <a:xfrm>
                <a:off x="265680" y="5278320"/>
                <a:ext cx="142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8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individuals </a:t>
                </a:r>
                <a:endPara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49600" y="5645160"/>
                <a:ext cx="374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800" spc="-1" strike="noStrike" u="sng">
                    <a:solidFill>
                      <a:srgbClr val="3399ff"/>
                    </a:solidFill>
                    <a:uFillTx/>
                    <a:latin typeface="Tahoma"/>
                  </a:rPr>
                  <a:t>very sensitive to trends</a:t>
                </a:r>
                <a:r>
                  <a:rPr b="1" i="1" lang="en-US" sz="18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: </a:t>
                </a:r>
                <a:r>
                  <a:rPr b="1" i="1" lang="en-US" sz="1800" spc="-1" strike="noStrike" u="sng">
                    <a:solidFill>
                      <a:srgbClr val="3333cc"/>
                    </a:solidFill>
                    <a:uFillTx/>
                    <a:latin typeface="Symbol"/>
                    <a:ea typeface="Symbol"/>
                  </a:rPr>
                  <a:t></a:t>
                </a:r>
                <a:r>
                  <a:rPr b="1" i="1" lang="en-US" sz="18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=0</a:t>
                </a:r>
                <a:endPara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763640" y="4780080"/>
                <a:ext cx="374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800" spc="-1" strike="noStrike" u="sng">
                    <a:solidFill>
                      <a:srgbClr val="3399ff"/>
                    </a:solidFill>
                    <a:uFillTx/>
                    <a:latin typeface="Tahoma"/>
                  </a:rPr>
                  <a:t>not sensitive to trends</a:t>
                </a:r>
                <a:r>
                  <a:rPr b="1" i="1" lang="en-US" sz="18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: </a:t>
                </a:r>
                <a:r>
                  <a:rPr b="1" i="1" lang="en-US" sz="1800" spc="-1" strike="noStrike" u="sng">
                    <a:solidFill>
                      <a:srgbClr val="3333cc"/>
                    </a:solidFill>
                    <a:uFillTx/>
                    <a:latin typeface="Symbol"/>
                    <a:ea typeface="Symbol"/>
                  </a:rPr>
                  <a:t></a:t>
                </a:r>
                <a:r>
                  <a:rPr b="1" i="1" lang="en-US" sz="18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=1</a:t>
                </a:r>
                <a:endPara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908000" y="5060880"/>
                <a:ext cx="410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8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(managers, politicians, …)</a:t>
                </a:r>
                <a:endPara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08000" y="5942160"/>
                <a:ext cx="410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8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(children, artists, …)</a:t>
                </a:r>
                <a:endPara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dur="indefinite" nodeType="clickEffect" fill="hold">
                      <p:stCondLst>
                        <p:cond delay="0"/>
                      </p:stCondLst>
                      <p:childTnLst>
                        <p:par>
                          <p:cTn id="21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 fill="hold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 fill="hold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 fill="hold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 fill="hold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 fill="hold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37120" y="3957480"/>
            <a:ext cx="3519360" cy="27147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5037120" y="3957480"/>
            <a:ext cx="3519360" cy="27147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5037120" y="3957480"/>
            <a:ext cx="3519360" cy="271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"/>
          <p:cNvGraphicFramePr/>
          <p:nvPr/>
        </p:nvGraphicFramePr>
        <p:xfrm>
          <a:off x="1089000" y="4005360"/>
          <a:ext cx="2114640" cy="98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89000" y="4005360"/>
                    <a:ext cx="211464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468360" y="5732640"/>
            <a:ext cx="446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i="1" lang="en-US" sz="10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buClr>
                <a:srgbClr val="3333cc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Sensitivity to parameter values </a:t>
            </a:r>
            <a:br>
              <a:rPr sz="1800"/>
            </a:b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(e.g. increasing efforts)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Individuals </a:t>
            </a:r>
            <a:r>
              <a:rPr b="1" i="1" lang="en-US" sz="2800" spc="-1" strike="noStrike" u="sng">
                <a:solidFill>
                  <a:srgbClr val="3399ff"/>
                </a:solidFill>
                <a:uFillTx/>
                <a:latin typeface="Tahoma"/>
              </a:rPr>
              <a:t>insensitive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 to trends (</a:t>
            </a:r>
            <a:r>
              <a:rPr b="1" i="1" lang="en-US" sz="2800" spc="-1" strike="noStrike" u="sng">
                <a:solidFill>
                  <a:srgbClr val="3399ff"/>
                </a:solidFill>
                <a:uFillTx/>
                <a:latin typeface="Symbol"/>
                <a:ea typeface="Symbol"/>
              </a:rPr>
              <a:t></a:t>
            </a:r>
            <a:r>
              <a:rPr b="1" i="1" lang="en-US" sz="2800" spc="-1" strike="noStrike" u="sng">
                <a:solidFill>
                  <a:srgbClr val="3399ff"/>
                </a:solidFill>
                <a:uFillTx/>
                <a:latin typeface="Tahoma"/>
              </a:rPr>
              <a:t>=1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)</a:t>
            </a:r>
            <a:endParaRPr b="1" i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258920" y="1268280"/>
            <a:ext cx="1727280" cy="935280"/>
            <a:chOff x="1258920" y="1268280"/>
            <a:chExt cx="1727280" cy="935280"/>
          </a:xfrm>
        </p:grpSpPr>
        <p:sp>
          <p:nvSpPr>
            <p:cNvPr id="405" name=""/>
            <p:cNvSpPr/>
            <p:nvPr/>
          </p:nvSpPr>
          <p:spPr>
            <a:xfrm>
              <a:off x="1258920" y="1268280"/>
              <a:ext cx="1727280" cy="9352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graphicFrame>
          <p:nvGraphicFramePr>
            <p:cNvPr id="406" name=""/>
            <p:cNvGraphicFramePr/>
            <p:nvPr/>
          </p:nvGraphicFramePr>
          <p:xfrm>
            <a:off x="1292400" y="1454040"/>
            <a:ext cx="1657080" cy="563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0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292400" y="1454040"/>
                      <a:ext cx="1657080" cy="56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08" name=""/>
          <p:cNvSpPr/>
          <p:nvPr/>
        </p:nvSpPr>
        <p:spPr>
          <a:xfrm>
            <a:off x="5867280" y="1268280"/>
            <a:ext cx="1729080" cy="9367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5900760" y="1454040"/>
          <a:ext cx="1658880" cy="565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00760" y="1454040"/>
                    <a:ext cx="16588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1" name=""/>
          <p:cNvGrpSpPr/>
          <p:nvPr/>
        </p:nvGrpSpPr>
        <p:grpSpPr>
          <a:xfrm>
            <a:off x="3562200" y="1268280"/>
            <a:ext cx="1727280" cy="935280"/>
            <a:chOff x="3562200" y="1268280"/>
            <a:chExt cx="1727280" cy="935280"/>
          </a:xfrm>
        </p:grpSpPr>
        <p:pic>
          <p:nvPicPr>
            <p:cNvPr id="412" name="" descr=""/>
            <p:cNvPicPr/>
            <p:nvPr/>
          </p:nvPicPr>
          <p:blipFill>
            <a:blip r:embed="rId10"/>
            <a:stretch/>
          </p:blipFill>
          <p:spPr>
            <a:xfrm>
              <a:off x="3825720" y="1330200"/>
              <a:ext cx="1200240" cy="8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3" name=""/>
            <p:cNvGrpSpPr/>
            <p:nvPr/>
          </p:nvGrpSpPr>
          <p:grpSpPr>
            <a:xfrm>
              <a:off x="3562200" y="1268280"/>
              <a:ext cx="1727280" cy="935280"/>
              <a:chOff x="3562200" y="1268280"/>
              <a:chExt cx="1727280" cy="935280"/>
            </a:xfrm>
          </p:grpSpPr>
          <p:sp>
            <p:nvSpPr>
              <p:cNvPr id="414" name=""/>
              <p:cNvSpPr/>
              <p:nvPr/>
            </p:nvSpPr>
            <p:spPr>
              <a:xfrm>
                <a:off x="3562200" y="1268280"/>
                <a:ext cx="1727280" cy="93528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649680" y="1341360"/>
                <a:ext cx="1552680" cy="790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</p:grpSp>
      <p:grpSp>
        <p:nvGrpSpPr>
          <p:cNvPr id="416" name=""/>
          <p:cNvGrpSpPr/>
          <p:nvPr/>
        </p:nvGrpSpPr>
        <p:grpSpPr>
          <a:xfrm>
            <a:off x="3564000" y="2781360"/>
            <a:ext cx="1727280" cy="934920"/>
            <a:chOff x="3564000" y="2781360"/>
            <a:chExt cx="1727280" cy="934920"/>
          </a:xfrm>
        </p:grpSpPr>
        <p:pic>
          <p:nvPicPr>
            <p:cNvPr id="417" name="" descr=""/>
            <p:cNvPicPr/>
            <p:nvPr/>
          </p:nvPicPr>
          <p:blipFill>
            <a:blip r:embed="rId11"/>
            <a:stretch/>
          </p:blipFill>
          <p:spPr>
            <a:xfrm>
              <a:off x="3828960" y="2844720"/>
              <a:ext cx="1197000" cy="80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8" name=""/>
            <p:cNvGrpSpPr/>
            <p:nvPr/>
          </p:nvGrpSpPr>
          <p:grpSpPr>
            <a:xfrm>
              <a:off x="3564000" y="2781360"/>
              <a:ext cx="1727280" cy="934920"/>
              <a:chOff x="3564000" y="2781360"/>
              <a:chExt cx="1727280" cy="934920"/>
            </a:xfrm>
          </p:grpSpPr>
          <p:sp>
            <p:nvSpPr>
              <p:cNvPr id="419" name=""/>
              <p:cNvSpPr/>
              <p:nvPr/>
            </p:nvSpPr>
            <p:spPr>
              <a:xfrm>
                <a:off x="3564000" y="2781360"/>
                <a:ext cx="1727280" cy="93492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51120" y="2854440"/>
                <a:ext cx="1552680" cy="790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</p:grpSp>
      <p:cxnSp>
        <p:nvCxnSpPr>
          <p:cNvPr id="421" name=""/>
          <p:cNvCxnSpPr>
            <a:stCxn id="405" idx="3"/>
            <a:endCxn id="414" idx="1"/>
          </p:cNvCxnSpPr>
          <p:nvPr/>
        </p:nvCxnSpPr>
        <p:spPr>
          <a:xfrm>
            <a:off x="2987640" y="1736280"/>
            <a:ext cx="575280" cy="25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4" idx="3"/>
            <a:endCxn id="408" idx="1"/>
          </p:cNvCxnSpPr>
          <p:nvPr/>
        </p:nvCxnSpPr>
        <p:spPr>
          <a:xfrm>
            <a:off x="5291280" y="1736280"/>
            <a:ext cx="576360" cy="25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23" name=""/>
          <p:cNvSpPr/>
          <p:nvPr/>
        </p:nvSpPr>
        <p:spPr>
          <a:xfrm>
            <a:off x="7596360" y="1700280"/>
            <a:ext cx="504720" cy="1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7812000" y="1638360"/>
            <a:ext cx="730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cxnSp>
        <p:nvCxnSpPr>
          <p:cNvPr id="425" name=""/>
          <p:cNvCxnSpPr>
            <a:endCxn id="419" idx="3"/>
          </p:cNvCxnSpPr>
          <p:nvPr/>
        </p:nvCxnSpPr>
        <p:spPr>
          <a:xfrm flipV="1" rot="10800000">
            <a:off x="3753720" y="1709280"/>
            <a:ext cx="1540440" cy="255672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19" idx="1"/>
            <a:endCxn id="405" idx="2"/>
          </p:cNvCxnSpPr>
          <p:nvPr/>
        </p:nvCxnSpPr>
        <p:spPr>
          <a:xfrm rot="10800000">
            <a:off x="683640" y="1161360"/>
            <a:ext cx="1440360" cy="104544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204120" y="5300640"/>
            <a:ext cx="46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Simulations from different initial states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 fill="hold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 fill="hold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 fill="hold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 fill="hold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263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Becoming a child </a:t>
            </a:r>
            <a:br>
              <a:rPr sz="2800"/>
            </a:b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or the importance of </a:t>
            </a:r>
            <a:r>
              <a:rPr b="1" i="1" lang="en-US" sz="2400" spc="-1" strike="noStrike" u="sng">
                <a:solidFill>
                  <a:srgbClr val="3399ff"/>
                </a:solidFill>
                <a:uFillTx/>
                <a:latin typeface="Tahoma"/>
              </a:rPr>
              <a:t>sensitivity to trends</a:t>
            </a:r>
            <a:endParaRPr b="1" i="1" lang="en-US" sz="2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-8280" y="1440"/>
            <a:ext cx="9035640" cy="4724640"/>
            <a:chOff x="-8280" y="1440"/>
            <a:chExt cx="9035640" cy="4724640"/>
          </a:xfrm>
        </p:grpSpPr>
        <p:grpSp>
          <p:nvGrpSpPr>
            <p:cNvPr id="431" name=""/>
            <p:cNvGrpSpPr/>
            <p:nvPr/>
          </p:nvGrpSpPr>
          <p:grpSpPr>
            <a:xfrm>
              <a:off x="1440" y="1440"/>
              <a:ext cx="2714760" cy="2735280"/>
              <a:chOff x="1440" y="1440"/>
              <a:chExt cx="2714760" cy="2735280"/>
            </a:xfrm>
          </p:grpSpPr>
          <p:pic>
            <p:nvPicPr>
              <p:cNvPr id="4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40" y="1440"/>
                <a:ext cx="2714760" cy="273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>
                <a:off x="73080" y="57960"/>
                <a:ext cx="2519280" cy="10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2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Every child is an artist. The problem is how to remain an artist once we grow up</a:t>
                </a:r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2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It takes a long time to become young</a:t>
                </a:r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-8280" y="2708280"/>
              <a:ext cx="1933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000" spc="-1" strike="noStrike" u="sng">
                  <a:solidFill>
                    <a:srgbClr val="3333cc"/>
                  </a:solidFill>
                  <a:uFillTx/>
                  <a:latin typeface="Courier New"/>
                </a:rPr>
                <a:t>http://picasso.shsu.edu</a:t>
              </a:r>
              <a:endParaRPr b="1" i="1" lang="en-US" sz="10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6627600" y="1641600"/>
              <a:ext cx="2399760" cy="3084480"/>
              <a:chOff x="6627600" y="1641600"/>
              <a:chExt cx="2399760" cy="3084480"/>
            </a:xfrm>
          </p:grpSpPr>
          <p:pic>
            <p:nvPicPr>
              <p:cNvPr id="43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89160" y="1641600"/>
                <a:ext cx="2273400" cy="28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>
                <a:off x="6627600" y="4449600"/>
                <a:ext cx="2399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2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Le picador, 1889</a:t>
                </a:r>
                <a:r>
                  <a:rPr b="1" i="1" lang="it-IT" sz="12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 </a:t>
                </a:r>
                <a:r>
                  <a:rPr b="1" i="1" lang="it-IT" sz="12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(aged 8 years)</a:t>
                </a:r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2827800" y="1268280"/>
              <a:ext cx="3544920" cy="2212200"/>
              <a:chOff x="2827800" y="1268280"/>
              <a:chExt cx="3544920" cy="2212200"/>
            </a:xfrm>
          </p:grpSpPr>
          <p:pic>
            <p:nvPicPr>
              <p:cNvPr id="43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277080" y="1268280"/>
                <a:ext cx="3095640" cy="189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3853080" y="3143160"/>
                <a:ext cx="2157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6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years</a:t>
                </a:r>
                <a:endParaRPr b="1" i="1" lang="en-US" sz="16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827800" y="1357200"/>
                <a:ext cx="423720" cy="171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6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# works</a:t>
                </a:r>
                <a:endParaRPr b="1" i="1" lang="en-US" sz="16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-179280" y="3432240"/>
            <a:ext cx="9142200" cy="3235320"/>
            <a:chOff x="-179280" y="3432240"/>
            <a:chExt cx="9142200" cy="3235320"/>
          </a:xfrm>
        </p:grpSpPr>
        <p:grpSp>
          <p:nvGrpSpPr>
            <p:cNvPr id="443" name=""/>
            <p:cNvGrpSpPr/>
            <p:nvPr/>
          </p:nvGrpSpPr>
          <p:grpSpPr>
            <a:xfrm>
              <a:off x="-179280" y="3432240"/>
              <a:ext cx="9142200" cy="3235320"/>
              <a:chOff x="-179280" y="3432240"/>
              <a:chExt cx="9142200" cy="3235320"/>
            </a:xfrm>
          </p:grpSpPr>
          <p:pic>
            <p:nvPicPr>
              <p:cNvPr id="44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-179280" y="3432240"/>
                <a:ext cx="3582720" cy="323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" descr=""/>
              <p:cNvPicPr/>
              <p:nvPr/>
            </p:nvPicPr>
            <p:blipFill>
              <a:blip r:embed="rId6"/>
              <a:srcRect l="4668" t="0" r="0" b="0"/>
              <a:stretch/>
            </p:blipFill>
            <p:spPr>
              <a:xfrm>
                <a:off x="6013440" y="5280120"/>
                <a:ext cx="2949480" cy="12841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446" name=""/>
              <p:cNvGrpSpPr/>
              <p:nvPr/>
            </p:nvGrpSpPr>
            <p:grpSpPr>
              <a:xfrm>
                <a:off x="3463560" y="3715560"/>
                <a:ext cx="2391120" cy="2952000"/>
                <a:chOff x="3463560" y="3715560"/>
                <a:chExt cx="2391120" cy="2952000"/>
              </a:xfrm>
            </p:grpSpPr>
            <p:pic>
              <p:nvPicPr>
                <p:cNvPr id="44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06760" y="4005360"/>
                  <a:ext cx="2347920" cy="266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8" name=""/>
                <p:cNvSpPr/>
                <p:nvPr/>
              </p:nvSpPr>
              <p:spPr>
                <a:xfrm>
                  <a:off x="3463560" y="3715560"/>
                  <a:ext cx="2068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it-IT" sz="1200" spc="-1" strike="noStrike" u="sng">
                      <a:solidFill>
                        <a:srgbClr val="3333cc"/>
                      </a:solidFill>
                      <a:uFillTx/>
                      <a:latin typeface="Tahoma"/>
                    </a:rPr>
                    <a:t>Fleurs et céramique, 1913</a:t>
                  </a:r>
                  <a:r>
                    <a:rPr b="1" i="1" lang="it-IT" sz="1200" spc="-1" strike="noStrike" u="sng">
                      <a:solidFill>
                        <a:srgbClr val="3333cc"/>
                      </a:solidFill>
                      <a:uFillTx/>
                      <a:latin typeface="Tahoma"/>
                    </a:rPr>
                    <a:t> </a:t>
                  </a:r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</p:grpSp>
        </p:grpSp>
        <p:sp>
          <p:nvSpPr>
            <p:cNvPr id="449" name=""/>
            <p:cNvSpPr/>
            <p:nvPr/>
          </p:nvSpPr>
          <p:spPr>
            <a:xfrm>
              <a:off x="5907600" y="4941720"/>
              <a:ext cx="157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200" spc="-1" strike="noStrike" u="sng">
                  <a:solidFill>
                    <a:srgbClr val="3333cc"/>
                  </a:solidFill>
                  <a:uFillTx/>
                  <a:latin typeface="Tahoma"/>
                </a:rPr>
                <a:t>Art Education, 1953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 fill="hold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A dramatic example of </a:t>
            </a:r>
            <a:r>
              <a:rPr b="1" i="1" lang="en-US" sz="2800" spc="-1" strike="noStrike" u="sng">
                <a:solidFill>
                  <a:srgbClr val="3399ff"/>
                </a:solidFill>
                <a:uFillTx/>
                <a:latin typeface="Tahoma"/>
              </a:rPr>
              <a:t>sensitivity to trends</a:t>
            </a:r>
            <a:endParaRPr b="1" i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0" y="765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000" spc="-1" strike="noStrike" u="sng">
                <a:solidFill>
                  <a:srgbClr val="3399ff"/>
                </a:solidFill>
                <a:uFillTx/>
                <a:latin typeface="Tahoma"/>
              </a:rPr>
              <a:t>	</a:t>
            </a: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La traviata</a:t>
            </a: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 (Act 3, Scenes V and VI, </a:t>
            </a: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Tahoma"/>
              </a:rPr>
              <a:t>http://www.youtube.com/watch?v=GSXP4QXn9NA</a:t>
            </a: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)</a:t>
            </a:r>
            <a:endParaRPr b="1" i="1" lang="en-US" sz="2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437400" y="1600200"/>
            <a:ext cx="3771360" cy="39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SCENA V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 (Atto III)</a:t>
            </a: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 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(Detta ed Annina, che torna frettolosa)</a:t>
            </a:r>
            <a:br>
              <a:rPr sz="1200"/>
            </a:b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ANNINA: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 (esitando) Signora!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VIOLETTA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Che t'accade?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ANNINA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Quest'oggi, e' vero? Vi sentite meglio?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VIOLETTA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 Si', perche'?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ANNINA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D'esser calma promettete?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VIOLETTA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Si', che vuoi dirmi?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ANNINA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Prevenir vi volli. Una gioia improvvisa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VIOLETTA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Una gioia! dicesti?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ANNINA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Si', o signora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VIOLETTA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 Alfredo! Ah, tu il vedesti? </a:t>
            </a: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ei vien! l'affretta.</a:t>
            </a:r>
            <a:br>
              <a:rPr sz="1200"/>
            </a:b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(Annina afferma col capo, e va ad aprire la porta.)</a:t>
            </a: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1595520"/>
            <a:ext cx="4572000" cy="48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SCENA VI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 (Atto III)</a:t>
            </a: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VIOLETTA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Ah, non piu', a un tempio. Alfredo, andiamo,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Del tuo ritorno grazie rendiamo (Vacilla)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ALFREDO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 : 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Tu impallidisci</a:t>
            </a: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VIOLETTA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E' nulla, sai! Gioia improvvisa non entra mai. </a:t>
            </a: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Senza turbarlo in mesto core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(Si abbandona come sfinita sopra una sedia col 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capo cadente all'indietro.)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ALFREDO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(spaventato, sorreggendola) Gran Dio! Violetta!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VIOLETTA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(sforzandosi) E' il mio malore. Fu debolezza! ora 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son forte (sforzandosi) Vedi? sorrido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ALFREDO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(desolato) Ahi, cruda sorte!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VIOLETTA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Fu nulla Annina, dammi a vestire.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ALFREDO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Adesso? Attendi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VIOLETTA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(alzandosi) No voglio uscire.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(Annina le presenta una veste ch'ella fa per 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indossare e impedita dalla debolezza, esclama:)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Gran Dio! non posso! 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(Getta con dispetto la veste e ricade sulla sedia.)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 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ALFREDO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 Cielo! che vedo! Va pel dottor</a:t>
            </a: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4500720" y="1414080"/>
            <a:ext cx="4321080" cy="46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SCENA VI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 (Atto III)</a:t>
            </a: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(Violetta, Alfredo e Annina)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 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VIOLETTA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(Andando verso l'uscio) Alfredo! Amato Alfredo!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ALFREDO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Mia Violetta! Colpevol sono so tutto, o cara.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 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VIOLETTA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Io so che alfine reso mi sei!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ALFREDO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Da questo palpito s'io t'ami impara, </a:t>
            </a: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Senza te esistere piu' non potrei.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 </a:t>
            </a: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VIOLETTA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Ah, s'anco in vita m'hai ritrovata, </a:t>
            </a: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Credi che uccidere non puo' il dolor.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ALFREDO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Scorda l'affanno, donna adorata,</a:t>
            </a: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A me perdona e al genitor.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VIOLETTA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Ch'io ti perdoni? </a:t>
            </a: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la rea son io: Ma solo amore tal mi rende'</a:t>
            </a:r>
            <a:br>
              <a:rPr sz="1200"/>
            </a:b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A DUE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:  Null'uomo o demone, angelo mio, 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Mai piu' dividermi potra' da me.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Parigi, o cara/o noi lasceremo, […]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br>
              <a:rPr sz="1200"/>
            </a:b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5148360" y="5899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6599160" y="5884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fill="hold">
          <p:childTnLst>
            <p:seq>
              <p:cTn id="288" dur="indefinite" nodeType="mainSeq">
                <p:childTnLst>
                  <p:par>
                    <p:cTn id="28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9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 fill="hold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620640" y="3957480"/>
            <a:ext cx="8136000" cy="2527560"/>
            <a:chOff x="620640" y="3957480"/>
            <a:chExt cx="8136000" cy="2527560"/>
          </a:xfrm>
        </p:grpSpPr>
        <p:pic>
          <p:nvPicPr>
            <p:cNvPr id="459" name="" descr=""/>
            <p:cNvPicPr/>
            <p:nvPr/>
          </p:nvPicPr>
          <p:blipFill>
            <a:blip r:embed="rId1"/>
            <a:stretch/>
          </p:blipFill>
          <p:spPr>
            <a:xfrm>
              <a:off x="5757840" y="3957480"/>
              <a:ext cx="2533680" cy="252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0" name=""/>
            <p:cNvGrpSpPr/>
            <p:nvPr/>
          </p:nvGrpSpPr>
          <p:grpSpPr>
            <a:xfrm>
              <a:off x="620640" y="4287960"/>
              <a:ext cx="8136000" cy="1760400"/>
              <a:chOff x="620640" y="4287960"/>
              <a:chExt cx="8136000" cy="1760400"/>
            </a:xfrm>
          </p:grpSpPr>
          <p:graphicFrame>
            <p:nvGraphicFramePr>
              <p:cNvPr id="461" name=""/>
              <p:cNvGraphicFramePr/>
              <p:nvPr/>
            </p:nvGraphicFramePr>
            <p:xfrm>
              <a:off x="915840" y="5157720"/>
              <a:ext cx="3667320" cy="8906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462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915840" y="5157720"/>
                        <a:ext cx="3667320" cy="890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463" name=""/>
              <p:cNvGrpSpPr/>
              <p:nvPr/>
            </p:nvGrpSpPr>
            <p:grpSpPr>
              <a:xfrm>
                <a:off x="620640" y="4287960"/>
                <a:ext cx="8136000" cy="1059840"/>
                <a:chOff x="620640" y="4287960"/>
                <a:chExt cx="8136000" cy="105984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620640" y="4287960"/>
                  <a:ext cx="813600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buClr>
                      <a:srgbClr val="3333cc"/>
                    </a:buClr>
                    <a:buFont typeface="Tahoma"/>
                    <a:buChar char="•"/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en-US" sz="1800" spc="-1" strike="noStrike" u="sng">
                      <a:solidFill>
                        <a:srgbClr val="3333cc"/>
                      </a:solidFill>
                      <a:uFillTx/>
                      <a:latin typeface="Tahoma"/>
                    </a:rPr>
                    <a:t> </a:t>
                  </a:r>
                  <a:r>
                    <a:rPr b="1" i="1" lang="en-US" sz="1800" spc="-1" strike="noStrike" u="sng">
                      <a:solidFill>
                        <a:srgbClr val="3333cc"/>
                      </a:solidFill>
                      <a:uFillTx/>
                      <a:latin typeface="Tahoma"/>
                    </a:rPr>
                    <a:t>If     and     are distributed according </a:t>
                  </a:r>
                  <a:endParaRPr b="1" i="1" lang="en-US" sz="18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  <a:p>
                  <a:pPr lvl="2" marL="9144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en-US" sz="1800" spc="-1" strike="noStrike" u="sng">
                      <a:solidFill>
                        <a:srgbClr val="3333cc"/>
                      </a:solidFill>
                      <a:uFillTx/>
                      <a:latin typeface="Tahoma"/>
                      <a:ea typeface="Droid Sans Fallback"/>
                    </a:rPr>
                    <a:t>to a Weibull-Gumble distribution</a:t>
                  </a:r>
                  <a:endParaRPr b="1" i="1" lang="en-US" sz="18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  <a:p>
                  <a:pPr lvl="2" marL="91440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1" i="1" lang="en-US" sz="18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graphicFrame>
              <p:nvGraphicFramePr>
                <p:cNvPr id="465" name=""/>
                <p:cNvGraphicFramePr/>
                <p:nvPr/>
              </p:nvGraphicFramePr>
              <p:xfrm>
                <a:off x="1100160" y="4287960"/>
                <a:ext cx="326880" cy="44280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466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1100160" y="4287960"/>
                          <a:ext cx="326880" cy="442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467" name=""/>
                <p:cNvGraphicFramePr/>
                <p:nvPr/>
              </p:nvGraphicFramePr>
              <p:xfrm>
                <a:off x="1811160" y="4287960"/>
                <a:ext cx="327240" cy="442800"/>
              </p:xfrm>
              <a:graphic>
                <a:graphicData uri="http://schemas.openxmlformats.org/presentationml/2006/ole">
                  <p:oleObj r:id="rId6" spid="">
                    <p:embed/>
                    <p:pic>
                      <p:nvPicPr>
                        <p:cNvPr id="468" name="" descr=""/>
                        <p:cNvPicPr/>
                        <p:nvPr/>
                      </p:nvPicPr>
                      <p:blipFill>
                        <a:blip r:embed="rId7"/>
                        <a:stretch/>
                      </p:blipFill>
                      <p:spPr>
                        <a:xfrm>
                          <a:off x="1811160" y="4287960"/>
                          <a:ext cx="327240" cy="442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46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Individuals </a:t>
            </a:r>
            <a:r>
              <a:rPr b="1" i="1" lang="en-US" sz="2800" spc="-1" strike="noStrike" u="sng">
                <a:solidFill>
                  <a:srgbClr val="3399ff"/>
                </a:solidFill>
                <a:uFillTx/>
                <a:latin typeface="Tahoma"/>
              </a:rPr>
              <a:t>very sensitive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 to trends (</a:t>
            </a:r>
            <a:r>
              <a:rPr b="1" i="1" lang="en-US" sz="2800" spc="-1" strike="noStrike" u="sng">
                <a:solidFill>
                  <a:srgbClr val="3399ff"/>
                </a:solidFill>
                <a:uFillTx/>
                <a:latin typeface="Symbol"/>
                <a:ea typeface="Symbol"/>
              </a:rPr>
              <a:t></a:t>
            </a:r>
            <a:r>
              <a:rPr b="1" i="1" lang="en-US" sz="2800" spc="-1" strike="noStrike" u="sng">
                <a:solidFill>
                  <a:srgbClr val="3399ff"/>
                </a:solidFill>
                <a:uFillTx/>
                <a:latin typeface="Tahoma"/>
              </a:rPr>
              <a:t>=0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)</a:t>
            </a:r>
            <a:endParaRPr b="1" i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765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From intuition to equations</a:t>
            </a:r>
            <a:endParaRPr b="1" i="1" lang="en-US" sz="2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447840" y="1262160"/>
            <a:ext cx="4184640" cy="514080"/>
            <a:chOff x="447840" y="1262160"/>
            <a:chExt cx="4184640" cy="514080"/>
          </a:xfrm>
        </p:grpSpPr>
        <p:sp>
          <p:nvSpPr>
            <p:cNvPr id="472" name=""/>
            <p:cNvSpPr/>
            <p:nvPr/>
          </p:nvSpPr>
          <p:spPr>
            <a:xfrm>
              <a:off x="447840" y="1292400"/>
              <a:ext cx="29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2000" spc="-1" strike="noStrike" u="sng">
                  <a:solidFill>
                    <a:srgbClr val="3399ff"/>
                  </a:solidFill>
                  <a:uFillTx/>
                  <a:latin typeface="Tahoma"/>
                </a:rPr>
                <a:t>Hypotheses to build an</a:t>
              </a:r>
              <a:endParaRPr b="1" i="1" lang="en-US" sz="20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graphicFrame>
          <p:nvGraphicFramePr>
            <p:cNvPr id="473" name=""/>
            <p:cNvGraphicFramePr/>
            <p:nvPr/>
          </p:nvGraphicFramePr>
          <p:xfrm>
            <a:off x="3341520" y="1262160"/>
            <a:ext cx="1290960" cy="514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7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341520" y="1262160"/>
                      <a:ext cx="1290960" cy="51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75" name=""/>
          <p:cNvGrpSpPr/>
          <p:nvPr/>
        </p:nvGrpSpPr>
        <p:grpSpPr>
          <a:xfrm>
            <a:off x="611280" y="1773360"/>
            <a:ext cx="8207280" cy="2374920"/>
            <a:chOff x="611280" y="1773360"/>
            <a:chExt cx="8207280" cy="2374920"/>
          </a:xfrm>
        </p:grpSpPr>
        <p:sp>
          <p:nvSpPr>
            <p:cNvPr id="476" name=""/>
            <p:cNvSpPr/>
            <p:nvPr/>
          </p:nvSpPr>
          <p:spPr>
            <a:xfrm>
              <a:off x="755640" y="1773360"/>
              <a:ext cx="7591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 </a:t>
              </a: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Instant by instant, creativity is devoted to the most appealing activity </a:t>
              </a: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	</a:t>
              </a: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(i.e. individuals are free to choose, details available on request)</a:t>
              </a:r>
              <a:br>
                <a:rPr sz="1800"/>
              </a:b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 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6480" y="2490840"/>
              <a:ext cx="8182080" cy="936720"/>
              <a:chOff x="636480" y="2490840"/>
              <a:chExt cx="8182080" cy="936720"/>
            </a:xfrm>
          </p:grpSpPr>
          <p:graphicFrame>
            <p:nvGraphicFramePr>
              <p:cNvPr id="478" name=""/>
              <p:cNvGraphicFramePr/>
              <p:nvPr/>
            </p:nvGraphicFramePr>
            <p:xfrm>
              <a:off x="636480" y="2706840"/>
              <a:ext cx="2610000" cy="46656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479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636480" y="2706840"/>
                        <a:ext cx="2610000" cy="46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80" name=""/>
              <p:cNvGraphicFramePr/>
              <p:nvPr/>
            </p:nvGraphicFramePr>
            <p:xfrm>
              <a:off x="4164120" y="2490840"/>
              <a:ext cx="4654440" cy="93672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481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4164120" y="2490840"/>
                        <a:ext cx="4654440" cy="936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82" name=""/>
              <p:cNvSpPr/>
              <p:nvPr/>
            </p:nvSpPr>
            <p:spPr>
              <a:xfrm>
                <a:off x="3263760" y="2759040"/>
                <a:ext cx="85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8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where</a:t>
                </a:r>
                <a:endPara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  <p:graphicFrame>
          <p:nvGraphicFramePr>
            <p:cNvPr id="483" name=""/>
            <p:cNvGraphicFramePr/>
            <p:nvPr/>
          </p:nvGraphicFramePr>
          <p:xfrm>
            <a:off x="611280" y="3587760"/>
            <a:ext cx="5127480" cy="5605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11280" y="3587760"/>
                      <a:ext cx="5127480" cy="56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85" name=""/>
          <p:cNvGrpSpPr/>
          <p:nvPr/>
        </p:nvGrpSpPr>
        <p:grpSpPr>
          <a:xfrm>
            <a:off x="5757840" y="3957480"/>
            <a:ext cx="2590200" cy="2527560"/>
            <a:chOff x="5757840" y="3957480"/>
            <a:chExt cx="2590200" cy="2527560"/>
          </a:xfrm>
        </p:grpSpPr>
        <p:pic>
          <p:nvPicPr>
            <p:cNvPr id="486" name="" descr=""/>
            <p:cNvPicPr/>
            <p:nvPr/>
          </p:nvPicPr>
          <p:blipFill>
            <a:blip r:embed="rId16"/>
            <a:stretch/>
          </p:blipFill>
          <p:spPr>
            <a:xfrm>
              <a:off x="5757840" y="3957480"/>
              <a:ext cx="2533680" cy="25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7132680" y="5211720"/>
              <a:ext cx="121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 u="sng">
                  <a:solidFill>
                    <a:srgbClr val="ff6699"/>
                  </a:solidFill>
                  <a:uFillTx/>
                  <a:latin typeface="Tahoma"/>
                </a:rPr>
                <a:t>higher </a:t>
              </a:r>
              <a:r>
                <a:rPr b="1" i="1" lang="en-US" sz="2000" spc="-1" strike="noStrike" u="sng">
                  <a:solidFill>
                    <a:srgbClr val="ff6699"/>
                  </a:solidFill>
                  <a:uFillTx/>
                  <a:latin typeface="Times New Roman"/>
                </a:rPr>
                <a:t>c</a:t>
              </a:r>
              <a:r>
                <a:rPr b="1" i="1" lang="en-US" sz="1800" spc="-1" strike="noStrike" u="sng">
                  <a:solidFill>
                    <a:srgbClr val="ff6699"/>
                  </a:solidFill>
                  <a:uFillTx/>
                  <a:latin typeface="Tahoma"/>
                </a:rPr>
                <a:t>’s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757840" y="3957480"/>
            <a:ext cx="2661840" cy="2527560"/>
            <a:chOff x="5757840" y="3957480"/>
            <a:chExt cx="2661840" cy="2527560"/>
          </a:xfrm>
        </p:grpSpPr>
        <p:pic>
          <p:nvPicPr>
            <p:cNvPr id="489" name="" descr=""/>
            <p:cNvPicPr/>
            <p:nvPr/>
          </p:nvPicPr>
          <p:blipFill>
            <a:blip r:embed="rId17"/>
            <a:stretch/>
          </p:blipFill>
          <p:spPr>
            <a:xfrm>
              <a:off x="5757840" y="3957480"/>
              <a:ext cx="2533680" cy="25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7204320" y="537516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 u="sng">
                  <a:solidFill>
                    <a:srgbClr val="3399ff"/>
                  </a:solidFill>
                  <a:uFillTx/>
                  <a:latin typeface="Tahoma"/>
                </a:rPr>
                <a:t>higher </a:t>
              </a:r>
              <a:r>
                <a:rPr b="1" i="1" lang="en-US" sz="1800" spc="-1" strike="noStrike" u="sng">
                  <a:solidFill>
                    <a:srgbClr val="3399ff"/>
                  </a:solidFill>
                  <a:uFillTx/>
                  <a:latin typeface="Symbol"/>
                  <a:ea typeface="Symbol"/>
                </a:rPr>
                <a:t></a:t>
              </a:r>
              <a:r>
                <a:rPr b="1" i="1" lang="en-US" sz="1800" spc="-1" strike="noStrike" u="sng">
                  <a:solidFill>
                    <a:srgbClr val="3399ff"/>
                  </a:solidFill>
                  <a:uFillTx/>
                  <a:latin typeface="Tahoma"/>
                </a:rPr>
                <a:t>’s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9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 fill="hold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 fill="hold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 fill="hold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 fill="hold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 fill="hold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685800" y="-27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Individuals </a:t>
            </a:r>
            <a:r>
              <a:rPr b="1" i="1" lang="en-US" sz="2800" spc="-1" strike="noStrike" u="sng">
                <a:solidFill>
                  <a:srgbClr val="3399ff"/>
                </a:solidFill>
                <a:uFillTx/>
                <a:latin typeface="Tahoma"/>
              </a:rPr>
              <a:t>very sensitive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 to trends (</a:t>
            </a:r>
            <a:r>
              <a:rPr b="1" i="1" lang="en-US" sz="2800" spc="-1" strike="noStrike" u="sng">
                <a:solidFill>
                  <a:srgbClr val="3399ff"/>
                </a:solidFill>
                <a:uFillTx/>
                <a:latin typeface="Symbol"/>
                <a:ea typeface="Symbol"/>
              </a:rPr>
              <a:t></a:t>
            </a:r>
            <a:r>
              <a:rPr b="1" i="1" lang="en-US" sz="2800" spc="-1" strike="noStrike" u="sng">
                <a:solidFill>
                  <a:srgbClr val="3399ff"/>
                </a:solidFill>
                <a:uFillTx/>
                <a:latin typeface="Tahoma"/>
              </a:rPr>
              <a:t>=0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)</a:t>
            </a:r>
            <a:endParaRPr b="1" i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95280" y="1052640"/>
            <a:ext cx="1727280" cy="934920"/>
            <a:chOff x="395280" y="1052640"/>
            <a:chExt cx="1727280" cy="934920"/>
          </a:xfrm>
        </p:grpSpPr>
        <p:sp>
          <p:nvSpPr>
            <p:cNvPr id="493" name=""/>
            <p:cNvSpPr/>
            <p:nvPr/>
          </p:nvSpPr>
          <p:spPr>
            <a:xfrm>
              <a:off x="395280" y="1052640"/>
              <a:ext cx="1727280" cy="93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graphicFrame>
          <p:nvGraphicFramePr>
            <p:cNvPr id="494" name=""/>
            <p:cNvGraphicFramePr/>
            <p:nvPr/>
          </p:nvGraphicFramePr>
          <p:xfrm>
            <a:off x="428760" y="1238400"/>
            <a:ext cx="1657080" cy="56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8760" y="1238400"/>
                      <a:ext cx="1657080" cy="5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96" name=""/>
          <p:cNvGrpSpPr/>
          <p:nvPr/>
        </p:nvGrpSpPr>
        <p:grpSpPr>
          <a:xfrm>
            <a:off x="6227640" y="1052640"/>
            <a:ext cx="1727280" cy="934920"/>
            <a:chOff x="6227640" y="1052640"/>
            <a:chExt cx="1727280" cy="934920"/>
          </a:xfrm>
        </p:grpSpPr>
        <p:sp>
          <p:nvSpPr>
            <p:cNvPr id="497" name=""/>
            <p:cNvSpPr/>
            <p:nvPr/>
          </p:nvSpPr>
          <p:spPr>
            <a:xfrm>
              <a:off x="6227640" y="1052640"/>
              <a:ext cx="1727280" cy="93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graphicFrame>
          <p:nvGraphicFramePr>
            <p:cNvPr id="498" name=""/>
            <p:cNvGraphicFramePr/>
            <p:nvPr/>
          </p:nvGraphicFramePr>
          <p:xfrm>
            <a:off x="6251400" y="1238400"/>
            <a:ext cx="1676520" cy="563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51400" y="1238400"/>
                      <a:ext cx="1676520" cy="5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0" name=""/>
          <p:cNvGrpSpPr/>
          <p:nvPr/>
        </p:nvGrpSpPr>
        <p:grpSpPr>
          <a:xfrm>
            <a:off x="4211640" y="2565360"/>
            <a:ext cx="1727280" cy="934920"/>
            <a:chOff x="4211640" y="2565360"/>
            <a:chExt cx="1727280" cy="934920"/>
          </a:xfrm>
        </p:grpSpPr>
        <p:pic>
          <p:nvPicPr>
            <p:cNvPr id="501" name="" descr=""/>
            <p:cNvPicPr/>
            <p:nvPr/>
          </p:nvPicPr>
          <p:blipFill>
            <a:blip r:embed="rId5"/>
            <a:stretch/>
          </p:blipFill>
          <p:spPr>
            <a:xfrm>
              <a:off x="4476600" y="2629080"/>
              <a:ext cx="1197000" cy="809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2" name=""/>
            <p:cNvGrpSpPr/>
            <p:nvPr/>
          </p:nvGrpSpPr>
          <p:grpSpPr>
            <a:xfrm>
              <a:off x="4211640" y="2565360"/>
              <a:ext cx="1727280" cy="934920"/>
              <a:chOff x="4211640" y="2565360"/>
              <a:chExt cx="1727280" cy="934920"/>
            </a:xfrm>
          </p:grpSpPr>
          <p:sp>
            <p:nvSpPr>
              <p:cNvPr id="503" name=""/>
              <p:cNvSpPr/>
              <p:nvPr/>
            </p:nvSpPr>
            <p:spPr>
              <a:xfrm>
                <a:off x="4211640" y="2565360"/>
                <a:ext cx="1727280" cy="93492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299120" y="2638440"/>
                <a:ext cx="1552320" cy="790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</p:grpSp>
      <p:cxnSp>
        <p:nvCxnSpPr>
          <p:cNvPr id="505" name=""/>
          <p:cNvCxnSpPr>
            <a:stCxn id="506" idx="3"/>
            <a:endCxn id="497" idx="1"/>
          </p:cNvCxnSpPr>
          <p:nvPr/>
        </p:nvCxnSpPr>
        <p:spPr>
          <a:xfrm>
            <a:off x="5627160" y="1521000"/>
            <a:ext cx="600840" cy="21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8459640" y="1457280"/>
            <a:ext cx="730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cxnSp>
        <p:nvCxnSpPr>
          <p:cNvPr id="508" name=""/>
          <p:cNvCxnSpPr>
            <a:endCxn id="503" idx="3"/>
          </p:cNvCxnSpPr>
          <p:nvPr/>
        </p:nvCxnSpPr>
        <p:spPr>
          <a:xfrm flipV="1" rot="10800000">
            <a:off x="4436280" y="1528560"/>
            <a:ext cx="1505880" cy="255636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503" idx="1"/>
            <a:endCxn id="493" idx="2"/>
          </p:cNvCxnSpPr>
          <p:nvPr/>
        </p:nvCxnSpPr>
        <p:spPr>
          <a:xfrm rot="10800000">
            <a:off x="-1691640" y="945360"/>
            <a:ext cx="2951640" cy="104544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10" name=""/>
          <p:cNvSpPr/>
          <p:nvPr/>
        </p:nvSpPr>
        <p:spPr>
          <a:xfrm>
            <a:off x="8893080" y="1449360"/>
            <a:ext cx="142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cxnSp>
        <p:nvCxnSpPr>
          <p:cNvPr id="511" name=""/>
          <p:cNvCxnSpPr>
            <a:stCxn id="497" idx="3"/>
          </p:cNvCxnSpPr>
          <p:nvPr/>
        </p:nvCxnSpPr>
        <p:spPr>
          <a:xfrm>
            <a:off x="7956360" y="1521000"/>
            <a:ext cx="937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12" name=""/>
          <p:cNvGrpSpPr/>
          <p:nvPr/>
        </p:nvGrpSpPr>
        <p:grpSpPr>
          <a:xfrm>
            <a:off x="2724120" y="1052640"/>
            <a:ext cx="573120" cy="934920"/>
            <a:chOff x="2724120" y="1052640"/>
            <a:chExt cx="573120" cy="934920"/>
          </a:xfrm>
        </p:grpSpPr>
        <p:sp>
          <p:nvSpPr>
            <p:cNvPr id="513" name=""/>
            <p:cNvSpPr/>
            <p:nvPr/>
          </p:nvSpPr>
          <p:spPr>
            <a:xfrm>
              <a:off x="2724120" y="1052640"/>
              <a:ext cx="573120" cy="93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graphicFrame>
          <p:nvGraphicFramePr>
            <p:cNvPr id="514" name=""/>
            <p:cNvGraphicFramePr/>
            <p:nvPr/>
          </p:nvGraphicFramePr>
          <p:xfrm>
            <a:off x="2865600" y="1238400"/>
            <a:ext cx="290520" cy="563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1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865600" y="1238400"/>
                      <a:ext cx="290520" cy="5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cxnSp>
        <p:nvCxnSpPr>
          <p:cNvPr id="516" name=""/>
          <p:cNvCxnSpPr>
            <a:stCxn id="493" idx="3"/>
            <a:endCxn id="513" idx="1"/>
          </p:cNvCxnSpPr>
          <p:nvPr/>
        </p:nvCxnSpPr>
        <p:spPr>
          <a:xfrm>
            <a:off x="2123640" y="1521000"/>
            <a:ext cx="600840" cy="21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17" name=""/>
          <p:cNvCxnSpPr>
            <a:stCxn id="513" idx="3"/>
            <a:endCxn id="506" idx="1"/>
          </p:cNvCxnSpPr>
          <p:nvPr/>
        </p:nvCxnSpPr>
        <p:spPr>
          <a:xfrm>
            <a:off x="3298320" y="1521000"/>
            <a:ext cx="600840" cy="21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grpSp>
        <p:nvGrpSpPr>
          <p:cNvPr id="518" name=""/>
          <p:cNvGrpSpPr/>
          <p:nvPr/>
        </p:nvGrpSpPr>
        <p:grpSpPr>
          <a:xfrm>
            <a:off x="3898800" y="1052640"/>
            <a:ext cx="1727280" cy="934920"/>
            <a:chOff x="3898800" y="1052640"/>
            <a:chExt cx="1727280" cy="934920"/>
          </a:xfrm>
        </p:grpSpPr>
        <p:grpSp>
          <p:nvGrpSpPr>
            <p:cNvPr id="519" name=""/>
            <p:cNvGrpSpPr/>
            <p:nvPr/>
          </p:nvGrpSpPr>
          <p:grpSpPr>
            <a:xfrm>
              <a:off x="3898800" y="1052640"/>
              <a:ext cx="1727280" cy="934920"/>
              <a:chOff x="3898800" y="1052640"/>
              <a:chExt cx="1727280" cy="934920"/>
            </a:xfrm>
          </p:grpSpPr>
          <p:sp>
            <p:nvSpPr>
              <p:cNvPr id="506" name=""/>
              <p:cNvSpPr/>
              <p:nvPr/>
            </p:nvSpPr>
            <p:spPr>
              <a:xfrm>
                <a:off x="3898800" y="1052640"/>
                <a:ext cx="1727280" cy="93492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986280" y="1125360"/>
                <a:ext cx="1552680" cy="79092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  <p:pic>
          <p:nvPicPr>
            <p:cNvPr id="521" name="" descr=""/>
            <p:cNvPicPr/>
            <p:nvPr/>
          </p:nvPicPr>
          <p:blipFill>
            <a:blip r:embed="rId8"/>
            <a:stretch/>
          </p:blipFill>
          <p:spPr>
            <a:xfrm>
              <a:off x="4275000" y="1155600"/>
              <a:ext cx="974880" cy="72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2" name=""/>
          <p:cNvGrpSpPr/>
          <p:nvPr/>
        </p:nvGrpSpPr>
        <p:grpSpPr>
          <a:xfrm>
            <a:off x="4572000" y="1125360"/>
            <a:ext cx="201600" cy="459000"/>
            <a:chOff x="4572000" y="1125360"/>
            <a:chExt cx="201600" cy="459000"/>
          </a:xfrm>
        </p:grpSpPr>
        <p:graphicFrame>
          <p:nvGraphicFramePr>
            <p:cNvPr id="523" name=""/>
            <p:cNvGraphicFramePr/>
            <p:nvPr/>
          </p:nvGraphicFramePr>
          <p:xfrm>
            <a:off x="4572000" y="1125360"/>
            <a:ext cx="201600" cy="238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2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572000" y="1125360"/>
                      <a:ext cx="201600" cy="23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5" name=""/>
            <p:cNvSpPr/>
            <p:nvPr/>
          </p:nvSpPr>
          <p:spPr>
            <a:xfrm>
              <a:off x="4572000" y="1125360"/>
              <a:ext cx="20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graphicFrame>
        <p:nvGraphicFramePr>
          <p:cNvPr id="526" name=""/>
          <p:cNvGraphicFramePr/>
          <p:nvPr/>
        </p:nvGraphicFramePr>
        <p:xfrm>
          <a:off x="5160960" y="1557360"/>
          <a:ext cx="203040" cy="29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60960" y="1557360"/>
                    <a:ext cx="20304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685800" y="4208400"/>
          <a:ext cx="3525840" cy="178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" y="4208400"/>
                    <a:ext cx="352584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4814640" y="393696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000" spc="-1" strike="noStrike" u="sng">
                <a:solidFill>
                  <a:srgbClr val="3399ff"/>
                </a:solidFill>
                <a:uFillTx/>
                <a:latin typeface="Tahoma"/>
              </a:rPr>
              <a:t>Properties</a:t>
            </a:r>
            <a:endParaRPr b="1" i="1" lang="en-US" sz="2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531" name=""/>
          <p:cNvSpPr/>
          <p:nvPr/>
        </p:nvSpPr>
        <p:spPr>
          <a:xfrm>
            <a:off x="4952880" y="4317840"/>
            <a:ext cx="401184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The model is 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</a:rPr>
              <a:t>positive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br>
              <a:rPr sz="1800"/>
            </a:b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en-US" sz="1400" spc="-1" strike="noStrike" u="sng">
                <a:solidFill>
                  <a:srgbClr val="3333cc"/>
                </a:solidFill>
                <a:uFillTx/>
                <a:latin typeface="Tahoma"/>
              </a:rPr>
              <a:t>(the movement remains non negative </a:t>
            </a:r>
            <a:r>
              <a:rPr b="1" i="1" lang="en-US" sz="14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en-US" sz="1400" spc="-1" strike="noStrike" u="sng">
                <a:solidFill>
                  <a:srgbClr val="3333cc"/>
                </a:solidFill>
                <a:uFillTx/>
                <a:latin typeface="Tahoma"/>
              </a:rPr>
              <a:t>if the initial state is non negative)</a:t>
            </a:r>
            <a:endParaRPr b="1" i="1" lang="en-US" sz="14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spcBef>
                <a:spcPts val="437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The movement is 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</a:rPr>
              <a:t>limited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br>
              <a:rPr sz="1800"/>
            </a:b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en-US" sz="1400" spc="-1" strike="noStrike" u="sng">
                <a:solidFill>
                  <a:srgbClr val="3333cc"/>
                </a:solidFill>
                <a:uFillTx/>
                <a:latin typeface="Tahoma"/>
              </a:rPr>
              <a:t>(</a:t>
            </a:r>
            <a:r>
              <a:rPr b="1" i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1400" spc="-1" strike="noStrike" u="sng">
                <a:solidFill>
                  <a:srgbClr val="3333cc"/>
                </a:solidFill>
                <a:uFillTx/>
                <a:latin typeface="Tahoma"/>
              </a:rPr>
              <a:t> e </a:t>
            </a:r>
            <a:r>
              <a:rPr b="1" i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</a:t>
            </a:r>
            <a:r>
              <a:rPr b="1" i="1" lang="en-US" sz="1400" spc="-1" strike="noStrike" u="sng">
                <a:solidFill>
                  <a:srgbClr val="3333cc"/>
                </a:solidFill>
                <a:uFillTx/>
                <a:latin typeface="Tahoma"/>
              </a:rPr>
              <a:t> don’t tend to infinity)</a:t>
            </a:r>
            <a:endParaRPr b="1" i="1" lang="en-US" sz="1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532" name=""/>
          <p:cNvSpPr/>
          <p:nvPr/>
        </p:nvSpPr>
        <p:spPr>
          <a:xfrm>
            <a:off x="707760" y="3860640"/>
            <a:ext cx="18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000" spc="-1" strike="noStrike" u="sng">
                <a:solidFill>
                  <a:srgbClr val="3399ff"/>
                </a:solidFill>
                <a:uFillTx/>
                <a:latin typeface="Tahoma"/>
              </a:rPr>
              <a:t>The equations</a:t>
            </a:r>
            <a:endParaRPr b="1" i="1" lang="en-US" sz="2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 fill="hold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 fill="hold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Analysis of the model via simulation</a:t>
            </a:r>
            <a:endParaRPr b="1" i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501440" y="3962160"/>
            <a:ext cx="2934360" cy="2745000"/>
            <a:chOff x="4501440" y="3962160"/>
            <a:chExt cx="2934360" cy="2745000"/>
          </a:xfrm>
        </p:grpSpPr>
        <p:sp>
          <p:nvSpPr>
            <p:cNvPr id="535" name=""/>
            <p:cNvSpPr/>
            <p:nvPr/>
          </p:nvSpPr>
          <p:spPr>
            <a:xfrm>
              <a:off x="5135400" y="3963960"/>
              <a:ext cx="2300400" cy="2296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35400" y="6262560"/>
              <a:ext cx="23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5135400" y="3962160"/>
              <a:ext cx="1800" cy="23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35400" y="6262560"/>
              <a:ext cx="1800" cy="2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03720" y="630864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ahoma"/>
                </a:rPr>
                <a:t>0</a:t>
              </a:r>
              <a:endParaRPr b="1" i="1" lang="en-US" sz="14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64120" y="4122720"/>
              <a:ext cx="1144800" cy="1833480"/>
            </a:xfrm>
            <a:custGeom>
              <a:avLst/>
              <a:gdLst/>
              <a:ahLst/>
              <a:rect l="l" t="t" r="r" b="b"/>
              <a:pathLst>
                <a:path w="597" h="956">
                  <a:moveTo>
                    <a:pt x="123" y="956"/>
                  </a:moveTo>
                  <a:lnTo>
                    <a:pt x="107" y="956"/>
                  </a:lnTo>
                  <a:lnTo>
                    <a:pt x="91" y="956"/>
                  </a:lnTo>
                  <a:lnTo>
                    <a:pt x="71" y="952"/>
                  </a:lnTo>
                  <a:lnTo>
                    <a:pt x="55" y="948"/>
                  </a:lnTo>
                  <a:lnTo>
                    <a:pt x="40" y="937"/>
                  </a:lnTo>
                  <a:lnTo>
                    <a:pt x="28" y="925"/>
                  </a:lnTo>
                  <a:lnTo>
                    <a:pt x="16" y="901"/>
                  </a:lnTo>
                  <a:lnTo>
                    <a:pt x="8" y="873"/>
                  </a:lnTo>
                  <a:lnTo>
                    <a:pt x="4" y="834"/>
                  </a:lnTo>
                  <a:lnTo>
                    <a:pt x="0" y="778"/>
                  </a:lnTo>
                  <a:lnTo>
                    <a:pt x="4" y="731"/>
                  </a:lnTo>
                  <a:lnTo>
                    <a:pt x="8" y="660"/>
                  </a:lnTo>
                  <a:lnTo>
                    <a:pt x="20" y="593"/>
                  </a:lnTo>
                  <a:lnTo>
                    <a:pt x="28" y="533"/>
                  </a:lnTo>
                  <a:lnTo>
                    <a:pt x="43" y="470"/>
                  </a:lnTo>
                  <a:lnTo>
                    <a:pt x="63" y="411"/>
                  </a:lnTo>
                  <a:lnTo>
                    <a:pt x="91" y="340"/>
                  </a:lnTo>
                  <a:lnTo>
                    <a:pt x="115" y="292"/>
                  </a:lnTo>
                  <a:lnTo>
                    <a:pt x="142" y="241"/>
                  </a:lnTo>
                  <a:lnTo>
                    <a:pt x="170" y="205"/>
                  </a:lnTo>
                  <a:lnTo>
                    <a:pt x="198" y="166"/>
                  </a:lnTo>
                  <a:lnTo>
                    <a:pt x="225" y="138"/>
                  </a:lnTo>
                  <a:lnTo>
                    <a:pt x="253" y="110"/>
                  </a:lnTo>
                  <a:lnTo>
                    <a:pt x="281" y="87"/>
                  </a:lnTo>
                  <a:lnTo>
                    <a:pt x="308" y="67"/>
                  </a:lnTo>
                  <a:lnTo>
                    <a:pt x="336" y="47"/>
                  </a:lnTo>
                  <a:lnTo>
                    <a:pt x="364" y="35"/>
                  </a:lnTo>
                  <a:lnTo>
                    <a:pt x="391" y="24"/>
                  </a:lnTo>
                  <a:lnTo>
                    <a:pt x="415" y="12"/>
                  </a:lnTo>
                  <a:lnTo>
                    <a:pt x="439" y="8"/>
                  </a:lnTo>
                  <a:lnTo>
                    <a:pt x="463" y="4"/>
                  </a:lnTo>
                  <a:lnTo>
                    <a:pt x="486" y="0"/>
                  </a:lnTo>
                  <a:lnTo>
                    <a:pt x="506" y="4"/>
                  </a:lnTo>
                  <a:lnTo>
                    <a:pt x="522" y="8"/>
                  </a:lnTo>
                  <a:lnTo>
                    <a:pt x="542" y="16"/>
                  </a:lnTo>
                  <a:lnTo>
                    <a:pt x="554" y="24"/>
                  </a:lnTo>
                  <a:lnTo>
                    <a:pt x="569" y="39"/>
                  </a:lnTo>
                  <a:lnTo>
                    <a:pt x="577" y="55"/>
                  </a:lnTo>
                  <a:lnTo>
                    <a:pt x="589" y="79"/>
                  </a:lnTo>
                  <a:lnTo>
                    <a:pt x="593" y="107"/>
                  </a:lnTo>
                  <a:lnTo>
                    <a:pt x="597" y="142"/>
                  </a:lnTo>
                  <a:lnTo>
                    <a:pt x="593" y="182"/>
                  </a:lnTo>
                  <a:lnTo>
                    <a:pt x="589" y="229"/>
                  </a:lnTo>
                  <a:lnTo>
                    <a:pt x="581" y="276"/>
                  </a:lnTo>
                  <a:lnTo>
                    <a:pt x="573" y="332"/>
                  </a:lnTo>
                  <a:lnTo>
                    <a:pt x="557" y="391"/>
                  </a:lnTo>
                  <a:lnTo>
                    <a:pt x="542" y="450"/>
                  </a:lnTo>
                  <a:lnTo>
                    <a:pt x="522" y="514"/>
                  </a:lnTo>
                  <a:lnTo>
                    <a:pt x="494" y="585"/>
                  </a:lnTo>
                  <a:lnTo>
                    <a:pt x="474" y="632"/>
                  </a:lnTo>
                  <a:lnTo>
                    <a:pt x="443" y="684"/>
                  </a:lnTo>
                  <a:lnTo>
                    <a:pt x="419" y="727"/>
                  </a:lnTo>
                  <a:lnTo>
                    <a:pt x="387" y="771"/>
                  </a:lnTo>
                  <a:lnTo>
                    <a:pt x="356" y="810"/>
                  </a:lnTo>
                  <a:lnTo>
                    <a:pt x="320" y="846"/>
                  </a:lnTo>
                  <a:lnTo>
                    <a:pt x="281" y="881"/>
                  </a:lnTo>
                  <a:lnTo>
                    <a:pt x="233" y="913"/>
                  </a:lnTo>
                  <a:lnTo>
                    <a:pt x="194" y="933"/>
                  </a:lnTo>
                  <a:lnTo>
                    <a:pt x="150" y="948"/>
                  </a:lnTo>
                  <a:lnTo>
                    <a:pt x="123" y="952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80280" y="4329000"/>
              <a:ext cx="660240" cy="1506960"/>
            </a:xfrm>
            <a:custGeom>
              <a:avLst/>
              <a:gdLst/>
              <a:ahLst/>
              <a:rect l="l" t="t" r="r" b="b"/>
              <a:pathLst>
                <a:path w="344" h="786">
                  <a:moveTo>
                    <a:pt x="0" y="786"/>
                  </a:moveTo>
                  <a:lnTo>
                    <a:pt x="48" y="754"/>
                  </a:lnTo>
                  <a:lnTo>
                    <a:pt x="83" y="723"/>
                  </a:lnTo>
                  <a:lnTo>
                    <a:pt x="123" y="679"/>
                  </a:lnTo>
                  <a:lnTo>
                    <a:pt x="155" y="640"/>
                  </a:lnTo>
                  <a:lnTo>
                    <a:pt x="182" y="596"/>
                  </a:lnTo>
                  <a:lnTo>
                    <a:pt x="210" y="549"/>
                  </a:lnTo>
                  <a:lnTo>
                    <a:pt x="234" y="501"/>
                  </a:lnTo>
                  <a:lnTo>
                    <a:pt x="253" y="450"/>
                  </a:lnTo>
                  <a:lnTo>
                    <a:pt x="277" y="395"/>
                  </a:lnTo>
                  <a:lnTo>
                    <a:pt x="297" y="328"/>
                  </a:lnTo>
                  <a:lnTo>
                    <a:pt x="309" y="288"/>
                  </a:lnTo>
                  <a:lnTo>
                    <a:pt x="325" y="237"/>
                  </a:lnTo>
                  <a:lnTo>
                    <a:pt x="333" y="201"/>
                  </a:lnTo>
                  <a:lnTo>
                    <a:pt x="337" y="162"/>
                  </a:lnTo>
                  <a:lnTo>
                    <a:pt x="340" y="130"/>
                  </a:lnTo>
                  <a:lnTo>
                    <a:pt x="344" y="98"/>
                  </a:lnTo>
                  <a:lnTo>
                    <a:pt x="344" y="71"/>
                  </a:lnTo>
                  <a:lnTo>
                    <a:pt x="340" y="47"/>
                  </a:lnTo>
                  <a:lnTo>
                    <a:pt x="337" y="27"/>
                  </a:lnTo>
                  <a:lnTo>
                    <a:pt x="325" y="15"/>
                  </a:lnTo>
                  <a:lnTo>
                    <a:pt x="317" y="3"/>
                  </a:lnTo>
                  <a:lnTo>
                    <a:pt x="301" y="0"/>
                  </a:lnTo>
                  <a:lnTo>
                    <a:pt x="285" y="3"/>
                  </a:lnTo>
                  <a:lnTo>
                    <a:pt x="269" y="7"/>
                  </a:lnTo>
                  <a:lnTo>
                    <a:pt x="261" y="11"/>
                  </a:lnTo>
                  <a:lnTo>
                    <a:pt x="253" y="15"/>
                  </a:lnTo>
                  <a:lnTo>
                    <a:pt x="250" y="23"/>
                  </a:lnTo>
                  <a:lnTo>
                    <a:pt x="238" y="31"/>
                  </a:lnTo>
                  <a:lnTo>
                    <a:pt x="226" y="47"/>
                  </a:lnTo>
                  <a:lnTo>
                    <a:pt x="210" y="63"/>
                  </a:lnTo>
                  <a:lnTo>
                    <a:pt x="198" y="86"/>
                  </a:lnTo>
                  <a:lnTo>
                    <a:pt x="182" y="114"/>
                  </a:lnTo>
                  <a:lnTo>
                    <a:pt x="170" y="146"/>
                  </a:lnTo>
                  <a:lnTo>
                    <a:pt x="159" y="177"/>
                  </a:lnTo>
                  <a:lnTo>
                    <a:pt x="147" y="213"/>
                  </a:lnTo>
                  <a:lnTo>
                    <a:pt x="139" y="245"/>
                  </a:lnTo>
                  <a:lnTo>
                    <a:pt x="135" y="280"/>
                  </a:lnTo>
                  <a:lnTo>
                    <a:pt x="131" y="324"/>
                  </a:lnTo>
                  <a:lnTo>
                    <a:pt x="127" y="347"/>
                  </a:lnTo>
                  <a:lnTo>
                    <a:pt x="131" y="371"/>
                  </a:lnTo>
                  <a:lnTo>
                    <a:pt x="135" y="387"/>
                  </a:lnTo>
                  <a:lnTo>
                    <a:pt x="139" y="399"/>
                  </a:lnTo>
                  <a:lnTo>
                    <a:pt x="147" y="403"/>
                  </a:lnTo>
                  <a:lnTo>
                    <a:pt x="155" y="407"/>
                  </a:lnTo>
                  <a:lnTo>
                    <a:pt x="166" y="399"/>
                  </a:lnTo>
                  <a:lnTo>
                    <a:pt x="182" y="391"/>
                  </a:lnTo>
                  <a:lnTo>
                    <a:pt x="194" y="375"/>
                  </a:lnTo>
                  <a:lnTo>
                    <a:pt x="206" y="355"/>
                  </a:lnTo>
                  <a:lnTo>
                    <a:pt x="218" y="335"/>
                  </a:lnTo>
                  <a:lnTo>
                    <a:pt x="230" y="316"/>
                  </a:lnTo>
                  <a:lnTo>
                    <a:pt x="242" y="292"/>
                  </a:lnTo>
                  <a:lnTo>
                    <a:pt x="250" y="272"/>
                  </a:lnTo>
                  <a:lnTo>
                    <a:pt x="257" y="252"/>
                  </a:lnTo>
                  <a:lnTo>
                    <a:pt x="265" y="233"/>
                  </a:lnTo>
                  <a:lnTo>
                    <a:pt x="269" y="217"/>
                  </a:lnTo>
                  <a:lnTo>
                    <a:pt x="273" y="201"/>
                  </a:lnTo>
                  <a:lnTo>
                    <a:pt x="273" y="162"/>
                  </a:lnTo>
                  <a:lnTo>
                    <a:pt x="269" y="158"/>
                  </a:lnTo>
                  <a:lnTo>
                    <a:pt x="265" y="158"/>
                  </a:lnTo>
                  <a:lnTo>
                    <a:pt x="261" y="158"/>
                  </a:lnTo>
                  <a:lnTo>
                    <a:pt x="257" y="162"/>
                  </a:lnTo>
                  <a:lnTo>
                    <a:pt x="253" y="166"/>
                  </a:lnTo>
                  <a:lnTo>
                    <a:pt x="250" y="177"/>
                  </a:lnTo>
                  <a:lnTo>
                    <a:pt x="246" y="181"/>
                  </a:lnTo>
                  <a:lnTo>
                    <a:pt x="246" y="185"/>
                  </a:lnTo>
                  <a:lnTo>
                    <a:pt x="242" y="189"/>
                  </a:lnTo>
                  <a:lnTo>
                    <a:pt x="242" y="193"/>
                  </a:lnTo>
                  <a:lnTo>
                    <a:pt x="238" y="201"/>
                  </a:lnTo>
                  <a:lnTo>
                    <a:pt x="238" y="209"/>
                  </a:lnTo>
                  <a:lnTo>
                    <a:pt x="234" y="217"/>
                  </a:lnTo>
                  <a:lnTo>
                    <a:pt x="234" y="229"/>
                  </a:lnTo>
                  <a:lnTo>
                    <a:pt x="238" y="233"/>
                  </a:lnTo>
                  <a:lnTo>
                    <a:pt x="242" y="229"/>
                  </a:lnTo>
                  <a:lnTo>
                    <a:pt x="246" y="225"/>
                  </a:lnTo>
                  <a:lnTo>
                    <a:pt x="250" y="221"/>
                  </a:lnTo>
                  <a:lnTo>
                    <a:pt x="250" y="213"/>
                  </a:lnTo>
                  <a:lnTo>
                    <a:pt x="253" y="209"/>
                  </a:lnTo>
                  <a:lnTo>
                    <a:pt x="253" y="197"/>
                  </a:lnTo>
                  <a:lnTo>
                    <a:pt x="250" y="201"/>
                  </a:lnTo>
                  <a:lnTo>
                    <a:pt x="246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789520" y="4162320"/>
              <a:ext cx="1351080" cy="2014560"/>
            </a:xfrm>
            <a:custGeom>
              <a:avLst/>
              <a:gdLst/>
              <a:ahLst/>
              <a:rect l="l" t="t" r="r" b="b"/>
              <a:pathLst>
                <a:path w="704" h="1051">
                  <a:moveTo>
                    <a:pt x="704" y="964"/>
                  </a:moveTo>
                  <a:lnTo>
                    <a:pt x="664" y="976"/>
                  </a:lnTo>
                  <a:lnTo>
                    <a:pt x="641" y="980"/>
                  </a:lnTo>
                  <a:lnTo>
                    <a:pt x="593" y="992"/>
                  </a:lnTo>
                  <a:lnTo>
                    <a:pt x="561" y="1000"/>
                  </a:lnTo>
                  <a:lnTo>
                    <a:pt x="514" y="1011"/>
                  </a:lnTo>
                  <a:lnTo>
                    <a:pt x="478" y="1019"/>
                  </a:lnTo>
                  <a:lnTo>
                    <a:pt x="427" y="1027"/>
                  </a:lnTo>
                  <a:lnTo>
                    <a:pt x="391" y="1035"/>
                  </a:lnTo>
                  <a:lnTo>
                    <a:pt x="344" y="1039"/>
                  </a:lnTo>
                  <a:lnTo>
                    <a:pt x="304" y="1043"/>
                  </a:lnTo>
                  <a:lnTo>
                    <a:pt x="257" y="1047"/>
                  </a:lnTo>
                  <a:lnTo>
                    <a:pt x="221" y="1051"/>
                  </a:lnTo>
                  <a:lnTo>
                    <a:pt x="182" y="1051"/>
                  </a:lnTo>
                  <a:lnTo>
                    <a:pt x="146" y="1047"/>
                  </a:lnTo>
                  <a:lnTo>
                    <a:pt x="115" y="1043"/>
                  </a:lnTo>
                  <a:lnTo>
                    <a:pt x="87" y="1035"/>
                  </a:lnTo>
                  <a:lnTo>
                    <a:pt x="59" y="1019"/>
                  </a:lnTo>
                  <a:lnTo>
                    <a:pt x="36" y="1000"/>
                  </a:lnTo>
                  <a:lnTo>
                    <a:pt x="20" y="976"/>
                  </a:lnTo>
                  <a:lnTo>
                    <a:pt x="12" y="940"/>
                  </a:lnTo>
                  <a:lnTo>
                    <a:pt x="4" y="893"/>
                  </a:lnTo>
                  <a:lnTo>
                    <a:pt x="0" y="837"/>
                  </a:lnTo>
                  <a:lnTo>
                    <a:pt x="4" y="782"/>
                  </a:lnTo>
                  <a:lnTo>
                    <a:pt x="8" y="711"/>
                  </a:lnTo>
                  <a:lnTo>
                    <a:pt x="20" y="640"/>
                  </a:lnTo>
                  <a:lnTo>
                    <a:pt x="32" y="581"/>
                  </a:lnTo>
                  <a:lnTo>
                    <a:pt x="47" y="513"/>
                  </a:lnTo>
                  <a:lnTo>
                    <a:pt x="63" y="450"/>
                  </a:lnTo>
                  <a:lnTo>
                    <a:pt x="99" y="367"/>
                  </a:lnTo>
                  <a:lnTo>
                    <a:pt x="119" y="320"/>
                  </a:lnTo>
                  <a:lnTo>
                    <a:pt x="150" y="264"/>
                  </a:lnTo>
                  <a:lnTo>
                    <a:pt x="178" y="225"/>
                  </a:lnTo>
                  <a:lnTo>
                    <a:pt x="210" y="181"/>
                  </a:lnTo>
                  <a:lnTo>
                    <a:pt x="237" y="150"/>
                  </a:lnTo>
                  <a:lnTo>
                    <a:pt x="269" y="114"/>
                  </a:lnTo>
                  <a:lnTo>
                    <a:pt x="301" y="90"/>
                  </a:lnTo>
                  <a:lnTo>
                    <a:pt x="332" y="63"/>
                  </a:lnTo>
                  <a:lnTo>
                    <a:pt x="360" y="43"/>
                  </a:lnTo>
                  <a:lnTo>
                    <a:pt x="391" y="27"/>
                  </a:lnTo>
                  <a:lnTo>
                    <a:pt x="419" y="11"/>
                  </a:lnTo>
                  <a:lnTo>
                    <a:pt x="44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45400" y="4714200"/>
              <a:ext cx="20520" cy="21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50680" y="6338880"/>
              <a:ext cx="181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Satisfaction (</a:t>
              </a: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S</a:t>
              </a: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)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01440" y="4275720"/>
              <a:ext cx="4546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Creativity (</a:t>
              </a: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</a:t>
              </a: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)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13720" y="4693680"/>
              <a:ext cx="80640" cy="8064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883120" y="4952160"/>
              <a:ext cx="74880" cy="153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697800" y="4490640"/>
              <a:ext cx="50760" cy="163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5977080" y="5323320"/>
              <a:ext cx="7920" cy="171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363600" y="3048120"/>
            <a:ext cx="6932160" cy="3659040"/>
            <a:chOff x="363600" y="3048120"/>
            <a:chExt cx="6932160" cy="3659040"/>
          </a:xfrm>
        </p:grpSpPr>
        <p:sp>
          <p:nvSpPr>
            <p:cNvPr id="551" name=""/>
            <p:cNvSpPr/>
            <p:nvPr/>
          </p:nvSpPr>
          <p:spPr>
            <a:xfrm>
              <a:off x="545040" y="3048120"/>
              <a:ext cx="133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2000" spc="-1" strike="noStrike" u="sng">
                  <a:solidFill>
                    <a:srgbClr val="3399ff"/>
                  </a:solidFill>
                  <a:uFillTx/>
                  <a:latin typeface="Tahoma"/>
                </a:rPr>
                <a:t>Equilibria</a:t>
              </a:r>
              <a:endParaRPr b="1" i="1" lang="en-US" sz="20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63600" y="3443400"/>
              <a:ext cx="693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 </a:t>
              </a: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The model has a unique equilibrium that is positive. It can be: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842400" y="3776760"/>
              <a:ext cx="3042360" cy="2930400"/>
              <a:chOff x="842400" y="3776760"/>
              <a:chExt cx="3042360" cy="2930400"/>
            </a:xfrm>
          </p:grpSpPr>
          <p:sp>
            <p:nvSpPr>
              <p:cNvPr id="554" name=""/>
              <p:cNvSpPr/>
              <p:nvPr/>
            </p:nvSpPr>
            <p:spPr>
              <a:xfrm>
                <a:off x="1398600" y="6257880"/>
                <a:ext cx="248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1398600" y="4206600"/>
                <a:ext cx="0" cy="20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98600" y="6257880"/>
                <a:ext cx="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65120" y="6308640"/>
                <a:ext cx="98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4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0</a:t>
                </a:r>
                <a:endParaRPr b="1" i="1" lang="en-US" sz="14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98600" y="5170320"/>
                <a:ext cx="687240" cy="1086120"/>
              </a:xfrm>
              <a:custGeom>
                <a:avLst/>
                <a:gdLst/>
                <a:ahLst/>
                <a:rect l="l" t="t" r="r" b="b"/>
                <a:pathLst>
                  <a:path w="437" h="685">
                    <a:moveTo>
                      <a:pt x="0" y="685"/>
                    </a:moveTo>
                    <a:lnTo>
                      <a:pt x="0" y="575"/>
                    </a:lnTo>
                    <a:lnTo>
                      <a:pt x="6" y="513"/>
                    </a:lnTo>
                    <a:lnTo>
                      <a:pt x="16" y="460"/>
                    </a:lnTo>
                    <a:lnTo>
                      <a:pt x="26" y="398"/>
                    </a:lnTo>
                    <a:lnTo>
                      <a:pt x="42" y="345"/>
                    </a:lnTo>
                    <a:lnTo>
                      <a:pt x="58" y="288"/>
                    </a:lnTo>
                    <a:lnTo>
                      <a:pt x="78" y="241"/>
                    </a:lnTo>
                    <a:lnTo>
                      <a:pt x="99" y="199"/>
                    </a:lnTo>
                    <a:lnTo>
                      <a:pt x="120" y="162"/>
                    </a:lnTo>
                    <a:lnTo>
                      <a:pt x="141" y="126"/>
                    </a:lnTo>
                    <a:lnTo>
                      <a:pt x="167" y="100"/>
                    </a:lnTo>
                    <a:lnTo>
                      <a:pt x="188" y="74"/>
                    </a:lnTo>
                    <a:lnTo>
                      <a:pt x="214" y="53"/>
                    </a:lnTo>
                    <a:lnTo>
                      <a:pt x="235" y="37"/>
                    </a:lnTo>
                    <a:lnTo>
                      <a:pt x="255" y="27"/>
                    </a:lnTo>
                    <a:lnTo>
                      <a:pt x="276" y="16"/>
                    </a:lnTo>
                    <a:lnTo>
                      <a:pt x="297" y="11"/>
                    </a:lnTo>
                    <a:lnTo>
                      <a:pt x="313" y="6"/>
                    </a:lnTo>
                    <a:lnTo>
                      <a:pt x="328" y="0"/>
                    </a:lnTo>
                    <a:lnTo>
                      <a:pt x="344" y="0"/>
                    </a:lnTo>
                    <a:lnTo>
                      <a:pt x="359" y="0"/>
                    </a:lnTo>
                    <a:lnTo>
                      <a:pt x="370" y="0"/>
                    </a:lnTo>
                    <a:lnTo>
                      <a:pt x="380" y="0"/>
                    </a:lnTo>
                    <a:lnTo>
                      <a:pt x="391" y="6"/>
                    </a:lnTo>
                    <a:lnTo>
                      <a:pt x="401" y="6"/>
                    </a:lnTo>
                    <a:lnTo>
                      <a:pt x="406" y="6"/>
                    </a:lnTo>
                    <a:lnTo>
                      <a:pt x="417" y="11"/>
                    </a:lnTo>
                    <a:lnTo>
                      <a:pt x="422" y="16"/>
                    </a:lnTo>
                    <a:lnTo>
                      <a:pt x="427" y="16"/>
                    </a:lnTo>
                    <a:lnTo>
                      <a:pt x="432" y="21"/>
                    </a:lnTo>
                    <a:lnTo>
                      <a:pt x="437" y="2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087640" y="4979880"/>
                <a:ext cx="1582560" cy="405000"/>
              </a:xfrm>
              <a:custGeom>
                <a:avLst/>
                <a:gdLst/>
                <a:ahLst/>
                <a:rect l="l" t="t" r="r" b="b"/>
                <a:pathLst>
                  <a:path w="1004" h="256">
                    <a:moveTo>
                      <a:pt x="1004" y="0"/>
                    </a:moveTo>
                    <a:lnTo>
                      <a:pt x="994" y="5"/>
                    </a:lnTo>
                    <a:lnTo>
                      <a:pt x="963" y="32"/>
                    </a:lnTo>
                    <a:lnTo>
                      <a:pt x="931" y="52"/>
                    </a:lnTo>
                    <a:lnTo>
                      <a:pt x="890" y="84"/>
                    </a:lnTo>
                    <a:lnTo>
                      <a:pt x="848" y="110"/>
                    </a:lnTo>
                    <a:lnTo>
                      <a:pt x="796" y="141"/>
                    </a:lnTo>
                    <a:lnTo>
                      <a:pt x="749" y="167"/>
                    </a:lnTo>
                    <a:lnTo>
                      <a:pt x="692" y="194"/>
                    </a:lnTo>
                    <a:lnTo>
                      <a:pt x="640" y="209"/>
                    </a:lnTo>
                    <a:lnTo>
                      <a:pt x="583" y="230"/>
                    </a:lnTo>
                    <a:lnTo>
                      <a:pt x="531" y="241"/>
                    </a:lnTo>
                    <a:lnTo>
                      <a:pt x="479" y="251"/>
                    </a:lnTo>
                    <a:lnTo>
                      <a:pt x="427" y="256"/>
                    </a:lnTo>
                    <a:lnTo>
                      <a:pt x="380" y="256"/>
                    </a:lnTo>
                    <a:lnTo>
                      <a:pt x="333" y="256"/>
                    </a:lnTo>
                    <a:lnTo>
                      <a:pt x="292" y="256"/>
                    </a:lnTo>
                    <a:lnTo>
                      <a:pt x="255" y="251"/>
                    </a:lnTo>
                    <a:lnTo>
                      <a:pt x="219" y="241"/>
                    </a:lnTo>
                    <a:lnTo>
                      <a:pt x="188" y="235"/>
                    </a:lnTo>
                    <a:lnTo>
                      <a:pt x="156" y="225"/>
                    </a:lnTo>
                    <a:lnTo>
                      <a:pt x="130" y="220"/>
                    </a:lnTo>
                    <a:lnTo>
                      <a:pt x="110" y="209"/>
                    </a:lnTo>
                    <a:lnTo>
                      <a:pt x="89" y="199"/>
                    </a:lnTo>
                    <a:lnTo>
                      <a:pt x="68" y="194"/>
                    </a:lnTo>
                    <a:lnTo>
                      <a:pt x="58" y="183"/>
                    </a:lnTo>
                    <a:lnTo>
                      <a:pt x="42" y="178"/>
                    </a:lnTo>
                    <a:lnTo>
                      <a:pt x="32" y="173"/>
                    </a:lnTo>
                    <a:lnTo>
                      <a:pt x="26" y="162"/>
                    </a:lnTo>
                    <a:lnTo>
                      <a:pt x="16" y="162"/>
                    </a:lnTo>
                    <a:lnTo>
                      <a:pt x="6" y="152"/>
                    </a:lnTo>
                    <a:lnTo>
                      <a:pt x="6" y="147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030400" y="5203800"/>
                <a:ext cx="277920" cy="911160"/>
              </a:xfrm>
              <a:custGeom>
                <a:avLst/>
                <a:gdLst/>
                <a:ahLst/>
                <a:rect l="l" t="t" r="r" b="b"/>
                <a:pathLst>
                  <a:path w="177" h="575">
                    <a:moveTo>
                      <a:pt x="177" y="575"/>
                    </a:moveTo>
                    <a:lnTo>
                      <a:pt x="172" y="565"/>
                    </a:lnTo>
                    <a:lnTo>
                      <a:pt x="151" y="528"/>
                    </a:lnTo>
                    <a:lnTo>
                      <a:pt x="135" y="497"/>
                    </a:lnTo>
                    <a:lnTo>
                      <a:pt x="109" y="450"/>
                    </a:lnTo>
                    <a:lnTo>
                      <a:pt x="88" y="403"/>
                    </a:lnTo>
                    <a:lnTo>
                      <a:pt x="68" y="356"/>
                    </a:lnTo>
                    <a:lnTo>
                      <a:pt x="52" y="314"/>
                    </a:lnTo>
                    <a:lnTo>
                      <a:pt x="36" y="267"/>
                    </a:lnTo>
                    <a:lnTo>
                      <a:pt x="26" y="225"/>
                    </a:lnTo>
                    <a:lnTo>
                      <a:pt x="16" y="189"/>
                    </a:lnTo>
                    <a:lnTo>
                      <a:pt x="5" y="157"/>
                    </a:lnTo>
                    <a:lnTo>
                      <a:pt x="0" y="126"/>
                    </a:lnTo>
                    <a:lnTo>
                      <a:pt x="0" y="37"/>
                    </a:lnTo>
                    <a:lnTo>
                      <a:pt x="5" y="26"/>
                    </a:lnTo>
                    <a:lnTo>
                      <a:pt x="5" y="21"/>
                    </a:lnTo>
                    <a:lnTo>
                      <a:pt x="10" y="16"/>
                    </a:lnTo>
                    <a:lnTo>
                      <a:pt x="10" y="1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6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15880" y="4275000"/>
                <a:ext cx="669960" cy="927360"/>
              </a:xfrm>
              <a:custGeom>
                <a:avLst/>
                <a:gdLst/>
                <a:ahLst/>
                <a:rect l="l" t="t" r="r" b="b"/>
                <a:pathLst>
                  <a:path w="426" h="585">
                    <a:moveTo>
                      <a:pt x="0" y="0"/>
                    </a:moveTo>
                    <a:lnTo>
                      <a:pt x="10" y="5"/>
                    </a:lnTo>
                    <a:lnTo>
                      <a:pt x="31" y="36"/>
                    </a:lnTo>
                    <a:lnTo>
                      <a:pt x="52" y="68"/>
                    </a:lnTo>
                    <a:lnTo>
                      <a:pt x="83" y="110"/>
                    </a:lnTo>
                    <a:lnTo>
                      <a:pt x="109" y="146"/>
                    </a:lnTo>
                    <a:lnTo>
                      <a:pt x="146" y="188"/>
                    </a:lnTo>
                    <a:lnTo>
                      <a:pt x="172" y="225"/>
                    </a:lnTo>
                    <a:lnTo>
                      <a:pt x="203" y="266"/>
                    </a:lnTo>
                    <a:lnTo>
                      <a:pt x="234" y="303"/>
                    </a:lnTo>
                    <a:lnTo>
                      <a:pt x="260" y="340"/>
                    </a:lnTo>
                    <a:lnTo>
                      <a:pt x="286" y="371"/>
                    </a:lnTo>
                    <a:lnTo>
                      <a:pt x="312" y="402"/>
                    </a:lnTo>
                    <a:lnTo>
                      <a:pt x="328" y="434"/>
                    </a:lnTo>
                    <a:lnTo>
                      <a:pt x="348" y="455"/>
                    </a:lnTo>
                    <a:lnTo>
                      <a:pt x="364" y="481"/>
                    </a:lnTo>
                    <a:lnTo>
                      <a:pt x="374" y="496"/>
                    </a:lnTo>
                    <a:lnTo>
                      <a:pt x="390" y="512"/>
                    </a:lnTo>
                    <a:lnTo>
                      <a:pt x="395" y="528"/>
                    </a:lnTo>
                    <a:lnTo>
                      <a:pt x="406" y="538"/>
                    </a:lnTo>
                    <a:lnTo>
                      <a:pt x="411" y="549"/>
                    </a:lnTo>
                    <a:lnTo>
                      <a:pt x="416" y="559"/>
                    </a:lnTo>
                    <a:lnTo>
                      <a:pt x="416" y="564"/>
                    </a:lnTo>
                    <a:lnTo>
                      <a:pt x="421" y="570"/>
                    </a:lnTo>
                    <a:lnTo>
                      <a:pt x="421" y="580"/>
                    </a:lnTo>
                    <a:lnTo>
                      <a:pt x="426" y="585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87640" y="3776760"/>
                <a:ext cx="671400" cy="1458720"/>
              </a:xfrm>
              <a:custGeom>
                <a:avLst/>
                <a:gdLst/>
                <a:ahLst/>
                <a:rect l="l" t="t" r="r" b="b"/>
                <a:pathLst>
                  <a:path w="427" h="920">
                    <a:moveTo>
                      <a:pt x="427" y="0"/>
                    </a:moveTo>
                    <a:lnTo>
                      <a:pt x="422" y="21"/>
                    </a:lnTo>
                    <a:lnTo>
                      <a:pt x="422" y="73"/>
                    </a:lnTo>
                    <a:lnTo>
                      <a:pt x="417" y="126"/>
                    </a:lnTo>
                    <a:lnTo>
                      <a:pt x="411" y="194"/>
                    </a:lnTo>
                    <a:lnTo>
                      <a:pt x="406" y="256"/>
                    </a:lnTo>
                    <a:lnTo>
                      <a:pt x="396" y="324"/>
                    </a:lnTo>
                    <a:lnTo>
                      <a:pt x="385" y="392"/>
                    </a:lnTo>
                    <a:lnTo>
                      <a:pt x="375" y="460"/>
                    </a:lnTo>
                    <a:lnTo>
                      <a:pt x="365" y="523"/>
                    </a:lnTo>
                    <a:lnTo>
                      <a:pt x="349" y="586"/>
                    </a:lnTo>
                    <a:lnTo>
                      <a:pt x="328" y="638"/>
                    </a:lnTo>
                    <a:lnTo>
                      <a:pt x="312" y="685"/>
                    </a:lnTo>
                    <a:lnTo>
                      <a:pt x="292" y="732"/>
                    </a:lnTo>
                    <a:lnTo>
                      <a:pt x="271" y="769"/>
                    </a:lnTo>
                    <a:lnTo>
                      <a:pt x="255" y="800"/>
                    </a:lnTo>
                    <a:lnTo>
                      <a:pt x="234" y="831"/>
                    </a:lnTo>
                    <a:lnTo>
                      <a:pt x="214" y="852"/>
                    </a:lnTo>
                    <a:lnTo>
                      <a:pt x="193" y="873"/>
                    </a:lnTo>
                    <a:lnTo>
                      <a:pt x="172" y="889"/>
                    </a:lnTo>
                    <a:lnTo>
                      <a:pt x="151" y="899"/>
                    </a:lnTo>
                    <a:lnTo>
                      <a:pt x="136" y="905"/>
                    </a:lnTo>
                    <a:lnTo>
                      <a:pt x="120" y="915"/>
                    </a:lnTo>
                    <a:lnTo>
                      <a:pt x="104" y="915"/>
                    </a:lnTo>
                    <a:lnTo>
                      <a:pt x="89" y="920"/>
                    </a:lnTo>
                    <a:lnTo>
                      <a:pt x="73" y="920"/>
                    </a:lnTo>
                    <a:lnTo>
                      <a:pt x="63" y="920"/>
                    </a:lnTo>
                    <a:lnTo>
                      <a:pt x="52" y="920"/>
                    </a:lnTo>
                    <a:lnTo>
                      <a:pt x="42" y="920"/>
                    </a:lnTo>
                    <a:lnTo>
                      <a:pt x="32" y="915"/>
                    </a:lnTo>
                    <a:lnTo>
                      <a:pt x="26" y="915"/>
                    </a:lnTo>
                    <a:lnTo>
                      <a:pt x="21" y="915"/>
                    </a:lnTo>
                    <a:lnTo>
                      <a:pt x="16" y="910"/>
                    </a:lnTo>
                    <a:lnTo>
                      <a:pt x="11" y="910"/>
                    </a:lnTo>
                    <a:lnTo>
                      <a:pt x="6" y="905"/>
                    </a:lnTo>
                    <a:lnTo>
                      <a:pt x="0" y="899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079720" y="5195880"/>
                <a:ext cx="23760" cy="2376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046240" y="5170320"/>
                <a:ext cx="106560" cy="1098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626480" y="6338880"/>
                <a:ext cx="181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8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Satisfaction (</a:t>
                </a:r>
                <a:r>
                  <a:rPr b="1" i="1" lang="it-IT" sz="1800" spc="-1" strike="noStrike" u="sng">
                    <a:solidFill>
                      <a:srgbClr val="3333cc"/>
                    </a:solidFill>
                    <a:uFillTx/>
                    <a:latin typeface="Times New Roman"/>
                  </a:rPr>
                  <a:t>S</a:t>
                </a:r>
                <a:r>
                  <a:rPr b="1" i="1" lang="it-IT" sz="18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)</a:t>
                </a:r>
                <a:endPara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42400" y="4276800"/>
                <a:ext cx="454680" cy="152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8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Creativity (</a:t>
                </a:r>
                <a:r>
                  <a:rPr b="1" i="1" lang="it-IT" sz="1800" spc="-1" strike="noStrike" u="sng">
                    <a:solidFill>
                      <a:srgbClr val="3333cc"/>
                    </a:solidFill>
                    <a:uFillTx/>
                    <a:latin typeface="Times New Roman"/>
                  </a:rPr>
                  <a:t>C</a:t>
                </a:r>
                <a:r>
                  <a:rPr b="1" i="1" lang="it-IT" sz="18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)</a:t>
                </a:r>
                <a:endPara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 flipV="1">
                <a:off x="2109960" y="5711400"/>
                <a:ext cx="69840" cy="15876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2630520" y="5378400"/>
                <a:ext cx="171360" cy="64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2579760" y="4680000"/>
                <a:ext cx="63360" cy="15696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822320" y="4811760"/>
                <a:ext cx="93960" cy="1396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1595520" y="5273640"/>
                <a:ext cx="110880" cy="1303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2438280" y="5562720"/>
              <a:ext cx="1979640" cy="79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 u="sng">
                  <a:solidFill>
                    <a:srgbClr val="3399ff"/>
                  </a:solidFill>
                  <a:uFillTx/>
                  <a:latin typeface="Tahoma"/>
                </a:rPr>
                <a:t>as.stable</a:t>
              </a:r>
              <a:br>
                <a:rPr sz="1800"/>
              </a:br>
              <a:r>
                <a:rPr b="1" i="1" lang="en-US" sz="1400" spc="-1" strike="noStrike" u="sng">
                  <a:solidFill>
                    <a:srgbClr val="3399ff"/>
                  </a:solidFill>
                  <a:uFillTx/>
                  <a:latin typeface="Tahoma"/>
                </a:rPr>
                <a:t>(constant production)</a:t>
              </a:r>
              <a:endParaRPr b="1" i="1" lang="en-US" sz="14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2286000" y="3733920"/>
            <a:ext cx="9907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9079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i="1" lang="en-US" sz="10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Existence of an equilibrium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5397480" y="898560"/>
            <a:ext cx="3254400" cy="249084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5397480" y="898560"/>
            <a:ext cx="3254400" cy="249084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3"/>
          <a:stretch/>
        </p:blipFill>
        <p:spPr>
          <a:xfrm>
            <a:off x="5397480" y="898560"/>
            <a:ext cx="3254400" cy="249084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4"/>
          <a:stretch/>
        </p:blipFill>
        <p:spPr>
          <a:xfrm>
            <a:off x="5397480" y="898560"/>
            <a:ext cx="3254400" cy="24908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539640" y="1557360"/>
            <a:ext cx="446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i="1" lang="en-US" sz="10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Sensitivity to parameter values </a:t>
            </a:r>
            <a:br>
              <a:rPr sz="1800"/>
            </a:b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(e.g. increasing efforts)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dur="indefinite" nodeType="clickEffect" fill="hold">
                      <p:stCondLst>
                        <p:cond delay="0"/>
                      </p:stCondLst>
                      <p:childTnLst>
                        <p:par>
                          <p:cTn id="33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 fill="hold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 fill="hold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 fill="hold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 fill="hold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5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 fill="hold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 fill="hold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 fill="hold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6705720" y="15228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Hopf’s condition</a:t>
            </a:r>
            <a:endParaRPr b="1" i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2274840" y="685800"/>
          <a:ext cx="206856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4840" y="685800"/>
                    <a:ext cx="20685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2180880" y="2286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000" spc="-1" strike="noStrike" u="sng">
                <a:solidFill>
                  <a:srgbClr val="3399ff"/>
                </a:solidFill>
                <a:uFillTx/>
                <a:latin typeface="Tahoma"/>
              </a:rPr>
              <a:t>The model</a:t>
            </a:r>
            <a:endParaRPr b="1" i="1" lang="en-US" sz="2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682920" y="1828800"/>
            <a:ext cx="157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000" spc="-1" strike="noStrike" u="sng">
                <a:solidFill>
                  <a:srgbClr val="3399ff"/>
                </a:solidFill>
                <a:uFillTx/>
                <a:latin typeface="Tahoma"/>
              </a:rPr>
              <a:t>Equilibrium</a:t>
            </a:r>
            <a:endParaRPr b="1" i="1" lang="en-US" sz="2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931080" y="3373560"/>
            <a:ext cx="1676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3399ff"/>
                </a:solidFill>
                <a:uFillTx/>
                <a:latin typeface="Tahoma"/>
              </a:rPr>
              <a:t>(always verified)</a:t>
            </a:r>
            <a:endParaRPr b="1" i="1" lang="en-US" sz="1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23760" y="76320"/>
            <a:ext cx="6299280" cy="1695960"/>
            <a:chOff x="23760" y="76320"/>
            <a:chExt cx="6299280" cy="1695960"/>
          </a:xfrm>
        </p:grpSpPr>
        <p:grpSp>
          <p:nvGrpSpPr>
            <p:cNvPr id="587" name=""/>
            <p:cNvGrpSpPr/>
            <p:nvPr/>
          </p:nvGrpSpPr>
          <p:grpSpPr>
            <a:xfrm>
              <a:off x="4610160" y="76320"/>
              <a:ext cx="1712880" cy="1691280"/>
              <a:chOff x="4610160" y="76320"/>
              <a:chExt cx="1712880" cy="1691280"/>
            </a:xfrm>
          </p:grpSpPr>
          <p:sp>
            <p:nvSpPr>
              <p:cNvPr id="588" name=""/>
              <p:cNvSpPr/>
              <p:nvPr/>
            </p:nvSpPr>
            <p:spPr>
              <a:xfrm>
                <a:off x="4610160" y="1523880"/>
                <a:ext cx="16747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4610160" y="181080"/>
                <a:ext cx="0" cy="1341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46800" y="1523880"/>
                <a:ext cx="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5920" y="1554120"/>
                <a:ext cx="98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4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0</a:t>
                </a:r>
                <a:endParaRPr b="1" i="1" lang="en-US" sz="14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610160" y="498600"/>
                <a:ext cx="1674720" cy="1014120"/>
              </a:xfrm>
              <a:custGeom>
                <a:avLst/>
                <a:gdLst/>
                <a:ahLst/>
                <a:rect l="l" t="t" r="r" b="b"/>
                <a:pathLst>
                  <a:path w="1615" h="979">
                    <a:moveTo>
                      <a:pt x="0" y="979"/>
                    </a:moveTo>
                    <a:lnTo>
                      <a:pt x="13" y="979"/>
                    </a:lnTo>
                    <a:lnTo>
                      <a:pt x="30" y="979"/>
                    </a:lnTo>
                    <a:lnTo>
                      <a:pt x="47" y="975"/>
                    </a:lnTo>
                    <a:lnTo>
                      <a:pt x="64" y="975"/>
                    </a:lnTo>
                    <a:lnTo>
                      <a:pt x="77" y="975"/>
                    </a:lnTo>
                    <a:lnTo>
                      <a:pt x="94" y="975"/>
                    </a:lnTo>
                    <a:lnTo>
                      <a:pt x="111" y="971"/>
                    </a:lnTo>
                    <a:lnTo>
                      <a:pt x="128" y="971"/>
                    </a:lnTo>
                    <a:lnTo>
                      <a:pt x="145" y="971"/>
                    </a:lnTo>
                    <a:lnTo>
                      <a:pt x="158" y="967"/>
                    </a:lnTo>
                    <a:lnTo>
                      <a:pt x="175" y="967"/>
                    </a:lnTo>
                    <a:lnTo>
                      <a:pt x="192" y="962"/>
                    </a:lnTo>
                    <a:lnTo>
                      <a:pt x="209" y="962"/>
                    </a:lnTo>
                    <a:lnTo>
                      <a:pt x="226" y="958"/>
                    </a:lnTo>
                    <a:lnTo>
                      <a:pt x="239" y="958"/>
                    </a:lnTo>
                    <a:lnTo>
                      <a:pt x="256" y="954"/>
                    </a:lnTo>
                    <a:lnTo>
                      <a:pt x="273" y="950"/>
                    </a:lnTo>
                    <a:lnTo>
                      <a:pt x="290" y="945"/>
                    </a:lnTo>
                    <a:lnTo>
                      <a:pt x="307" y="941"/>
                    </a:lnTo>
                    <a:lnTo>
                      <a:pt x="320" y="937"/>
                    </a:lnTo>
                    <a:lnTo>
                      <a:pt x="337" y="933"/>
                    </a:lnTo>
                    <a:lnTo>
                      <a:pt x="354" y="928"/>
                    </a:lnTo>
                    <a:lnTo>
                      <a:pt x="371" y="924"/>
                    </a:lnTo>
                    <a:lnTo>
                      <a:pt x="384" y="915"/>
                    </a:lnTo>
                    <a:lnTo>
                      <a:pt x="401" y="911"/>
                    </a:lnTo>
                    <a:lnTo>
                      <a:pt x="418" y="903"/>
                    </a:lnTo>
                    <a:lnTo>
                      <a:pt x="435" y="894"/>
                    </a:lnTo>
                    <a:lnTo>
                      <a:pt x="452" y="886"/>
                    </a:lnTo>
                    <a:lnTo>
                      <a:pt x="465" y="877"/>
                    </a:lnTo>
                    <a:lnTo>
                      <a:pt x="482" y="869"/>
                    </a:lnTo>
                    <a:lnTo>
                      <a:pt x="499" y="856"/>
                    </a:lnTo>
                    <a:lnTo>
                      <a:pt x="516" y="843"/>
                    </a:lnTo>
                    <a:lnTo>
                      <a:pt x="533" y="830"/>
                    </a:lnTo>
                    <a:lnTo>
                      <a:pt x="546" y="818"/>
                    </a:lnTo>
                    <a:lnTo>
                      <a:pt x="563" y="805"/>
                    </a:lnTo>
                    <a:lnTo>
                      <a:pt x="580" y="788"/>
                    </a:lnTo>
                    <a:lnTo>
                      <a:pt x="597" y="775"/>
                    </a:lnTo>
                    <a:lnTo>
                      <a:pt x="614" y="758"/>
                    </a:lnTo>
                    <a:lnTo>
                      <a:pt x="627" y="737"/>
                    </a:lnTo>
                    <a:lnTo>
                      <a:pt x="644" y="720"/>
                    </a:lnTo>
                    <a:lnTo>
                      <a:pt x="661" y="698"/>
                    </a:lnTo>
                    <a:lnTo>
                      <a:pt x="678" y="677"/>
                    </a:lnTo>
                    <a:lnTo>
                      <a:pt x="691" y="656"/>
                    </a:lnTo>
                    <a:lnTo>
                      <a:pt x="708" y="634"/>
                    </a:lnTo>
                    <a:lnTo>
                      <a:pt x="725" y="613"/>
                    </a:lnTo>
                    <a:lnTo>
                      <a:pt x="742" y="588"/>
                    </a:lnTo>
                    <a:lnTo>
                      <a:pt x="759" y="562"/>
                    </a:lnTo>
                    <a:lnTo>
                      <a:pt x="771" y="541"/>
                    </a:lnTo>
                    <a:lnTo>
                      <a:pt x="788" y="515"/>
                    </a:lnTo>
                    <a:lnTo>
                      <a:pt x="806" y="490"/>
                    </a:lnTo>
                    <a:lnTo>
                      <a:pt x="823" y="464"/>
                    </a:lnTo>
                    <a:lnTo>
                      <a:pt x="840" y="439"/>
                    </a:lnTo>
                    <a:lnTo>
                      <a:pt x="852" y="417"/>
                    </a:lnTo>
                    <a:lnTo>
                      <a:pt x="869" y="392"/>
                    </a:lnTo>
                    <a:lnTo>
                      <a:pt x="886" y="366"/>
                    </a:lnTo>
                    <a:lnTo>
                      <a:pt x="904" y="345"/>
                    </a:lnTo>
                    <a:lnTo>
                      <a:pt x="921" y="324"/>
                    </a:lnTo>
                    <a:lnTo>
                      <a:pt x="933" y="302"/>
                    </a:lnTo>
                    <a:lnTo>
                      <a:pt x="950" y="281"/>
                    </a:lnTo>
                    <a:lnTo>
                      <a:pt x="967" y="260"/>
                    </a:lnTo>
                    <a:lnTo>
                      <a:pt x="984" y="243"/>
                    </a:lnTo>
                    <a:lnTo>
                      <a:pt x="997" y="221"/>
                    </a:lnTo>
                    <a:lnTo>
                      <a:pt x="1014" y="204"/>
                    </a:lnTo>
                    <a:lnTo>
                      <a:pt x="1031" y="192"/>
                    </a:lnTo>
                    <a:lnTo>
                      <a:pt x="1048" y="175"/>
                    </a:lnTo>
                    <a:lnTo>
                      <a:pt x="1065" y="162"/>
                    </a:lnTo>
                    <a:lnTo>
                      <a:pt x="1078" y="145"/>
                    </a:lnTo>
                    <a:lnTo>
                      <a:pt x="1095" y="132"/>
                    </a:lnTo>
                    <a:lnTo>
                      <a:pt x="1112" y="123"/>
                    </a:lnTo>
                    <a:lnTo>
                      <a:pt x="1129" y="111"/>
                    </a:lnTo>
                    <a:lnTo>
                      <a:pt x="1146" y="102"/>
                    </a:lnTo>
                    <a:lnTo>
                      <a:pt x="1159" y="94"/>
                    </a:lnTo>
                    <a:lnTo>
                      <a:pt x="1176" y="85"/>
                    </a:lnTo>
                    <a:lnTo>
                      <a:pt x="1193" y="77"/>
                    </a:lnTo>
                    <a:lnTo>
                      <a:pt x="1210" y="68"/>
                    </a:lnTo>
                    <a:lnTo>
                      <a:pt x="1227" y="64"/>
                    </a:lnTo>
                    <a:lnTo>
                      <a:pt x="1240" y="55"/>
                    </a:lnTo>
                    <a:lnTo>
                      <a:pt x="1257" y="51"/>
                    </a:lnTo>
                    <a:lnTo>
                      <a:pt x="1274" y="47"/>
                    </a:lnTo>
                    <a:lnTo>
                      <a:pt x="1291" y="38"/>
                    </a:lnTo>
                    <a:lnTo>
                      <a:pt x="1304" y="34"/>
                    </a:lnTo>
                    <a:lnTo>
                      <a:pt x="1321" y="34"/>
                    </a:lnTo>
                    <a:lnTo>
                      <a:pt x="1338" y="30"/>
                    </a:lnTo>
                    <a:lnTo>
                      <a:pt x="1355" y="26"/>
                    </a:lnTo>
                    <a:lnTo>
                      <a:pt x="1372" y="21"/>
                    </a:lnTo>
                    <a:lnTo>
                      <a:pt x="1385" y="21"/>
                    </a:lnTo>
                    <a:lnTo>
                      <a:pt x="1402" y="17"/>
                    </a:lnTo>
                    <a:lnTo>
                      <a:pt x="1419" y="17"/>
                    </a:lnTo>
                    <a:lnTo>
                      <a:pt x="1436" y="13"/>
                    </a:lnTo>
                    <a:lnTo>
                      <a:pt x="1453" y="13"/>
                    </a:lnTo>
                    <a:lnTo>
                      <a:pt x="1466" y="9"/>
                    </a:lnTo>
                    <a:lnTo>
                      <a:pt x="1483" y="9"/>
                    </a:lnTo>
                    <a:lnTo>
                      <a:pt x="1500" y="9"/>
                    </a:lnTo>
                    <a:lnTo>
                      <a:pt x="1517" y="4"/>
                    </a:lnTo>
                    <a:lnTo>
                      <a:pt x="1534" y="4"/>
                    </a:lnTo>
                    <a:lnTo>
                      <a:pt x="1547" y="4"/>
                    </a:lnTo>
                    <a:lnTo>
                      <a:pt x="1564" y="4"/>
                    </a:lnTo>
                    <a:lnTo>
                      <a:pt x="1581" y="0"/>
                    </a:lnTo>
                    <a:lnTo>
                      <a:pt x="1598" y="0"/>
                    </a:lnTo>
                    <a:lnTo>
                      <a:pt x="1615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446800" y="488880"/>
                <a:ext cx="8380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5446800" y="181080"/>
                <a:ext cx="0" cy="1341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203080" y="7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800" spc="-1" strike="noStrike" u="sng">
                    <a:solidFill>
                      <a:srgbClr val="3333cc"/>
                    </a:solidFill>
                    <a:uFillTx/>
                    <a:latin typeface="Times New Roman"/>
                  </a:rPr>
                  <a:t>g</a:t>
                </a:r>
                <a:endPara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graphicFrame>
            <p:nvGraphicFramePr>
              <p:cNvPr id="596" name=""/>
              <p:cNvGraphicFramePr/>
              <p:nvPr/>
            </p:nvGraphicFramePr>
            <p:xfrm>
              <a:off x="6165720" y="1530360"/>
              <a:ext cx="157320" cy="228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165720" y="1530360"/>
                        <a:ext cx="157320" cy="22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598" name=""/>
            <p:cNvGrpSpPr/>
            <p:nvPr/>
          </p:nvGrpSpPr>
          <p:grpSpPr>
            <a:xfrm>
              <a:off x="23760" y="76320"/>
              <a:ext cx="1879560" cy="1695960"/>
              <a:chOff x="23760" y="76320"/>
              <a:chExt cx="1879560" cy="1695960"/>
            </a:xfrm>
          </p:grpSpPr>
          <p:sp>
            <p:nvSpPr>
              <p:cNvPr id="599" name=""/>
              <p:cNvSpPr/>
              <p:nvPr/>
            </p:nvSpPr>
            <p:spPr>
              <a:xfrm>
                <a:off x="272880" y="1474920"/>
                <a:ext cx="16304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272880" y="168120"/>
                <a:ext cx="0" cy="130680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254160" y="1474920"/>
                <a:ext cx="1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254160" y="466560"/>
                <a:ext cx="1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grpSp>
            <p:nvGrpSpPr>
              <p:cNvPr id="603" name=""/>
              <p:cNvGrpSpPr/>
              <p:nvPr/>
            </p:nvGrpSpPr>
            <p:grpSpPr>
              <a:xfrm>
                <a:off x="272880" y="530280"/>
                <a:ext cx="1630440" cy="942480"/>
                <a:chOff x="272880" y="530280"/>
                <a:chExt cx="1630440" cy="9424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272880" y="538200"/>
                  <a:ext cx="1376640" cy="934560"/>
                </a:xfrm>
                <a:custGeom>
                  <a:avLst/>
                  <a:gdLst/>
                  <a:ahLst/>
                  <a:rect l="l" t="t" r="r" b="b"/>
                  <a:pathLst>
                    <a:path w="787" h="534">
                      <a:moveTo>
                        <a:pt x="0" y="534"/>
                      </a:moveTo>
                      <a:lnTo>
                        <a:pt x="5" y="480"/>
                      </a:lnTo>
                      <a:lnTo>
                        <a:pt x="12" y="438"/>
                      </a:lnTo>
                      <a:lnTo>
                        <a:pt x="17" y="401"/>
                      </a:lnTo>
                      <a:lnTo>
                        <a:pt x="25" y="369"/>
                      </a:lnTo>
                      <a:lnTo>
                        <a:pt x="30" y="342"/>
                      </a:lnTo>
                      <a:lnTo>
                        <a:pt x="37" y="317"/>
                      </a:lnTo>
                      <a:lnTo>
                        <a:pt x="42" y="298"/>
                      </a:lnTo>
                      <a:lnTo>
                        <a:pt x="49" y="278"/>
                      </a:lnTo>
                      <a:lnTo>
                        <a:pt x="54" y="261"/>
                      </a:lnTo>
                      <a:lnTo>
                        <a:pt x="61" y="246"/>
                      </a:lnTo>
                      <a:lnTo>
                        <a:pt x="66" y="231"/>
                      </a:lnTo>
                      <a:lnTo>
                        <a:pt x="74" y="219"/>
                      </a:lnTo>
                      <a:lnTo>
                        <a:pt x="79" y="209"/>
                      </a:lnTo>
                      <a:lnTo>
                        <a:pt x="86" y="199"/>
                      </a:lnTo>
                      <a:lnTo>
                        <a:pt x="91" y="190"/>
                      </a:lnTo>
                      <a:lnTo>
                        <a:pt x="98" y="180"/>
                      </a:lnTo>
                      <a:lnTo>
                        <a:pt x="103" y="172"/>
                      </a:lnTo>
                      <a:lnTo>
                        <a:pt x="111" y="165"/>
                      </a:lnTo>
                      <a:lnTo>
                        <a:pt x="118" y="158"/>
                      </a:lnTo>
                      <a:lnTo>
                        <a:pt x="123" y="150"/>
                      </a:lnTo>
                      <a:lnTo>
                        <a:pt x="130" y="145"/>
                      </a:lnTo>
                      <a:lnTo>
                        <a:pt x="135" y="138"/>
                      </a:lnTo>
                      <a:lnTo>
                        <a:pt x="143" y="133"/>
                      </a:lnTo>
                      <a:lnTo>
                        <a:pt x="148" y="128"/>
                      </a:lnTo>
                      <a:lnTo>
                        <a:pt x="155" y="123"/>
                      </a:lnTo>
                      <a:lnTo>
                        <a:pt x="160" y="118"/>
                      </a:lnTo>
                      <a:lnTo>
                        <a:pt x="167" y="113"/>
                      </a:lnTo>
                      <a:lnTo>
                        <a:pt x="172" y="111"/>
                      </a:lnTo>
                      <a:lnTo>
                        <a:pt x="180" y="106"/>
                      </a:lnTo>
                      <a:lnTo>
                        <a:pt x="184" y="103"/>
                      </a:lnTo>
                      <a:lnTo>
                        <a:pt x="192" y="99"/>
                      </a:lnTo>
                      <a:lnTo>
                        <a:pt x="197" y="96"/>
                      </a:lnTo>
                      <a:lnTo>
                        <a:pt x="204" y="94"/>
                      </a:lnTo>
                      <a:lnTo>
                        <a:pt x="209" y="89"/>
                      </a:lnTo>
                      <a:lnTo>
                        <a:pt x="216" y="86"/>
                      </a:lnTo>
                      <a:lnTo>
                        <a:pt x="221" y="84"/>
                      </a:lnTo>
                      <a:lnTo>
                        <a:pt x="229" y="81"/>
                      </a:lnTo>
                      <a:lnTo>
                        <a:pt x="236" y="79"/>
                      </a:lnTo>
                      <a:lnTo>
                        <a:pt x="241" y="76"/>
                      </a:lnTo>
                      <a:lnTo>
                        <a:pt x="248" y="74"/>
                      </a:lnTo>
                      <a:lnTo>
                        <a:pt x="253" y="71"/>
                      </a:lnTo>
                      <a:lnTo>
                        <a:pt x="261" y="69"/>
                      </a:lnTo>
                      <a:lnTo>
                        <a:pt x="266" y="67"/>
                      </a:lnTo>
                      <a:lnTo>
                        <a:pt x="273" y="67"/>
                      </a:lnTo>
                      <a:lnTo>
                        <a:pt x="278" y="64"/>
                      </a:lnTo>
                      <a:lnTo>
                        <a:pt x="285" y="62"/>
                      </a:lnTo>
                      <a:lnTo>
                        <a:pt x="290" y="59"/>
                      </a:lnTo>
                      <a:lnTo>
                        <a:pt x="298" y="59"/>
                      </a:lnTo>
                      <a:lnTo>
                        <a:pt x="303" y="57"/>
                      </a:lnTo>
                      <a:lnTo>
                        <a:pt x="310" y="54"/>
                      </a:lnTo>
                      <a:lnTo>
                        <a:pt x="315" y="54"/>
                      </a:lnTo>
                      <a:lnTo>
                        <a:pt x="322" y="52"/>
                      </a:lnTo>
                      <a:lnTo>
                        <a:pt x="327" y="49"/>
                      </a:lnTo>
                      <a:lnTo>
                        <a:pt x="335" y="49"/>
                      </a:lnTo>
                      <a:lnTo>
                        <a:pt x="339" y="47"/>
                      </a:lnTo>
                      <a:lnTo>
                        <a:pt x="347" y="47"/>
                      </a:lnTo>
                      <a:lnTo>
                        <a:pt x="354" y="44"/>
                      </a:lnTo>
                      <a:lnTo>
                        <a:pt x="359" y="44"/>
                      </a:lnTo>
                      <a:lnTo>
                        <a:pt x="367" y="42"/>
                      </a:lnTo>
                      <a:lnTo>
                        <a:pt x="371" y="42"/>
                      </a:lnTo>
                      <a:lnTo>
                        <a:pt x="379" y="39"/>
                      </a:lnTo>
                      <a:lnTo>
                        <a:pt x="384" y="39"/>
                      </a:lnTo>
                      <a:lnTo>
                        <a:pt x="391" y="37"/>
                      </a:lnTo>
                      <a:lnTo>
                        <a:pt x="396" y="37"/>
                      </a:lnTo>
                      <a:lnTo>
                        <a:pt x="403" y="37"/>
                      </a:lnTo>
                      <a:lnTo>
                        <a:pt x="408" y="35"/>
                      </a:lnTo>
                      <a:lnTo>
                        <a:pt x="416" y="35"/>
                      </a:lnTo>
                      <a:lnTo>
                        <a:pt x="421" y="32"/>
                      </a:lnTo>
                      <a:lnTo>
                        <a:pt x="428" y="32"/>
                      </a:lnTo>
                      <a:lnTo>
                        <a:pt x="433" y="32"/>
                      </a:lnTo>
                      <a:lnTo>
                        <a:pt x="440" y="30"/>
                      </a:lnTo>
                      <a:lnTo>
                        <a:pt x="445" y="30"/>
                      </a:lnTo>
                      <a:lnTo>
                        <a:pt x="453" y="30"/>
                      </a:lnTo>
                      <a:lnTo>
                        <a:pt x="458" y="27"/>
                      </a:lnTo>
                      <a:lnTo>
                        <a:pt x="465" y="27"/>
                      </a:lnTo>
                      <a:lnTo>
                        <a:pt x="472" y="27"/>
                      </a:lnTo>
                      <a:lnTo>
                        <a:pt x="477" y="25"/>
                      </a:lnTo>
                      <a:lnTo>
                        <a:pt x="485" y="25"/>
                      </a:lnTo>
                      <a:lnTo>
                        <a:pt x="490" y="25"/>
                      </a:lnTo>
                      <a:lnTo>
                        <a:pt x="497" y="22"/>
                      </a:lnTo>
                      <a:lnTo>
                        <a:pt x="502" y="22"/>
                      </a:lnTo>
                      <a:lnTo>
                        <a:pt x="509" y="22"/>
                      </a:lnTo>
                      <a:lnTo>
                        <a:pt x="514" y="20"/>
                      </a:lnTo>
                      <a:lnTo>
                        <a:pt x="522" y="20"/>
                      </a:lnTo>
                      <a:lnTo>
                        <a:pt x="526" y="20"/>
                      </a:lnTo>
                      <a:lnTo>
                        <a:pt x="534" y="20"/>
                      </a:lnTo>
                      <a:lnTo>
                        <a:pt x="539" y="17"/>
                      </a:lnTo>
                      <a:lnTo>
                        <a:pt x="546" y="17"/>
                      </a:lnTo>
                      <a:lnTo>
                        <a:pt x="551" y="17"/>
                      </a:lnTo>
                      <a:lnTo>
                        <a:pt x="558" y="17"/>
                      </a:lnTo>
                      <a:lnTo>
                        <a:pt x="563" y="17"/>
                      </a:lnTo>
                      <a:lnTo>
                        <a:pt x="571" y="15"/>
                      </a:lnTo>
                      <a:lnTo>
                        <a:pt x="576" y="15"/>
                      </a:lnTo>
                      <a:lnTo>
                        <a:pt x="583" y="15"/>
                      </a:lnTo>
                      <a:lnTo>
                        <a:pt x="590" y="15"/>
                      </a:lnTo>
                      <a:lnTo>
                        <a:pt x="595" y="12"/>
                      </a:lnTo>
                      <a:lnTo>
                        <a:pt x="603" y="12"/>
                      </a:lnTo>
                      <a:lnTo>
                        <a:pt x="608" y="12"/>
                      </a:lnTo>
                      <a:lnTo>
                        <a:pt x="615" y="12"/>
                      </a:lnTo>
                      <a:lnTo>
                        <a:pt x="620" y="12"/>
                      </a:lnTo>
                      <a:lnTo>
                        <a:pt x="627" y="10"/>
                      </a:lnTo>
                      <a:lnTo>
                        <a:pt x="632" y="10"/>
                      </a:lnTo>
                      <a:lnTo>
                        <a:pt x="640" y="10"/>
                      </a:lnTo>
                      <a:lnTo>
                        <a:pt x="645" y="10"/>
                      </a:lnTo>
                      <a:lnTo>
                        <a:pt x="652" y="10"/>
                      </a:lnTo>
                      <a:lnTo>
                        <a:pt x="657" y="10"/>
                      </a:lnTo>
                      <a:lnTo>
                        <a:pt x="664" y="7"/>
                      </a:lnTo>
                      <a:lnTo>
                        <a:pt x="669" y="7"/>
                      </a:lnTo>
                      <a:lnTo>
                        <a:pt x="676" y="7"/>
                      </a:lnTo>
                      <a:lnTo>
                        <a:pt x="681" y="7"/>
                      </a:lnTo>
                      <a:lnTo>
                        <a:pt x="689" y="7"/>
                      </a:lnTo>
                      <a:lnTo>
                        <a:pt x="694" y="7"/>
                      </a:lnTo>
                      <a:lnTo>
                        <a:pt x="701" y="5"/>
                      </a:lnTo>
                      <a:lnTo>
                        <a:pt x="708" y="5"/>
                      </a:lnTo>
                      <a:lnTo>
                        <a:pt x="713" y="5"/>
                      </a:lnTo>
                      <a:lnTo>
                        <a:pt x="721" y="5"/>
                      </a:lnTo>
                      <a:lnTo>
                        <a:pt x="726" y="5"/>
                      </a:lnTo>
                      <a:lnTo>
                        <a:pt x="733" y="5"/>
                      </a:lnTo>
                      <a:lnTo>
                        <a:pt x="738" y="3"/>
                      </a:lnTo>
                      <a:lnTo>
                        <a:pt x="745" y="3"/>
                      </a:lnTo>
                      <a:lnTo>
                        <a:pt x="750" y="3"/>
                      </a:lnTo>
                      <a:lnTo>
                        <a:pt x="758" y="3"/>
                      </a:lnTo>
                      <a:lnTo>
                        <a:pt x="763" y="3"/>
                      </a:lnTo>
                      <a:lnTo>
                        <a:pt x="770" y="3"/>
                      </a:lnTo>
                      <a:lnTo>
                        <a:pt x="775" y="3"/>
                      </a:lnTo>
                      <a:lnTo>
                        <a:pt x="782" y="3"/>
                      </a:lnTo>
                      <a:lnTo>
                        <a:pt x="787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650960" y="530280"/>
                  <a:ext cx="252360" cy="6120"/>
                </a:xfrm>
                <a:custGeom>
                  <a:avLst/>
                  <a:gdLst/>
                  <a:ahLst/>
                  <a:rect l="l" t="t" r="r" b="b"/>
                  <a:pathLst>
                    <a:path w="145" h="5">
                      <a:moveTo>
                        <a:pt x="0" y="5"/>
                      </a:moveTo>
                      <a:lnTo>
                        <a:pt x="8" y="5"/>
                      </a:lnTo>
                      <a:lnTo>
                        <a:pt x="12" y="5"/>
                      </a:lnTo>
                      <a:lnTo>
                        <a:pt x="20" y="5"/>
                      </a:lnTo>
                      <a:lnTo>
                        <a:pt x="25" y="5"/>
                      </a:lnTo>
                      <a:lnTo>
                        <a:pt x="32" y="5"/>
                      </a:lnTo>
                      <a:lnTo>
                        <a:pt x="40" y="5"/>
                      </a:lnTo>
                      <a:lnTo>
                        <a:pt x="44" y="5"/>
                      </a:lnTo>
                      <a:lnTo>
                        <a:pt x="52" y="3"/>
                      </a:lnTo>
                      <a:lnTo>
                        <a:pt x="57" y="3"/>
                      </a:lnTo>
                      <a:lnTo>
                        <a:pt x="64" y="3"/>
                      </a:lnTo>
                      <a:lnTo>
                        <a:pt x="69" y="3"/>
                      </a:lnTo>
                      <a:lnTo>
                        <a:pt x="76" y="3"/>
                      </a:lnTo>
                      <a:lnTo>
                        <a:pt x="81" y="3"/>
                      </a:lnTo>
                      <a:lnTo>
                        <a:pt x="89" y="3"/>
                      </a:lnTo>
                      <a:lnTo>
                        <a:pt x="94" y="3"/>
                      </a:lnTo>
                      <a:lnTo>
                        <a:pt x="101" y="3"/>
                      </a:lnTo>
                      <a:lnTo>
                        <a:pt x="106" y="3"/>
                      </a:lnTo>
                      <a:lnTo>
                        <a:pt x="113" y="0"/>
                      </a:lnTo>
                      <a:lnTo>
                        <a:pt x="118" y="0"/>
                      </a:lnTo>
                      <a:lnTo>
                        <a:pt x="126" y="0"/>
                      </a:lnTo>
                      <a:lnTo>
                        <a:pt x="131" y="0"/>
                      </a:lnTo>
                      <a:lnTo>
                        <a:pt x="138" y="0"/>
                      </a:lnTo>
                      <a:lnTo>
                        <a:pt x="145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</p:grpSp>
          <p:sp>
            <p:nvSpPr>
              <p:cNvPr id="606" name=""/>
              <p:cNvSpPr/>
              <p:nvPr/>
            </p:nvSpPr>
            <p:spPr>
              <a:xfrm>
                <a:off x="272880" y="466560"/>
                <a:ext cx="16304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3760" y="76320"/>
                <a:ext cx="300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600" spc="-1" strike="noStrike" u="sng">
                    <a:solidFill>
                      <a:srgbClr val="3333cc"/>
                    </a:solidFill>
                    <a:uFillTx/>
                    <a:latin typeface="Times New Roman"/>
                  </a:rPr>
                  <a:t>f</a:t>
                </a:r>
                <a:endParaRPr b="1" i="1" lang="en-US" sz="16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51200" y="1465200"/>
                <a:ext cx="27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4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0</a:t>
                </a:r>
                <a:endParaRPr b="1" i="1" lang="en-US" sz="14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</p:grpSp>
      <p:graphicFrame>
        <p:nvGraphicFramePr>
          <p:cNvPr id="609" name=""/>
          <p:cNvGraphicFramePr/>
          <p:nvPr/>
        </p:nvGraphicFramePr>
        <p:xfrm>
          <a:off x="914400" y="2071800"/>
          <a:ext cx="4038480" cy="82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071800"/>
                    <a:ext cx="403848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679680" y="2819520"/>
            <a:ext cx="20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000" spc="-1" strike="noStrike" u="sng">
                <a:solidFill>
                  <a:srgbClr val="3399ff"/>
                </a:solidFill>
                <a:uFillTx/>
                <a:latin typeface="Tahoma"/>
              </a:rPr>
              <a:t>Jacobian matrix</a:t>
            </a:r>
            <a:endParaRPr b="1" i="1" lang="en-US" sz="2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914400" y="4451400"/>
          <a:ext cx="939960" cy="67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4451400"/>
                    <a:ext cx="93996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"/>
          <p:cNvSpPr/>
          <p:nvPr/>
        </p:nvSpPr>
        <p:spPr>
          <a:xfrm>
            <a:off x="578520" y="5243400"/>
            <a:ext cx="44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 u="sng">
                <a:solidFill>
                  <a:srgbClr val="3399ff"/>
                </a:solidFill>
                <a:uFillTx/>
                <a:latin typeface="Tahoma"/>
              </a:rPr>
              <a:t>High sensitivity to variations of satisfaction </a:t>
            </a:r>
            <a:endParaRPr b="1" i="1" lang="en-US" sz="16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5443560" y="5245200"/>
            <a:ext cx="1411200" cy="337320"/>
            <a:chOff x="5443560" y="5245200"/>
            <a:chExt cx="1411200" cy="337320"/>
          </a:xfrm>
        </p:grpSpPr>
        <p:graphicFrame>
          <p:nvGraphicFramePr>
            <p:cNvPr id="616" name=""/>
            <p:cNvGraphicFramePr/>
            <p:nvPr/>
          </p:nvGraphicFramePr>
          <p:xfrm>
            <a:off x="5443560" y="5292720"/>
            <a:ext cx="299880" cy="239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43560" y="5292720"/>
                      <a:ext cx="299880" cy="23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18" name=""/>
            <p:cNvGrpSpPr/>
            <p:nvPr/>
          </p:nvGrpSpPr>
          <p:grpSpPr>
            <a:xfrm>
              <a:off x="5757840" y="5245200"/>
              <a:ext cx="1096920" cy="337320"/>
              <a:chOff x="5757840" y="5245200"/>
              <a:chExt cx="1096920" cy="337320"/>
            </a:xfrm>
          </p:grpSpPr>
          <p:graphicFrame>
            <p:nvGraphicFramePr>
              <p:cNvPr id="619" name=""/>
              <p:cNvGraphicFramePr/>
              <p:nvPr/>
            </p:nvGraphicFramePr>
            <p:xfrm>
              <a:off x="6546960" y="5248440"/>
              <a:ext cx="307800" cy="3283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62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546960" y="5248440"/>
                        <a:ext cx="307800" cy="32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21" name=""/>
              <p:cNvSpPr/>
              <p:nvPr/>
            </p:nvSpPr>
            <p:spPr>
              <a:xfrm>
                <a:off x="5757840" y="5245200"/>
                <a:ext cx="680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600" spc="-1" strike="noStrike" u="sng">
                    <a:solidFill>
                      <a:srgbClr val="3399ff"/>
                    </a:solidFill>
                    <a:uFillTx/>
                    <a:latin typeface="Tahoma"/>
                  </a:rPr>
                  <a:t>large</a:t>
                </a:r>
                <a:endParaRPr b="1" i="1" lang="en-US" sz="16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6896160" y="5245200"/>
            <a:ext cx="1101240" cy="337320"/>
            <a:chOff x="6896160" y="5245200"/>
            <a:chExt cx="1101240" cy="337320"/>
          </a:xfrm>
        </p:grpSpPr>
        <p:graphicFrame>
          <p:nvGraphicFramePr>
            <p:cNvPr id="623" name=""/>
            <p:cNvGraphicFramePr/>
            <p:nvPr/>
          </p:nvGraphicFramePr>
          <p:xfrm>
            <a:off x="6896160" y="5292720"/>
            <a:ext cx="299880" cy="2397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2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896160" y="5292720"/>
                      <a:ext cx="299880" cy="23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5" name=""/>
            <p:cNvSpPr/>
            <p:nvPr/>
          </p:nvSpPr>
          <p:spPr>
            <a:xfrm>
              <a:off x="7240680" y="524520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600" spc="-1" strike="noStrike" u="sng">
                  <a:solidFill>
                    <a:srgbClr val="3399ff"/>
                  </a:solidFill>
                  <a:uFillTx/>
                  <a:latin typeface="Tahoma"/>
                </a:rPr>
                <a:t>CYCLE</a:t>
              </a:r>
              <a:endParaRPr b="1" i="1" lang="en-US" sz="16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733320" y="57150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 u="sng">
                <a:solidFill>
                  <a:srgbClr val="3399ff"/>
                </a:solidFill>
                <a:uFillTx/>
                <a:latin typeface="Tahoma"/>
              </a:rPr>
              <a:t>Long memory </a:t>
            </a:r>
            <a:endParaRPr b="1" i="1" lang="en-US" sz="16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5878440" y="5716440"/>
            <a:ext cx="1139400" cy="337320"/>
            <a:chOff x="5878440" y="5716440"/>
            <a:chExt cx="1139400" cy="337320"/>
          </a:xfrm>
        </p:grpSpPr>
        <p:graphicFrame>
          <p:nvGraphicFramePr>
            <p:cNvPr id="628" name=""/>
            <p:cNvGraphicFramePr/>
            <p:nvPr/>
          </p:nvGraphicFramePr>
          <p:xfrm>
            <a:off x="5878440" y="5764320"/>
            <a:ext cx="300240" cy="2397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2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878440" y="5764320"/>
                      <a:ext cx="300240" cy="23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0" name=""/>
            <p:cNvSpPr/>
            <p:nvPr/>
          </p:nvSpPr>
          <p:spPr>
            <a:xfrm>
              <a:off x="6261120" y="571644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600" spc="-1" strike="noStrike" u="sng">
                  <a:solidFill>
                    <a:srgbClr val="3399ff"/>
                  </a:solidFill>
                  <a:uFillTx/>
                  <a:latin typeface="Tahoma"/>
                </a:rPr>
                <a:t>CYCLE</a:t>
              </a:r>
              <a:endParaRPr b="1" i="1" lang="en-US" sz="16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2567160" y="5715000"/>
            <a:ext cx="1641240" cy="365040"/>
            <a:chOff x="2567160" y="5715000"/>
            <a:chExt cx="1641240" cy="365040"/>
          </a:xfrm>
        </p:grpSpPr>
        <p:graphicFrame>
          <p:nvGraphicFramePr>
            <p:cNvPr id="632" name=""/>
            <p:cNvGraphicFramePr/>
            <p:nvPr/>
          </p:nvGraphicFramePr>
          <p:xfrm>
            <a:off x="2567160" y="5764320"/>
            <a:ext cx="299520" cy="2397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3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567160" y="5764320"/>
                      <a:ext cx="299520" cy="23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34" name=""/>
            <p:cNvGrpSpPr/>
            <p:nvPr/>
          </p:nvGrpSpPr>
          <p:grpSpPr>
            <a:xfrm>
              <a:off x="2930040" y="5715000"/>
              <a:ext cx="1278360" cy="365040"/>
              <a:chOff x="2930040" y="5715000"/>
              <a:chExt cx="1278360" cy="365040"/>
            </a:xfrm>
          </p:grpSpPr>
          <p:graphicFrame>
            <p:nvGraphicFramePr>
              <p:cNvPr id="635" name=""/>
              <p:cNvGraphicFramePr/>
              <p:nvPr/>
            </p:nvGraphicFramePr>
            <p:xfrm>
              <a:off x="3318480" y="5751360"/>
              <a:ext cx="225000" cy="32868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636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3318480" y="5751360"/>
                        <a:ext cx="225000" cy="328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37" name=""/>
              <p:cNvSpPr/>
              <p:nvPr/>
            </p:nvSpPr>
            <p:spPr>
              <a:xfrm>
                <a:off x="3506400" y="5715000"/>
                <a:ext cx="70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600" spc="-1" strike="noStrike" u="sng">
                    <a:solidFill>
                      <a:srgbClr val="3399ff"/>
                    </a:solidFill>
                    <a:uFillTx/>
                    <a:latin typeface="Tahoma"/>
                  </a:rPr>
                  <a:t>small</a:t>
                </a:r>
                <a:endParaRPr b="1" i="1" lang="en-US" sz="16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graphicFrame>
            <p:nvGraphicFramePr>
              <p:cNvPr id="638" name=""/>
              <p:cNvGraphicFramePr/>
              <p:nvPr/>
            </p:nvGraphicFramePr>
            <p:xfrm>
              <a:off x="2930040" y="5805360"/>
              <a:ext cx="225360" cy="26676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639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930040" y="5805360"/>
                        <a:ext cx="225360" cy="26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40" name=""/>
              <p:cNvSpPr/>
              <p:nvPr/>
            </p:nvSpPr>
            <p:spPr>
              <a:xfrm>
                <a:off x="3087360" y="5719680"/>
                <a:ext cx="32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600" spc="-1" strike="noStrike" u="sng">
                    <a:solidFill>
                      <a:srgbClr val="3399ff"/>
                    </a:solidFill>
                    <a:uFillTx/>
                    <a:latin typeface="Tahoma"/>
                  </a:rPr>
                  <a:t>&amp;</a:t>
                </a:r>
                <a:endParaRPr b="1" i="1" lang="en-US" sz="16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</p:grpSp>
      <p:grpSp>
        <p:nvGrpSpPr>
          <p:cNvPr id="641" name=""/>
          <p:cNvGrpSpPr/>
          <p:nvPr/>
        </p:nvGrpSpPr>
        <p:grpSpPr>
          <a:xfrm>
            <a:off x="4334040" y="5694480"/>
            <a:ext cx="1353600" cy="365040"/>
            <a:chOff x="4334040" y="5694480"/>
            <a:chExt cx="1353600" cy="365040"/>
          </a:xfrm>
        </p:grpSpPr>
        <p:graphicFrame>
          <p:nvGraphicFramePr>
            <p:cNvPr id="642" name=""/>
            <p:cNvGraphicFramePr/>
            <p:nvPr/>
          </p:nvGraphicFramePr>
          <p:xfrm>
            <a:off x="4334040" y="5764320"/>
            <a:ext cx="299160" cy="2397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4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334040" y="5764320"/>
                      <a:ext cx="299160" cy="23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44" name=""/>
            <p:cNvGrpSpPr/>
            <p:nvPr/>
          </p:nvGrpSpPr>
          <p:grpSpPr>
            <a:xfrm>
              <a:off x="4696560" y="5694480"/>
              <a:ext cx="991080" cy="365040"/>
              <a:chOff x="4696560" y="5694480"/>
              <a:chExt cx="991080" cy="365040"/>
            </a:xfrm>
          </p:grpSpPr>
          <p:graphicFrame>
            <p:nvGraphicFramePr>
              <p:cNvPr id="645" name=""/>
              <p:cNvGraphicFramePr/>
              <p:nvPr/>
            </p:nvGraphicFramePr>
            <p:xfrm>
              <a:off x="4696560" y="5730840"/>
              <a:ext cx="348840" cy="32868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646" name="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4696560" y="5730840"/>
                        <a:ext cx="348840" cy="328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47" name=""/>
              <p:cNvSpPr/>
              <p:nvPr/>
            </p:nvSpPr>
            <p:spPr>
              <a:xfrm>
                <a:off x="4985640" y="5694480"/>
                <a:ext cx="70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600" spc="-1" strike="noStrike" u="sng">
                    <a:solidFill>
                      <a:srgbClr val="3399ff"/>
                    </a:solidFill>
                    <a:uFillTx/>
                    <a:latin typeface="Tahoma"/>
                  </a:rPr>
                  <a:t>small</a:t>
                </a:r>
                <a:endParaRPr b="1" i="1" lang="en-US" sz="16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</p:grpSp>
      <p:grpSp>
        <p:nvGrpSpPr>
          <p:cNvPr id="648" name=""/>
          <p:cNvGrpSpPr/>
          <p:nvPr/>
        </p:nvGrpSpPr>
        <p:grpSpPr>
          <a:xfrm>
            <a:off x="6019920" y="4191120"/>
            <a:ext cx="2217600" cy="862920"/>
            <a:chOff x="6019920" y="4191120"/>
            <a:chExt cx="2217600" cy="862920"/>
          </a:xfrm>
        </p:grpSpPr>
        <p:grpSp>
          <p:nvGrpSpPr>
            <p:cNvPr id="649" name=""/>
            <p:cNvGrpSpPr/>
            <p:nvPr/>
          </p:nvGrpSpPr>
          <p:grpSpPr>
            <a:xfrm>
              <a:off x="6019920" y="4191120"/>
              <a:ext cx="1751040" cy="776160"/>
              <a:chOff x="6019920" y="4191120"/>
              <a:chExt cx="1751040" cy="776160"/>
            </a:xfrm>
          </p:grpSpPr>
          <p:sp>
            <p:nvSpPr>
              <p:cNvPr id="650" name=""/>
              <p:cNvSpPr/>
              <p:nvPr/>
            </p:nvSpPr>
            <p:spPr>
              <a:xfrm>
                <a:off x="6019920" y="4191120"/>
                <a:ext cx="12175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400" spc="-1" strike="noStrike" u="sng">
                    <a:solidFill>
                      <a:srgbClr val="3399ff"/>
                    </a:solidFill>
                    <a:uFillTx/>
                    <a:latin typeface="Tahoma"/>
                  </a:rPr>
                  <a:t>verified iff</a:t>
                </a:r>
                <a:endParaRPr b="1" i="1" lang="en-US" sz="14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graphicFrame>
            <p:nvGraphicFramePr>
              <p:cNvPr id="651" name=""/>
              <p:cNvGraphicFramePr/>
              <p:nvPr/>
            </p:nvGraphicFramePr>
            <p:xfrm>
              <a:off x="6113520" y="4471920"/>
              <a:ext cx="1657440" cy="49536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652" name="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6113520" y="4471920"/>
                        <a:ext cx="1657440" cy="495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53" name=""/>
            <p:cNvSpPr/>
            <p:nvPr/>
          </p:nvSpPr>
          <p:spPr>
            <a:xfrm>
              <a:off x="7791120" y="4433760"/>
              <a:ext cx="44640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600" spc="-1" strike="noStrike" u="sng">
                  <a:solidFill>
                    <a:srgbClr val="3399ff"/>
                  </a:solidFill>
                  <a:uFillTx/>
                  <a:latin typeface="Tahoma"/>
                </a:rPr>
                <a:t>(</a:t>
              </a:r>
              <a:r>
                <a:rPr b="1" i="1" lang="en-US" sz="3200" spc="-1" strike="noStrike" u="sng" baseline="-18000">
                  <a:solidFill>
                    <a:srgbClr val="3399ff"/>
                  </a:solidFill>
                  <a:uFillTx/>
                  <a:latin typeface="Tahoma"/>
                </a:rPr>
                <a:t>*</a:t>
              </a:r>
              <a:r>
                <a:rPr b="1" i="1" lang="en-US" sz="1600" spc="-1" strike="noStrike" u="sng">
                  <a:solidFill>
                    <a:srgbClr val="3399ff"/>
                  </a:solidFill>
                  <a:uFillTx/>
                  <a:latin typeface="Tahoma"/>
                </a:rPr>
                <a:t>)</a:t>
              </a:r>
              <a:endParaRPr b="1" i="1" lang="en-US" sz="16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graphicFrame>
        <p:nvGraphicFramePr>
          <p:cNvPr id="654" name=""/>
          <p:cNvGraphicFramePr/>
          <p:nvPr/>
        </p:nvGraphicFramePr>
        <p:xfrm>
          <a:off x="890640" y="3270240"/>
          <a:ext cx="6756480" cy="1047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890640" y="3270240"/>
                    <a:ext cx="675648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500" fill="hold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 fill="hold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 fill="hold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 fill="hold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 fill="hold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 fill="hold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 fill="hold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 fill="hold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1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 fill="hold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 fill="hold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 fill="hold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 fill="hold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 fill="hold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 fill="hold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 fill="hold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 fill="hold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0701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1258920" y="3645000"/>
            <a:ext cx="2232000" cy="1293840"/>
            <a:chOff x="1258920" y="3645000"/>
            <a:chExt cx="2232000" cy="129384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1258920" y="3645000"/>
              <a:ext cx="223200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900440" y="3913200"/>
              <a:ext cx="9471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2100" spc="-1" strike="noStrike" u="sng">
                  <a:solidFill>
                    <a:srgbClr val="a50021"/>
                  </a:solidFill>
                  <a:uFillTx/>
                  <a:latin typeface="Tahoma"/>
                </a:rPr>
                <a:t>karoti</a:t>
              </a:r>
              <a:endParaRPr b="1" i="1" lang="en-US" sz="21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826920" y="2060640"/>
            <a:ext cx="3024360" cy="792000"/>
          </a:xfrm>
          <a:prstGeom prst="rect">
            <a:avLst/>
          </a:prstGeom>
          <a:noFill/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cxnSp>
        <p:nvCxnSpPr>
          <p:cNvPr id="67" name=""/>
          <p:cNvCxnSpPr>
            <a:stCxn id="66" idx="1"/>
            <a:endCxn id="64" idx="1"/>
          </p:cNvCxnSpPr>
          <p:nvPr/>
        </p:nvCxnSpPr>
        <p:spPr>
          <a:xfrm>
            <a:off x="394920" y="622440"/>
            <a:ext cx="432360" cy="1837440"/>
          </a:xfrm>
          <a:prstGeom prst="bentConnector3">
            <a:avLst>
              <a:gd name="adj1" fmla="val 50000"/>
            </a:avLst>
          </a:prstGeom>
          <a:ln w="57240">
            <a:solidFill>
              <a:srgbClr val="a50021"/>
            </a:solidFill>
            <a:miter/>
            <a:tailEnd len="med" type="triangle" w="med"/>
          </a:ln>
        </p:spPr>
      </p:cxnSp>
      <p:grpSp>
        <p:nvGrpSpPr>
          <p:cNvPr id="68" name=""/>
          <p:cNvGrpSpPr/>
          <p:nvPr/>
        </p:nvGrpSpPr>
        <p:grpSpPr>
          <a:xfrm>
            <a:off x="4132440" y="223920"/>
            <a:ext cx="4998960" cy="5739840"/>
            <a:chOff x="4132440" y="223920"/>
            <a:chExt cx="4998960" cy="5739840"/>
          </a:xfrm>
        </p:grpSpPr>
        <p:pic>
          <p:nvPicPr>
            <p:cNvPr id="69" name="" descr=""/>
            <p:cNvPicPr/>
            <p:nvPr/>
          </p:nvPicPr>
          <p:blipFill>
            <a:blip r:embed="rId3"/>
            <a:srcRect l="0" t="0" r="15416" b="0"/>
            <a:stretch/>
          </p:blipFill>
          <p:spPr>
            <a:xfrm>
              <a:off x="4132440" y="880920"/>
              <a:ext cx="4998960" cy="4840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"/>
            <p:cNvGrpSpPr/>
            <p:nvPr/>
          </p:nvGrpSpPr>
          <p:grpSpPr>
            <a:xfrm>
              <a:off x="7164360" y="223920"/>
              <a:ext cx="1965240" cy="5739840"/>
              <a:chOff x="7164360" y="223920"/>
              <a:chExt cx="1965240" cy="5739840"/>
            </a:xfrm>
          </p:grpSpPr>
          <p:sp>
            <p:nvSpPr>
              <p:cNvPr id="71" name=""/>
              <p:cNvSpPr/>
              <p:nvPr/>
            </p:nvSpPr>
            <p:spPr>
              <a:xfrm>
                <a:off x="8101080" y="2929320"/>
                <a:ext cx="1028520" cy="3034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164360" y="223920"/>
                <a:ext cx="1965240" cy="291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pic>
            <p:nvPicPr>
              <p:cNvPr id="7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13760" y="333360"/>
                <a:ext cx="1815840" cy="2672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/>
          <p:cNvSpPr/>
          <p:nvPr/>
        </p:nvSpPr>
        <p:spPr>
          <a:xfrm>
            <a:off x="917640" y="981000"/>
            <a:ext cx="701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It is easy to prove that cyclic behavior is impossible if the effort is low. In contrast, if the effort is sufficiently high, the production rate can periodically fluctuate over time 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307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Can the model mimic a ”prototypical career”? </a:t>
            </a:r>
            <a:endParaRPr b="1" i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1415160" y="4852800"/>
            <a:ext cx="5450400" cy="1454040"/>
            <a:chOff x="1415160" y="4852800"/>
            <a:chExt cx="5450400" cy="1454040"/>
          </a:xfrm>
        </p:grpSpPr>
        <p:sp>
          <p:nvSpPr>
            <p:cNvPr id="661" name=""/>
            <p:cNvSpPr/>
            <p:nvPr/>
          </p:nvSpPr>
          <p:spPr>
            <a:xfrm flipV="1">
              <a:off x="1884240" y="4852800"/>
              <a:ext cx="0" cy="95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884240" y="5819040"/>
              <a:ext cx="490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1884240" y="576144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845360" y="58428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3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0</a:t>
              </a:r>
              <a:endParaRPr b="1" i="1" lang="en-US" sz="13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2584440" y="576144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544480" y="584280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5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285000" y="576144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195720" y="584280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10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3984840" y="576144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95920" y="584280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15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4685400" y="576144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96480" y="584280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20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5385600" y="576144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296680" y="584280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25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6085800" y="576144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996880" y="584280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30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6786000" y="576144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697080" y="584280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35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884240" y="581904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6730560" y="5819040"/>
              <a:ext cx="5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65080" y="57236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0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84240" y="520884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65080" y="511308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5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60720" y="5082840"/>
              <a:ext cx="4623840" cy="607320"/>
            </a:xfrm>
            <a:custGeom>
              <a:avLst/>
              <a:gdLst/>
              <a:ahLst/>
              <a:rect l="l" t="t" r="r" b="b"/>
              <a:pathLst>
                <a:path w="2913" h="383">
                  <a:moveTo>
                    <a:pt x="0" y="383"/>
                  </a:moveTo>
                  <a:lnTo>
                    <a:pt x="89" y="309"/>
                  </a:lnTo>
                  <a:lnTo>
                    <a:pt x="178" y="229"/>
                  </a:lnTo>
                  <a:lnTo>
                    <a:pt x="267" y="229"/>
                  </a:lnTo>
                  <a:lnTo>
                    <a:pt x="352" y="154"/>
                  </a:lnTo>
                  <a:lnTo>
                    <a:pt x="441" y="229"/>
                  </a:lnTo>
                  <a:lnTo>
                    <a:pt x="530" y="154"/>
                  </a:lnTo>
                  <a:lnTo>
                    <a:pt x="619" y="79"/>
                  </a:lnTo>
                  <a:lnTo>
                    <a:pt x="708" y="79"/>
                  </a:lnTo>
                  <a:lnTo>
                    <a:pt x="793" y="0"/>
                  </a:lnTo>
                  <a:lnTo>
                    <a:pt x="882" y="154"/>
                  </a:lnTo>
                  <a:lnTo>
                    <a:pt x="971" y="154"/>
                  </a:lnTo>
                  <a:lnTo>
                    <a:pt x="1060" y="79"/>
                  </a:lnTo>
                  <a:lnTo>
                    <a:pt x="1149" y="154"/>
                  </a:lnTo>
                  <a:lnTo>
                    <a:pt x="1234" y="229"/>
                  </a:lnTo>
                  <a:lnTo>
                    <a:pt x="1323" y="229"/>
                  </a:lnTo>
                  <a:lnTo>
                    <a:pt x="1412" y="154"/>
                  </a:lnTo>
                  <a:lnTo>
                    <a:pt x="1501" y="0"/>
                  </a:lnTo>
                  <a:lnTo>
                    <a:pt x="1590" y="79"/>
                  </a:lnTo>
                  <a:lnTo>
                    <a:pt x="1675" y="79"/>
                  </a:lnTo>
                  <a:lnTo>
                    <a:pt x="1764" y="229"/>
                  </a:lnTo>
                  <a:lnTo>
                    <a:pt x="1853" y="383"/>
                  </a:lnTo>
                  <a:lnTo>
                    <a:pt x="1942" y="383"/>
                  </a:lnTo>
                  <a:lnTo>
                    <a:pt x="2031" y="229"/>
                  </a:lnTo>
                  <a:lnTo>
                    <a:pt x="2116" y="154"/>
                  </a:lnTo>
                  <a:lnTo>
                    <a:pt x="2205" y="154"/>
                  </a:lnTo>
                  <a:lnTo>
                    <a:pt x="2294" y="154"/>
                  </a:lnTo>
                  <a:lnTo>
                    <a:pt x="2383" y="79"/>
                  </a:lnTo>
                  <a:lnTo>
                    <a:pt x="2472" y="229"/>
                  </a:lnTo>
                  <a:lnTo>
                    <a:pt x="2557" y="309"/>
                  </a:lnTo>
                  <a:lnTo>
                    <a:pt x="2646" y="383"/>
                  </a:lnTo>
                  <a:lnTo>
                    <a:pt x="2735" y="309"/>
                  </a:lnTo>
                  <a:lnTo>
                    <a:pt x="2824" y="229"/>
                  </a:lnTo>
                  <a:lnTo>
                    <a:pt x="2913" y="309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28680" y="565992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70160" y="5542560"/>
              <a:ext cx="69840" cy="68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411280" y="541512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52760" y="541512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87760" y="5295960"/>
              <a:ext cx="680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829240" y="541512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70720" y="529596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11840" y="517716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54760" y="5177160"/>
              <a:ext cx="6840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387960" y="5051160"/>
              <a:ext cx="68400" cy="6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529440" y="529596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70560" y="529596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12040" y="517716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954960" y="5295960"/>
              <a:ext cx="680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088160" y="5415120"/>
              <a:ext cx="6840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230000" y="541512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371120" y="529596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512240" y="5051160"/>
              <a:ext cx="69840" cy="6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55160" y="5177160"/>
              <a:ext cx="6840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788720" y="5177160"/>
              <a:ext cx="680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929840" y="541512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71320" y="565992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12440" y="565992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355360" y="5415120"/>
              <a:ext cx="6840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488560" y="5295960"/>
              <a:ext cx="6840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630400" y="529596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71520" y="529596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13000" y="517716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55920" y="5415120"/>
              <a:ext cx="680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89120" y="5542560"/>
              <a:ext cx="68400" cy="68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30600" y="565992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471720" y="5542560"/>
              <a:ext cx="69840" cy="68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12840" y="5415120"/>
              <a:ext cx="7020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55760" y="5542560"/>
              <a:ext cx="68400" cy="68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14400" y="6033600"/>
              <a:ext cx="3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415160" y="4866480"/>
              <a:ext cx="213480" cy="9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ahoma"/>
                </a:rPr>
                <a:t># of papers</a:t>
              </a:r>
              <a:endParaRPr b="1" i="1" lang="en-US" sz="14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6313320" y="459432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418040" y="3319560"/>
            <a:ext cx="5447520" cy="1293840"/>
            <a:chOff x="1418040" y="3319560"/>
            <a:chExt cx="5447520" cy="1293840"/>
          </a:xfrm>
        </p:grpSpPr>
        <p:sp>
          <p:nvSpPr>
            <p:cNvPr id="723" name=""/>
            <p:cNvSpPr/>
            <p:nvPr/>
          </p:nvSpPr>
          <p:spPr>
            <a:xfrm flipV="1">
              <a:off x="1884240" y="3446280"/>
              <a:ext cx="0" cy="9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1884240" y="3446280"/>
              <a:ext cx="0" cy="9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1884240" y="433980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884240" y="3448080"/>
              <a:ext cx="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844280" y="442116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0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2584440" y="433980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544480" y="442116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5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3285000" y="433980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195720" y="442116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10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3984840" y="433980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95920" y="442116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15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4685400" y="433980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96480" y="442116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20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5385600" y="433980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296680" y="442116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25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6085800" y="433980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996880" y="442116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30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786000" y="433980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697080" y="442116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35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884240" y="439740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6730560" y="4397400"/>
              <a:ext cx="5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65080" y="430200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0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884240" y="378792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765080" y="36925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5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1884240" y="3446280"/>
              <a:ext cx="0" cy="9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1884240" y="3747960"/>
              <a:ext cx="4617360" cy="639720"/>
              <a:chOff x="1884240" y="3747960"/>
              <a:chExt cx="4617360" cy="639720"/>
            </a:xfrm>
          </p:grpSpPr>
          <p:sp>
            <p:nvSpPr>
              <p:cNvPr id="749" name=""/>
              <p:cNvSpPr/>
              <p:nvPr/>
            </p:nvSpPr>
            <p:spPr>
              <a:xfrm>
                <a:off x="1884240" y="3843360"/>
                <a:ext cx="990720" cy="544320"/>
              </a:xfrm>
              <a:custGeom>
                <a:avLst/>
                <a:gdLst/>
                <a:ahLst/>
                <a:rect l="l" t="t" r="r" b="b"/>
                <a:pathLst>
                  <a:path w="625" h="344">
                    <a:moveTo>
                      <a:pt x="5" y="344"/>
                    </a:moveTo>
                    <a:lnTo>
                      <a:pt x="0" y="344"/>
                    </a:lnTo>
                    <a:lnTo>
                      <a:pt x="5" y="344"/>
                    </a:lnTo>
                    <a:lnTo>
                      <a:pt x="10" y="344"/>
                    </a:lnTo>
                    <a:lnTo>
                      <a:pt x="15" y="344"/>
                    </a:lnTo>
                    <a:lnTo>
                      <a:pt x="20" y="339"/>
                    </a:lnTo>
                    <a:lnTo>
                      <a:pt x="25" y="339"/>
                    </a:lnTo>
                    <a:lnTo>
                      <a:pt x="30" y="334"/>
                    </a:lnTo>
                    <a:lnTo>
                      <a:pt x="35" y="329"/>
                    </a:lnTo>
                    <a:lnTo>
                      <a:pt x="40" y="329"/>
                    </a:lnTo>
                    <a:lnTo>
                      <a:pt x="45" y="324"/>
                    </a:lnTo>
                    <a:lnTo>
                      <a:pt x="50" y="319"/>
                    </a:lnTo>
                    <a:lnTo>
                      <a:pt x="55" y="319"/>
                    </a:lnTo>
                    <a:lnTo>
                      <a:pt x="60" y="314"/>
                    </a:lnTo>
                    <a:lnTo>
                      <a:pt x="65" y="309"/>
                    </a:lnTo>
                    <a:lnTo>
                      <a:pt x="70" y="304"/>
                    </a:lnTo>
                    <a:lnTo>
                      <a:pt x="75" y="299"/>
                    </a:lnTo>
                    <a:lnTo>
                      <a:pt x="80" y="299"/>
                    </a:lnTo>
                    <a:lnTo>
                      <a:pt x="85" y="294"/>
                    </a:lnTo>
                    <a:lnTo>
                      <a:pt x="89" y="289"/>
                    </a:lnTo>
                    <a:lnTo>
                      <a:pt x="94" y="284"/>
                    </a:lnTo>
                    <a:lnTo>
                      <a:pt x="99" y="279"/>
                    </a:lnTo>
                    <a:lnTo>
                      <a:pt x="104" y="274"/>
                    </a:lnTo>
                    <a:lnTo>
                      <a:pt x="109" y="269"/>
                    </a:lnTo>
                    <a:lnTo>
                      <a:pt x="114" y="269"/>
                    </a:lnTo>
                    <a:lnTo>
                      <a:pt x="119" y="264"/>
                    </a:lnTo>
                    <a:lnTo>
                      <a:pt x="124" y="259"/>
                    </a:lnTo>
                    <a:lnTo>
                      <a:pt x="129" y="254"/>
                    </a:lnTo>
                    <a:lnTo>
                      <a:pt x="134" y="249"/>
                    </a:lnTo>
                    <a:lnTo>
                      <a:pt x="139" y="244"/>
                    </a:lnTo>
                    <a:lnTo>
                      <a:pt x="144" y="239"/>
                    </a:lnTo>
                    <a:lnTo>
                      <a:pt x="149" y="234"/>
                    </a:lnTo>
                    <a:lnTo>
                      <a:pt x="154" y="234"/>
                    </a:lnTo>
                    <a:lnTo>
                      <a:pt x="159" y="229"/>
                    </a:lnTo>
                    <a:lnTo>
                      <a:pt x="164" y="224"/>
                    </a:lnTo>
                    <a:lnTo>
                      <a:pt x="169" y="219"/>
                    </a:lnTo>
                    <a:lnTo>
                      <a:pt x="174" y="214"/>
                    </a:lnTo>
                    <a:lnTo>
                      <a:pt x="179" y="214"/>
                    </a:lnTo>
                    <a:lnTo>
                      <a:pt x="184" y="209"/>
                    </a:lnTo>
                    <a:lnTo>
                      <a:pt x="189" y="204"/>
                    </a:lnTo>
                    <a:lnTo>
                      <a:pt x="194" y="199"/>
                    </a:lnTo>
                    <a:lnTo>
                      <a:pt x="199" y="199"/>
                    </a:lnTo>
                    <a:lnTo>
                      <a:pt x="203" y="194"/>
                    </a:lnTo>
                    <a:lnTo>
                      <a:pt x="208" y="189"/>
                    </a:lnTo>
                    <a:lnTo>
                      <a:pt x="213" y="184"/>
                    </a:lnTo>
                    <a:lnTo>
                      <a:pt x="218" y="184"/>
                    </a:lnTo>
                    <a:lnTo>
                      <a:pt x="223" y="179"/>
                    </a:lnTo>
                    <a:lnTo>
                      <a:pt x="228" y="174"/>
                    </a:lnTo>
                    <a:lnTo>
                      <a:pt x="233" y="174"/>
                    </a:lnTo>
                    <a:lnTo>
                      <a:pt x="238" y="169"/>
                    </a:lnTo>
                    <a:lnTo>
                      <a:pt x="243" y="164"/>
                    </a:lnTo>
                    <a:lnTo>
                      <a:pt x="248" y="159"/>
                    </a:lnTo>
                    <a:lnTo>
                      <a:pt x="253" y="159"/>
                    </a:lnTo>
                    <a:lnTo>
                      <a:pt x="258" y="154"/>
                    </a:lnTo>
                    <a:lnTo>
                      <a:pt x="263" y="149"/>
                    </a:lnTo>
                    <a:lnTo>
                      <a:pt x="268" y="149"/>
                    </a:lnTo>
                    <a:lnTo>
                      <a:pt x="273" y="144"/>
                    </a:lnTo>
                    <a:lnTo>
                      <a:pt x="278" y="144"/>
                    </a:lnTo>
                    <a:lnTo>
                      <a:pt x="283" y="139"/>
                    </a:lnTo>
                    <a:lnTo>
                      <a:pt x="288" y="134"/>
                    </a:lnTo>
                    <a:lnTo>
                      <a:pt x="293" y="134"/>
                    </a:lnTo>
                    <a:lnTo>
                      <a:pt x="298" y="129"/>
                    </a:lnTo>
                    <a:lnTo>
                      <a:pt x="303" y="129"/>
                    </a:lnTo>
                    <a:lnTo>
                      <a:pt x="308" y="124"/>
                    </a:lnTo>
                    <a:lnTo>
                      <a:pt x="312" y="119"/>
                    </a:lnTo>
                    <a:lnTo>
                      <a:pt x="317" y="119"/>
                    </a:lnTo>
                    <a:lnTo>
                      <a:pt x="322" y="114"/>
                    </a:lnTo>
                    <a:lnTo>
                      <a:pt x="327" y="114"/>
                    </a:lnTo>
                    <a:lnTo>
                      <a:pt x="332" y="109"/>
                    </a:lnTo>
                    <a:lnTo>
                      <a:pt x="337" y="109"/>
                    </a:lnTo>
                    <a:lnTo>
                      <a:pt x="342" y="104"/>
                    </a:lnTo>
                    <a:lnTo>
                      <a:pt x="347" y="104"/>
                    </a:lnTo>
                    <a:lnTo>
                      <a:pt x="352" y="99"/>
                    </a:lnTo>
                    <a:lnTo>
                      <a:pt x="357" y="95"/>
                    </a:lnTo>
                    <a:lnTo>
                      <a:pt x="362" y="95"/>
                    </a:lnTo>
                    <a:lnTo>
                      <a:pt x="367" y="90"/>
                    </a:lnTo>
                    <a:lnTo>
                      <a:pt x="372" y="90"/>
                    </a:lnTo>
                    <a:lnTo>
                      <a:pt x="377" y="90"/>
                    </a:lnTo>
                    <a:lnTo>
                      <a:pt x="382" y="85"/>
                    </a:lnTo>
                    <a:lnTo>
                      <a:pt x="387" y="85"/>
                    </a:lnTo>
                    <a:lnTo>
                      <a:pt x="392" y="80"/>
                    </a:lnTo>
                    <a:lnTo>
                      <a:pt x="397" y="80"/>
                    </a:lnTo>
                    <a:lnTo>
                      <a:pt x="402" y="75"/>
                    </a:lnTo>
                    <a:lnTo>
                      <a:pt x="407" y="75"/>
                    </a:lnTo>
                    <a:lnTo>
                      <a:pt x="412" y="70"/>
                    </a:lnTo>
                    <a:lnTo>
                      <a:pt x="417" y="70"/>
                    </a:lnTo>
                    <a:lnTo>
                      <a:pt x="421" y="65"/>
                    </a:lnTo>
                    <a:lnTo>
                      <a:pt x="426" y="65"/>
                    </a:lnTo>
                    <a:lnTo>
                      <a:pt x="431" y="65"/>
                    </a:lnTo>
                    <a:lnTo>
                      <a:pt x="436" y="60"/>
                    </a:lnTo>
                    <a:lnTo>
                      <a:pt x="441" y="60"/>
                    </a:lnTo>
                    <a:lnTo>
                      <a:pt x="446" y="55"/>
                    </a:lnTo>
                    <a:lnTo>
                      <a:pt x="451" y="55"/>
                    </a:lnTo>
                    <a:lnTo>
                      <a:pt x="456" y="55"/>
                    </a:lnTo>
                    <a:lnTo>
                      <a:pt x="461" y="50"/>
                    </a:lnTo>
                    <a:lnTo>
                      <a:pt x="466" y="50"/>
                    </a:lnTo>
                    <a:lnTo>
                      <a:pt x="471" y="45"/>
                    </a:lnTo>
                    <a:lnTo>
                      <a:pt x="476" y="45"/>
                    </a:lnTo>
                    <a:lnTo>
                      <a:pt x="481" y="45"/>
                    </a:lnTo>
                    <a:lnTo>
                      <a:pt x="486" y="40"/>
                    </a:lnTo>
                    <a:lnTo>
                      <a:pt x="491" y="40"/>
                    </a:lnTo>
                    <a:lnTo>
                      <a:pt x="496" y="40"/>
                    </a:lnTo>
                    <a:lnTo>
                      <a:pt x="501" y="35"/>
                    </a:lnTo>
                    <a:lnTo>
                      <a:pt x="506" y="35"/>
                    </a:lnTo>
                    <a:lnTo>
                      <a:pt x="511" y="35"/>
                    </a:lnTo>
                    <a:lnTo>
                      <a:pt x="516" y="30"/>
                    </a:lnTo>
                    <a:lnTo>
                      <a:pt x="521" y="30"/>
                    </a:lnTo>
                    <a:lnTo>
                      <a:pt x="526" y="30"/>
                    </a:lnTo>
                    <a:lnTo>
                      <a:pt x="531" y="25"/>
                    </a:lnTo>
                    <a:lnTo>
                      <a:pt x="535" y="25"/>
                    </a:lnTo>
                    <a:lnTo>
                      <a:pt x="540" y="25"/>
                    </a:lnTo>
                    <a:lnTo>
                      <a:pt x="545" y="20"/>
                    </a:lnTo>
                    <a:lnTo>
                      <a:pt x="550" y="20"/>
                    </a:lnTo>
                    <a:lnTo>
                      <a:pt x="555" y="20"/>
                    </a:lnTo>
                    <a:lnTo>
                      <a:pt x="560" y="20"/>
                    </a:lnTo>
                    <a:lnTo>
                      <a:pt x="565" y="15"/>
                    </a:lnTo>
                    <a:lnTo>
                      <a:pt x="570" y="15"/>
                    </a:lnTo>
                    <a:lnTo>
                      <a:pt x="575" y="15"/>
                    </a:lnTo>
                    <a:lnTo>
                      <a:pt x="580" y="10"/>
                    </a:lnTo>
                    <a:lnTo>
                      <a:pt x="585" y="10"/>
                    </a:lnTo>
                    <a:lnTo>
                      <a:pt x="590" y="10"/>
                    </a:lnTo>
                    <a:lnTo>
                      <a:pt x="595" y="10"/>
                    </a:lnTo>
                    <a:lnTo>
                      <a:pt x="600" y="5"/>
                    </a:lnTo>
                    <a:lnTo>
                      <a:pt x="605" y="5"/>
                    </a:lnTo>
                    <a:lnTo>
                      <a:pt x="610" y="5"/>
                    </a:lnTo>
                    <a:lnTo>
                      <a:pt x="615" y="5"/>
                    </a:lnTo>
                    <a:lnTo>
                      <a:pt x="620" y="5"/>
                    </a:lnTo>
                    <a:lnTo>
                      <a:pt x="625" y="0"/>
                    </a:ln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876400" y="3811680"/>
                <a:ext cx="997200" cy="149040"/>
              </a:xfrm>
              <a:custGeom>
                <a:avLst/>
                <a:gdLst/>
                <a:ahLst/>
                <a:rect l="l" t="t" r="r" b="b"/>
                <a:pathLst>
                  <a:path w="629" h="95">
                    <a:moveTo>
                      <a:pt x="0" y="20"/>
                    </a:moveTo>
                    <a:lnTo>
                      <a:pt x="5" y="20"/>
                    </a:lnTo>
                    <a:lnTo>
                      <a:pt x="10" y="20"/>
                    </a:lnTo>
                    <a:lnTo>
                      <a:pt x="15" y="20"/>
                    </a:lnTo>
                    <a:lnTo>
                      <a:pt x="19" y="20"/>
                    </a:lnTo>
                    <a:lnTo>
                      <a:pt x="24" y="15"/>
                    </a:lnTo>
                    <a:lnTo>
                      <a:pt x="29" y="15"/>
                    </a:lnTo>
                    <a:lnTo>
                      <a:pt x="34" y="15"/>
                    </a:lnTo>
                    <a:lnTo>
                      <a:pt x="39" y="15"/>
                    </a:lnTo>
                    <a:lnTo>
                      <a:pt x="44" y="15"/>
                    </a:lnTo>
                    <a:lnTo>
                      <a:pt x="49" y="10"/>
                    </a:lnTo>
                    <a:lnTo>
                      <a:pt x="54" y="10"/>
                    </a:lnTo>
                    <a:lnTo>
                      <a:pt x="59" y="10"/>
                    </a:lnTo>
                    <a:lnTo>
                      <a:pt x="64" y="10"/>
                    </a:lnTo>
                    <a:lnTo>
                      <a:pt x="69" y="10"/>
                    </a:lnTo>
                    <a:lnTo>
                      <a:pt x="74" y="10"/>
                    </a:lnTo>
                    <a:lnTo>
                      <a:pt x="79" y="10"/>
                    </a:lnTo>
                    <a:lnTo>
                      <a:pt x="84" y="5"/>
                    </a:lnTo>
                    <a:lnTo>
                      <a:pt x="89" y="5"/>
                    </a:lnTo>
                    <a:lnTo>
                      <a:pt x="94" y="5"/>
                    </a:lnTo>
                    <a:lnTo>
                      <a:pt x="99" y="5"/>
                    </a:lnTo>
                    <a:lnTo>
                      <a:pt x="104" y="5"/>
                    </a:lnTo>
                    <a:lnTo>
                      <a:pt x="109" y="5"/>
                    </a:lnTo>
                    <a:lnTo>
                      <a:pt x="114" y="5"/>
                    </a:lnTo>
                    <a:lnTo>
                      <a:pt x="119" y="5"/>
                    </a:lnTo>
                    <a:lnTo>
                      <a:pt x="124" y="5"/>
                    </a:lnTo>
                    <a:lnTo>
                      <a:pt x="128" y="0"/>
                    </a:lnTo>
                    <a:lnTo>
                      <a:pt x="133" y="0"/>
                    </a:lnTo>
                    <a:lnTo>
                      <a:pt x="138" y="0"/>
                    </a:lnTo>
                    <a:lnTo>
                      <a:pt x="143" y="0"/>
                    </a:lnTo>
                    <a:lnTo>
                      <a:pt x="148" y="0"/>
                    </a:lnTo>
                    <a:lnTo>
                      <a:pt x="153" y="0"/>
                    </a:lnTo>
                    <a:lnTo>
                      <a:pt x="158" y="0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73" y="0"/>
                    </a:lnTo>
                    <a:lnTo>
                      <a:pt x="178" y="0"/>
                    </a:lnTo>
                    <a:lnTo>
                      <a:pt x="183" y="0"/>
                    </a:lnTo>
                    <a:lnTo>
                      <a:pt x="188" y="0"/>
                    </a:lnTo>
                    <a:lnTo>
                      <a:pt x="193" y="0"/>
                    </a:lnTo>
                    <a:lnTo>
                      <a:pt x="198" y="0"/>
                    </a:lnTo>
                    <a:lnTo>
                      <a:pt x="203" y="0"/>
                    </a:lnTo>
                    <a:lnTo>
                      <a:pt x="208" y="0"/>
                    </a:lnTo>
                    <a:lnTo>
                      <a:pt x="213" y="0"/>
                    </a:lnTo>
                    <a:lnTo>
                      <a:pt x="218" y="0"/>
                    </a:lnTo>
                    <a:lnTo>
                      <a:pt x="223" y="0"/>
                    </a:lnTo>
                    <a:lnTo>
                      <a:pt x="228" y="0"/>
                    </a:lnTo>
                    <a:lnTo>
                      <a:pt x="233" y="0"/>
                    </a:lnTo>
                    <a:lnTo>
                      <a:pt x="238" y="0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52" y="0"/>
                    </a:lnTo>
                    <a:lnTo>
                      <a:pt x="257" y="0"/>
                    </a:lnTo>
                    <a:lnTo>
                      <a:pt x="262" y="0"/>
                    </a:lnTo>
                    <a:lnTo>
                      <a:pt x="267" y="0"/>
                    </a:lnTo>
                    <a:lnTo>
                      <a:pt x="272" y="0"/>
                    </a:lnTo>
                    <a:lnTo>
                      <a:pt x="277" y="0"/>
                    </a:lnTo>
                    <a:lnTo>
                      <a:pt x="282" y="0"/>
                    </a:lnTo>
                    <a:lnTo>
                      <a:pt x="287" y="0"/>
                    </a:lnTo>
                    <a:lnTo>
                      <a:pt x="292" y="0"/>
                    </a:lnTo>
                    <a:lnTo>
                      <a:pt x="297" y="0"/>
                    </a:lnTo>
                    <a:lnTo>
                      <a:pt x="302" y="0"/>
                    </a:lnTo>
                    <a:lnTo>
                      <a:pt x="307" y="5"/>
                    </a:lnTo>
                    <a:lnTo>
                      <a:pt x="312" y="5"/>
                    </a:lnTo>
                    <a:lnTo>
                      <a:pt x="317" y="5"/>
                    </a:lnTo>
                    <a:lnTo>
                      <a:pt x="322" y="5"/>
                    </a:lnTo>
                    <a:lnTo>
                      <a:pt x="327" y="5"/>
                    </a:lnTo>
                    <a:lnTo>
                      <a:pt x="332" y="5"/>
                    </a:lnTo>
                    <a:lnTo>
                      <a:pt x="337" y="5"/>
                    </a:lnTo>
                    <a:lnTo>
                      <a:pt x="342" y="5"/>
                    </a:lnTo>
                    <a:lnTo>
                      <a:pt x="347" y="5"/>
                    </a:lnTo>
                    <a:lnTo>
                      <a:pt x="351" y="10"/>
                    </a:lnTo>
                    <a:lnTo>
                      <a:pt x="356" y="10"/>
                    </a:lnTo>
                    <a:lnTo>
                      <a:pt x="361" y="10"/>
                    </a:lnTo>
                    <a:lnTo>
                      <a:pt x="366" y="10"/>
                    </a:lnTo>
                    <a:lnTo>
                      <a:pt x="371" y="10"/>
                    </a:lnTo>
                    <a:lnTo>
                      <a:pt x="376" y="10"/>
                    </a:lnTo>
                    <a:lnTo>
                      <a:pt x="381" y="15"/>
                    </a:lnTo>
                    <a:lnTo>
                      <a:pt x="386" y="15"/>
                    </a:lnTo>
                    <a:lnTo>
                      <a:pt x="391" y="15"/>
                    </a:lnTo>
                    <a:lnTo>
                      <a:pt x="396" y="15"/>
                    </a:lnTo>
                    <a:lnTo>
                      <a:pt x="401" y="15"/>
                    </a:lnTo>
                    <a:lnTo>
                      <a:pt x="406" y="20"/>
                    </a:lnTo>
                    <a:lnTo>
                      <a:pt x="411" y="20"/>
                    </a:lnTo>
                    <a:lnTo>
                      <a:pt x="416" y="20"/>
                    </a:lnTo>
                    <a:lnTo>
                      <a:pt x="421" y="20"/>
                    </a:lnTo>
                    <a:lnTo>
                      <a:pt x="426" y="20"/>
                    </a:lnTo>
                    <a:lnTo>
                      <a:pt x="431" y="25"/>
                    </a:lnTo>
                    <a:lnTo>
                      <a:pt x="436" y="25"/>
                    </a:lnTo>
                    <a:lnTo>
                      <a:pt x="441" y="25"/>
                    </a:lnTo>
                    <a:lnTo>
                      <a:pt x="446" y="25"/>
                    </a:lnTo>
                    <a:lnTo>
                      <a:pt x="451" y="30"/>
                    </a:lnTo>
                    <a:lnTo>
                      <a:pt x="456" y="30"/>
                    </a:lnTo>
                    <a:lnTo>
                      <a:pt x="460" y="30"/>
                    </a:lnTo>
                    <a:lnTo>
                      <a:pt x="465" y="35"/>
                    </a:lnTo>
                    <a:lnTo>
                      <a:pt x="470" y="35"/>
                    </a:lnTo>
                    <a:lnTo>
                      <a:pt x="475" y="35"/>
                    </a:lnTo>
                    <a:lnTo>
                      <a:pt x="480" y="35"/>
                    </a:lnTo>
                    <a:lnTo>
                      <a:pt x="485" y="40"/>
                    </a:lnTo>
                    <a:lnTo>
                      <a:pt x="490" y="40"/>
                    </a:lnTo>
                    <a:lnTo>
                      <a:pt x="495" y="40"/>
                    </a:lnTo>
                    <a:lnTo>
                      <a:pt x="500" y="45"/>
                    </a:lnTo>
                    <a:lnTo>
                      <a:pt x="505" y="45"/>
                    </a:lnTo>
                    <a:lnTo>
                      <a:pt x="510" y="45"/>
                    </a:lnTo>
                    <a:lnTo>
                      <a:pt x="515" y="50"/>
                    </a:lnTo>
                    <a:lnTo>
                      <a:pt x="520" y="50"/>
                    </a:lnTo>
                    <a:lnTo>
                      <a:pt x="525" y="50"/>
                    </a:lnTo>
                    <a:lnTo>
                      <a:pt x="530" y="55"/>
                    </a:lnTo>
                    <a:lnTo>
                      <a:pt x="535" y="55"/>
                    </a:lnTo>
                    <a:lnTo>
                      <a:pt x="540" y="60"/>
                    </a:lnTo>
                    <a:lnTo>
                      <a:pt x="545" y="60"/>
                    </a:lnTo>
                    <a:lnTo>
                      <a:pt x="550" y="60"/>
                    </a:lnTo>
                    <a:lnTo>
                      <a:pt x="555" y="65"/>
                    </a:lnTo>
                    <a:lnTo>
                      <a:pt x="560" y="65"/>
                    </a:lnTo>
                    <a:lnTo>
                      <a:pt x="565" y="70"/>
                    </a:lnTo>
                    <a:lnTo>
                      <a:pt x="570" y="70"/>
                    </a:lnTo>
                    <a:lnTo>
                      <a:pt x="574" y="70"/>
                    </a:lnTo>
                    <a:lnTo>
                      <a:pt x="579" y="75"/>
                    </a:lnTo>
                    <a:lnTo>
                      <a:pt x="584" y="75"/>
                    </a:lnTo>
                    <a:lnTo>
                      <a:pt x="589" y="80"/>
                    </a:lnTo>
                    <a:lnTo>
                      <a:pt x="594" y="80"/>
                    </a:lnTo>
                    <a:lnTo>
                      <a:pt x="599" y="85"/>
                    </a:lnTo>
                    <a:lnTo>
                      <a:pt x="604" y="85"/>
                    </a:lnTo>
                    <a:lnTo>
                      <a:pt x="609" y="85"/>
                    </a:lnTo>
                    <a:lnTo>
                      <a:pt x="614" y="90"/>
                    </a:lnTo>
                    <a:lnTo>
                      <a:pt x="619" y="90"/>
                    </a:lnTo>
                    <a:lnTo>
                      <a:pt x="624" y="95"/>
                    </a:lnTo>
                    <a:lnTo>
                      <a:pt x="629" y="95"/>
                    </a:ln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875400" y="3747960"/>
                <a:ext cx="988920" cy="354240"/>
              </a:xfrm>
              <a:custGeom>
                <a:avLst/>
                <a:gdLst/>
                <a:ahLst/>
                <a:rect l="l" t="t" r="r" b="b"/>
                <a:pathLst>
                  <a:path w="624" h="224">
                    <a:moveTo>
                      <a:pt x="0" y="135"/>
                    </a:moveTo>
                    <a:lnTo>
                      <a:pt x="5" y="140"/>
                    </a:lnTo>
                    <a:lnTo>
                      <a:pt x="10" y="140"/>
                    </a:lnTo>
                    <a:lnTo>
                      <a:pt x="15" y="140"/>
                    </a:lnTo>
                    <a:lnTo>
                      <a:pt x="20" y="145"/>
                    </a:lnTo>
                    <a:lnTo>
                      <a:pt x="25" y="145"/>
                    </a:lnTo>
                    <a:lnTo>
                      <a:pt x="30" y="150"/>
                    </a:lnTo>
                    <a:lnTo>
                      <a:pt x="35" y="150"/>
                    </a:lnTo>
                    <a:lnTo>
                      <a:pt x="40" y="150"/>
                    </a:lnTo>
                    <a:lnTo>
                      <a:pt x="45" y="155"/>
                    </a:lnTo>
                    <a:lnTo>
                      <a:pt x="50" y="155"/>
                    </a:lnTo>
                    <a:lnTo>
                      <a:pt x="54" y="155"/>
                    </a:lnTo>
                    <a:lnTo>
                      <a:pt x="59" y="159"/>
                    </a:lnTo>
                    <a:lnTo>
                      <a:pt x="64" y="159"/>
                    </a:lnTo>
                    <a:lnTo>
                      <a:pt x="69" y="159"/>
                    </a:lnTo>
                    <a:lnTo>
                      <a:pt x="74" y="159"/>
                    </a:lnTo>
                    <a:lnTo>
                      <a:pt x="79" y="164"/>
                    </a:lnTo>
                    <a:lnTo>
                      <a:pt x="84" y="164"/>
                    </a:lnTo>
                    <a:lnTo>
                      <a:pt x="89" y="164"/>
                    </a:lnTo>
                    <a:lnTo>
                      <a:pt x="94" y="164"/>
                    </a:lnTo>
                    <a:lnTo>
                      <a:pt x="99" y="164"/>
                    </a:lnTo>
                    <a:lnTo>
                      <a:pt x="104" y="164"/>
                    </a:lnTo>
                    <a:lnTo>
                      <a:pt x="109" y="164"/>
                    </a:lnTo>
                    <a:lnTo>
                      <a:pt x="114" y="164"/>
                    </a:lnTo>
                    <a:lnTo>
                      <a:pt x="119" y="159"/>
                    </a:lnTo>
                    <a:lnTo>
                      <a:pt x="124" y="159"/>
                    </a:lnTo>
                    <a:lnTo>
                      <a:pt x="129" y="155"/>
                    </a:lnTo>
                    <a:lnTo>
                      <a:pt x="134" y="155"/>
                    </a:lnTo>
                    <a:lnTo>
                      <a:pt x="139" y="150"/>
                    </a:lnTo>
                    <a:lnTo>
                      <a:pt x="144" y="145"/>
                    </a:lnTo>
                    <a:lnTo>
                      <a:pt x="149" y="145"/>
                    </a:lnTo>
                    <a:lnTo>
                      <a:pt x="154" y="140"/>
                    </a:lnTo>
                    <a:lnTo>
                      <a:pt x="159" y="135"/>
                    </a:lnTo>
                    <a:lnTo>
                      <a:pt x="163" y="125"/>
                    </a:lnTo>
                    <a:lnTo>
                      <a:pt x="168" y="120"/>
                    </a:lnTo>
                    <a:lnTo>
                      <a:pt x="173" y="115"/>
                    </a:lnTo>
                    <a:lnTo>
                      <a:pt x="183" y="105"/>
                    </a:lnTo>
                    <a:lnTo>
                      <a:pt x="183" y="100"/>
                    </a:lnTo>
                    <a:lnTo>
                      <a:pt x="188" y="95"/>
                    </a:lnTo>
                    <a:lnTo>
                      <a:pt x="198" y="85"/>
                    </a:lnTo>
                    <a:lnTo>
                      <a:pt x="198" y="80"/>
                    </a:lnTo>
                    <a:lnTo>
                      <a:pt x="203" y="75"/>
                    </a:lnTo>
                    <a:lnTo>
                      <a:pt x="208" y="70"/>
                    </a:lnTo>
                    <a:lnTo>
                      <a:pt x="213" y="65"/>
                    </a:lnTo>
                    <a:lnTo>
                      <a:pt x="218" y="60"/>
                    </a:lnTo>
                    <a:lnTo>
                      <a:pt x="223" y="55"/>
                    </a:lnTo>
                    <a:lnTo>
                      <a:pt x="228" y="50"/>
                    </a:lnTo>
                    <a:lnTo>
                      <a:pt x="233" y="45"/>
                    </a:lnTo>
                    <a:lnTo>
                      <a:pt x="238" y="40"/>
                    </a:lnTo>
                    <a:lnTo>
                      <a:pt x="243" y="35"/>
                    </a:lnTo>
                    <a:lnTo>
                      <a:pt x="248" y="30"/>
                    </a:lnTo>
                    <a:lnTo>
                      <a:pt x="253" y="30"/>
                    </a:lnTo>
                    <a:lnTo>
                      <a:pt x="258" y="25"/>
                    </a:lnTo>
                    <a:lnTo>
                      <a:pt x="263" y="25"/>
                    </a:lnTo>
                    <a:lnTo>
                      <a:pt x="268" y="20"/>
                    </a:lnTo>
                    <a:lnTo>
                      <a:pt x="273" y="20"/>
                    </a:lnTo>
                    <a:lnTo>
                      <a:pt x="277" y="15"/>
                    </a:lnTo>
                    <a:lnTo>
                      <a:pt x="282" y="15"/>
                    </a:lnTo>
                    <a:lnTo>
                      <a:pt x="287" y="10"/>
                    </a:lnTo>
                    <a:lnTo>
                      <a:pt x="292" y="10"/>
                    </a:lnTo>
                    <a:lnTo>
                      <a:pt x="297" y="10"/>
                    </a:lnTo>
                    <a:lnTo>
                      <a:pt x="302" y="10"/>
                    </a:lnTo>
                    <a:lnTo>
                      <a:pt x="307" y="5"/>
                    </a:lnTo>
                    <a:lnTo>
                      <a:pt x="312" y="5"/>
                    </a:lnTo>
                    <a:lnTo>
                      <a:pt x="317" y="5"/>
                    </a:lnTo>
                    <a:lnTo>
                      <a:pt x="322" y="5"/>
                    </a:lnTo>
                    <a:lnTo>
                      <a:pt x="327" y="5"/>
                    </a:lnTo>
                    <a:lnTo>
                      <a:pt x="332" y="5"/>
                    </a:lnTo>
                    <a:lnTo>
                      <a:pt x="337" y="0"/>
                    </a:lnTo>
                    <a:lnTo>
                      <a:pt x="342" y="0"/>
                    </a:lnTo>
                    <a:lnTo>
                      <a:pt x="347" y="0"/>
                    </a:lnTo>
                    <a:lnTo>
                      <a:pt x="352" y="0"/>
                    </a:lnTo>
                    <a:lnTo>
                      <a:pt x="357" y="0"/>
                    </a:lnTo>
                    <a:lnTo>
                      <a:pt x="362" y="0"/>
                    </a:lnTo>
                    <a:lnTo>
                      <a:pt x="367" y="5"/>
                    </a:lnTo>
                    <a:lnTo>
                      <a:pt x="372" y="5"/>
                    </a:lnTo>
                    <a:lnTo>
                      <a:pt x="377" y="5"/>
                    </a:lnTo>
                    <a:lnTo>
                      <a:pt x="382" y="5"/>
                    </a:lnTo>
                    <a:lnTo>
                      <a:pt x="386" y="5"/>
                    </a:lnTo>
                    <a:lnTo>
                      <a:pt x="391" y="5"/>
                    </a:lnTo>
                    <a:lnTo>
                      <a:pt x="396" y="5"/>
                    </a:lnTo>
                    <a:lnTo>
                      <a:pt x="401" y="5"/>
                    </a:lnTo>
                    <a:lnTo>
                      <a:pt x="406" y="10"/>
                    </a:lnTo>
                    <a:lnTo>
                      <a:pt x="411" y="10"/>
                    </a:lnTo>
                    <a:lnTo>
                      <a:pt x="416" y="10"/>
                    </a:lnTo>
                    <a:lnTo>
                      <a:pt x="421" y="10"/>
                    </a:lnTo>
                    <a:lnTo>
                      <a:pt x="426" y="15"/>
                    </a:lnTo>
                    <a:lnTo>
                      <a:pt x="431" y="15"/>
                    </a:lnTo>
                    <a:lnTo>
                      <a:pt x="436" y="15"/>
                    </a:lnTo>
                    <a:lnTo>
                      <a:pt x="441" y="20"/>
                    </a:lnTo>
                    <a:lnTo>
                      <a:pt x="446" y="20"/>
                    </a:lnTo>
                    <a:lnTo>
                      <a:pt x="451" y="25"/>
                    </a:lnTo>
                    <a:lnTo>
                      <a:pt x="456" y="25"/>
                    </a:lnTo>
                    <a:lnTo>
                      <a:pt x="461" y="25"/>
                    </a:lnTo>
                    <a:lnTo>
                      <a:pt x="466" y="30"/>
                    </a:lnTo>
                    <a:lnTo>
                      <a:pt x="471" y="35"/>
                    </a:lnTo>
                    <a:lnTo>
                      <a:pt x="476" y="35"/>
                    </a:lnTo>
                    <a:lnTo>
                      <a:pt x="481" y="40"/>
                    </a:lnTo>
                    <a:lnTo>
                      <a:pt x="486" y="40"/>
                    </a:lnTo>
                    <a:lnTo>
                      <a:pt x="491" y="45"/>
                    </a:lnTo>
                    <a:lnTo>
                      <a:pt x="495" y="50"/>
                    </a:lnTo>
                    <a:lnTo>
                      <a:pt x="500" y="50"/>
                    </a:lnTo>
                    <a:lnTo>
                      <a:pt x="505" y="55"/>
                    </a:lnTo>
                    <a:lnTo>
                      <a:pt x="510" y="60"/>
                    </a:lnTo>
                    <a:lnTo>
                      <a:pt x="515" y="65"/>
                    </a:lnTo>
                    <a:lnTo>
                      <a:pt x="520" y="70"/>
                    </a:lnTo>
                    <a:lnTo>
                      <a:pt x="525" y="75"/>
                    </a:lnTo>
                    <a:lnTo>
                      <a:pt x="530" y="80"/>
                    </a:lnTo>
                    <a:lnTo>
                      <a:pt x="535" y="85"/>
                    </a:lnTo>
                    <a:lnTo>
                      <a:pt x="540" y="90"/>
                    </a:lnTo>
                    <a:lnTo>
                      <a:pt x="545" y="95"/>
                    </a:lnTo>
                    <a:lnTo>
                      <a:pt x="555" y="105"/>
                    </a:lnTo>
                    <a:lnTo>
                      <a:pt x="555" y="110"/>
                    </a:lnTo>
                    <a:lnTo>
                      <a:pt x="565" y="120"/>
                    </a:lnTo>
                    <a:lnTo>
                      <a:pt x="565" y="125"/>
                    </a:lnTo>
                    <a:lnTo>
                      <a:pt x="575" y="135"/>
                    </a:lnTo>
                    <a:lnTo>
                      <a:pt x="575" y="140"/>
                    </a:lnTo>
                    <a:lnTo>
                      <a:pt x="585" y="150"/>
                    </a:lnTo>
                    <a:lnTo>
                      <a:pt x="585" y="159"/>
                    </a:lnTo>
                    <a:lnTo>
                      <a:pt x="590" y="164"/>
                    </a:lnTo>
                    <a:lnTo>
                      <a:pt x="595" y="169"/>
                    </a:lnTo>
                    <a:lnTo>
                      <a:pt x="595" y="174"/>
                    </a:lnTo>
                    <a:lnTo>
                      <a:pt x="605" y="184"/>
                    </a:lnTo>
                    <a:lnTo>
                      <a:pt x="605" y="194"/>
                    </a:lnTo>
                    <a:lnTo>
                      <a:pt x="609" y="199"/>
                    </a:lnTo>
                    <a:lnTo>
                      <a:pt x="619" y="209"/>
                    </a:lnTo>
                    <a:lnTo>
                      <a:pt x="619" y="219"/>
                    </a:lnTo>
                    <a:lnTo>
                      <a:pt x="624" y="224"/>
                    </a:ln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866120" y="3835440"/>
                <a:ext cx="919080" cy="457200"/>
              </a:xfrm>
              <a:custGeom>
                <a:avLst/>
                <a:gdLst/>
                <a:ahLst/>
                <a:rect l="l" t="t" r="r" b="b"/>
                <a:pathLst>
                  <a:path w="580" h="289">
                    <a:moveTo>
                      <a:pt x="0" y="169"/>
                    </a:moveTo>
                    <a:lnTo>
                      <a:pt x="10" y="179"/>
                    </a:lnTo>
                    <a:lnTo>
                      <a:pt x="10" y="184"/>
                    </a:lnTo>
                    <a:lnTo>
                      <a:pt x="20" y="194"/>
                    </a:lnTo>
                    <a:lnTo>
                      <a:pt x="20" y="199"/>
                    </a:lnTo>
                    <a:lnTo>
                      <a:pt x="25" y="204"/>
                    </a:lnTo>
                    <a:lnTo>
                      <a:pt x="35" y="214"/>
                    </a:lnTo>
                    <a:lnTo>
                      <a:pt x="35" y="219"/>
                    </a:lnTo>
                    <a:lnTo>
                      <a:pt x="40" y="224"/>
                    </a:lnTo>
                    <a:lnTo>
                      <a:pt x="50" y="234"/>
                    </a:lnTo>
                    <a:lnTo>
                      <a:pt x="50" y="239"/>
                    </a:lnTo>
                    <a:lnTo>
                      <a:pt x="55" y="244"/>
                    </a:lnTo>
                    <a:lnTo>
                      <a:pt x="60" y="249"/>
                    </a:lnTo>
                    <a:lnTo>
                      <a:pt x="65" y="254"/>
                    </a:lnTo>
                    <a:lnTo>
                      <a:pt x="70" y="254"/>
                    </a:lnTo>
                    <a:lnTo>
                      <a:pt x="75" y="259"/>
                    </a:lnTo>
                    <a:lnTo>
                      <a:pt x="80" y="264"/>
                    </a:lnTo>
                    <a:lnTo>
                      <a:pt x="85" y="269"/>
                    </a:lnTo>
                    <a:lnTo>
                      <a:pt x="90" y="269"/>
                    </a:lnTo>
                    <a:lnTo>
                      <a:pt x="94" y="274"/>
                    </a:lnTo>
                    <a:lnTo>
                      <a:pt x="99" y="279"/>
                    </a:lnTo>
                    <a:lnTo>
                      <a:pt x="104" y="279"/>
                    </a:lnTo>
                    <a:lnTo>
                      <a:pt x="109" y="279"/>
                    </a:lnTo>
                    <a:lnTo>
                      <a:pt x="114" y="284"/>
                    </a:lnTo>
                    <a:lnTo>
                      <a:pt x="119" y="284"/>
                    </a:lnTo>
                    <a:lnTo>
                      <a:pt x="124" y="284"/>
                    </a:lnTo>
                    <a:lnTo>
                      <a:pt x="129" y="289"/>
                    </a:lnTo>
                    <a:lnTo>
                      <a:pt x="134" y="289"/>
                    </a:lnTo>
                    <a:lnTo>
                      <a:pt x="139" y="289"/>
                    </a:lnTo>
                    <a:lnTo>
                      <a:pt x="144" y="289"/>
                    </a:lnTo>
                    <a:lnTo>
                      <a:pt x="149" y="289"/>
                    </a:lnTo>
                    <a:lnTo>
                      <a:pt x="154" y="289"/>
                    </a:lnTo>
                    <a:lnTo>
                      <a:pt x="159" y="289"/>
                    </a:lnTo>
                    <a:lnTo>
                      <a:pt x="164" y="284"/>
                    </a:lnTo>
                    <a:lnTo>
                      <a:pt x="169" y="284"/>
                    </a:lnTo>
                    <a:lnTo>
                      <a:pt x="174" y="279"/>
                    </a:lnTo>
                    <a:lnTo>
                      <a:pt x="179" y="279"/>
                    </a:lnTo>
                    <a:lnTo>
                      <a:pt x="184" y="274"/>
                    </a:lnTo>
                    <a:lnTo>
                      <a:pt x="189" y="269"/>
                    </a:lnTo>
                    <a:lnTo>
                      <a:pt x="194" y="264"/>
                    </a:lnTo>
                    <a:lnTo>
                      <a:pt x="203" y="254"/>
                    </a:lnTo>
                    <a:lnTo>
                      <a:pt x="203" y="244"/>
                    </a:lnTo>
                    <a:lnTo>
                      <a:pt x="213" y="234"/>
                    </a:lnTo>
                    <a:lnTo>
                      <a:pt x="213" y="219"/>
                    </a:lnTo>
                    <a:lnTo>
                      <a:pt x="218" y="214"/>
                    </a:lnTo>
                    <a:lnTo>
                      <a:pt x="218" y="204"/>
                    </a:lnTo>
                    <a:lnTo>
                      <a:pt x="223" y="199"/>
                    </a:lnTo>
                    <a:lnTo>
                      <a:pt x="223" y="194"/>
                    </a:lnTo>
                    <a:lnTo>
                      <a:pt x="228" y="189"/>
                    </a:lnTo>
                    <a:lnTo>
                      <a:pt x="228" y="174"/>
                    </a:lnTo>
                    <a:lnTo>
                      <a:pt x="233" y="169"/>
                    </a:lnTo>
                    <a:lnTo>
                      <a:pt x="233" y="164"/>
                    </a:lnTo>
                    <a:lnTo>
                      <a:pt x="238" y="159"/>
                    </a:lnTo>
                    <a:lnTo>
                      <a:pt x="238" y="149"/>
                    </a:lnTo>
                    <a:lnTo>
                      <a:pt x="243" y="144"/>
                    </a:lnTo>
                    <a:lnTo>
                      <a:pt x="243" y="134"/>
                    </a:lnTo>
                    <a:lnTo>
                      <a:pt x="248" y="129"/>
                    </a:lnTo>
                    <a:lnTo>
                      <a:pt x="248" y="119"/>
                    </a:lnTo>
                    <a:lnTo>
                      <a:pt x="253" y="114"/>
                    </a:lnTo>
                    <a:lnTo>
                      <a:pt x="253" y="109"/>
                    </a:lnTo>
                    <a:lnTo>
                      <a:pt x="258" y="104"/>
                    </a:lnTo>
                    <a:lnTo>
                      <a:pt x="258" y="100"/>
                    </a:lnTo>
                    <a:lnTo>
                      <a:pt x="263" y="95"/>
                    </a:lnTo>
                    <a:lnTo>
                      <a:pt x="263" y="90"/>
                    </a:lnTo>
                    <a:lnTo>
                      <a:pt x="273" y="80"/>
                    </a:lnTo>
                    <a:lnTo>
                      <a:pt x="273" y="70"/>
                    </a:lnTo>
                    <a:lnTo>
                      <a:pt x="278" y="65"/>
                    </a:lnTo>
                    <a:lnTo>
                      <a:pt x="288" y="55"/>
                    </a:lnTo>
                    <a:lnTo>
                      <a:pt x="288" y="50"/>
                    </a:lnTo>
                    <a:lnTo>
                      <a:pt x="293" y="45"/>
                    </a:lnTo>
                    <a:lnTo>
                      <a:pt x="298" y="40"/>
                    </a:lnTo>
                    <a:lnTo>
                      <a:pt x="303" y="35"/>
                    </a:lnTo>
                    <a:lnTo>
                      <a:pt x="308" y="30"/>
                    </a:lnTo>
                    <a:lnTo>
                      <a:pt x="313" y="30"/>
                    </a:lnTo>
                    <a:lnTo>
                      <a:pt x="317" y="25"/>
                    </a:lnTo>
                    <a:lnTo>
                      <a:pt x="322" y="25"/>
                    </a:lnTo>
                    <a:lnTo>
                      <a:pt x="327" y="20"/>
                    </a:lnTo>
                    <a:lnTo>
                      <a:pt x="332" y="15"/>
                    </a:lnTo>
                    <a:lnTo>
                      <a:pt x="337" y="15"/>
                    </a:lnTo>
                    <a:lnTo>
                      <a:pt x="342" y="15"/>
                    </a:lnTo>
                    <a:lnTo>
                      <a:pt x="347" y="10"/>
                    </a:lnTo>
                    <a:lnTo>
                      <a:pt x="352" y="10"/>
                    </a:lnTo>
                    <a:lnTo>
                      <a:pt x="357" y="10"/>
                    </a:lnTo>
                    <a:lnTo>
                      <a:pt x="362" y="5"/>
                    </a:lnTo>
                    <a:lnTo>
                      <a:pt x="367" y="5"/>
                    </a:lnTo>
                    <a:lnTo>
                      <a:pt x="372" y="5"/>
                    </a:lnTo>
                    <a:lnTo>
                      <a:pt x="377" y="5"/>
                    </a:lnTo>
                    <a:lnTo>
                      <a:pt x="382" y="5"/>
                    </a:lnTo>
                    <a:lnTo>
                      <a:pt x="387" y="5"/>
                    </a:lnTo>
                    <a:lnTo>
                      <a:pt x="392" y="5"/>
                    </a:lnTo>
                    <a:lnTo>
                      <a:pt x="397" y="0"/>
                    </a:lnTo>
                    <a:lnTo>
                      <a:pt x="402" y="0"/>
                    </a:lnTo>
                    <a:lnTo>
                      <a:pt x="407" y="0"/>
                    </a:lnTo>
                    <a:lnTo>
                      <a:pt x="412" y="0"/>
                    </a:lnTo>
                    <a:lnTo>
                      <a:pt x="417" y="0"/>
                    </a:lnTo>
                    <a:lnTo>
                      <a:pt x="422" y="5"/>
                    </a:lnTo>
                    <a:lnTo>
                      <a:pt x="426" y="5"/>
                    </a:lnTo>
                    <a:lnTo>
                      <a:pt x="431" y="5"/>
                    </a:lnTo>
                    <a:lnTo>
                      <a:pt x="436" y="5"/>
                    </a:lnTo>
                    <a:lnTo>
                      <a:pt x="441" y="5"/>
                    </a:lnTo>
                    <a:lnTo>
                      <a:pt x="446" y="5"/>
                    </a:lnTo>
                    <a:lnTo>
                      <a:pt x="451" y="5"/>
                    </a:lnTo>
                    <a:lnTo>
                      <a:pt x="456" y="5"/>
                    </a:lnTo>
                    <a:lnTo>
                      <a:pt x="461" y="5"/>
                    </a:lnTo>
                    <a:lnTo>
                      <a:pt x="466" y="10"/>
                    </a:lnTo>
                    <a:lnTo>
                      <a:pt x="471" y="10"/>
                    </a:lnTo>
                    <a:lnTo>
                      <a:pt x="476" y="10"/>
                    </a:lnTo>
                    <a:lnTo>
                      <a:pt x="481" y="10"/>
                    </a:lnTo>
                    <a:lnTo>
                      <a:pt x="486" y="15"/>
                    </a:lnTo>
                    <a:lnTo>
                      <a:pt x="491" y="15"/>
                    </a:lnTo>
                    <a:lnTo>
                      <a:pt x="496" y="15"/>
                    </a:lnTo>
                    <a:lnTo>
                      <a:pt x="501" y="15"/>
                    </a:lnTo>
                    <a:lnTo>
                      <a:pt x="506" y="20"/>
                    </a:lnTo>
                    <a:lnTo>
                      <a:pt x="511" y="20"/>
                    </a:lnTo>
                    <a:lnTo>
                      <a:pt x="516" y="20"/>
                    </a:lnTo>
                    <a:lnTo>
                      <a:pt x="521" y="25"/>
                    </a:lnTo>
                    <a:lnTo>
                      <a:pt x="526" y="25"/>
                    </a:lnTo>
                    <a:lnTo>
                      <a:pt x="531" y="30"/>
                    </a:lnTo>
                    <a:lnTo>
                      <a:pt x="535" y="30"/>
                    </a:lnTo>
                    <a:lnTo>
                      <a:pt x="540" y="30"/>
                    </a:lnTo>
                    <a:lnTo>
                      <a:pt x="545" y="35"/>
                    </a:lnTo>
                    <a:lnTo>
                      <a:pt x="550" y="35"/>
                    </a:lnTo>
                    <a:lnTo>
                      <a:pt x="555" y="40"/>
                    </a:lnTo>
                    <a:lnTo>
                      <a:pt x="560" y="40"/>
                    </a:lnTo>
                    <a:lnTo>
                      <a:pt x="565" y="45"/>
                    </a:lnTo>
                    <a:lnTo>
                      <a:pt x="570" y="45"/>
                    </a:lnTo>
                    <a:lnTo>
                      <a:pt x="575" y="50"/>
                    </a:lnTo>
                    <a:lnTo>
                      <a:pt x="580" y="55"/>
                    </a:ln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787000" y="3922560"/>
                <a:ext cx="714600" cy="330480"/>
              </a:xfrm>
              <a:custGeom>
                <a:avLst/>
                <a:gdLst/>
                <a:ahLst/>
                <a:rect l="l" t="t" r="r" b="b"/>
                <a:pathLst>
                  <a:path w="451" h="209">
                    <a:moveTo>
                      <a:pt x="0" y="0"/>
                    </a:moveTo>
                    <a:lnTo>
                      <a:pt x="5" y="0"/>
                    </a:lnTo>
                    <a:lnTo>
                      <a:pt x="10" y="5"/>
                    </a:lnTo>
                    <a:lnTo>
                      <a:pt x="15" y="10"/>
                    </a:lnTo>
                    <a:lnTo>
                      <a:pt x="20" y="10"/>
                    </a:lnTo>
                    <a:lnTo>
                      <a:pt x="25" y="15"/>
                    </a:lnTo>
                    <a:lnTo>
                      <a:pt x="30" y="20"/>
                    </a:lnTo>
                    <a:lnTo>
                      <a:pt x="35" y="25"/>
                    </a:lnTo>
                    <a:lnTo>
                      <a:pt x="40" y="30"/>
                    </a:lnTo>
                    <a:lnTo>
                      <a:pt x="45" y="30"/>
                    </a:lnTo>
                    <a:lnTo>
                      <a:pt x="50" y="35"/>
                    </a:lnTo>
                    <a:lnTo>
                      <a:pt x="55" y="40"/>
                    </a:lnTo>
                    <a:lnTo>
                      <a:pt x="60" y="45"/>
                    </a:lnTo>
                    <a:lnTo>
                      <a:pt x="65" y="49"/>
                    </a:lnTo>
                    <a:lnTo>
                      <a:pt x="69" y="54"/>
                    </a:lnTo>
                    <a:lnTo>
                      <a:pt x="74" y="59"/>
                    </a:lnTo>
                    <a:lnTo>
                      <a:pt x="79" y="64"/>
                    </a:lnTo>
                    <a:lnTo>
                      <a:pt x="84" y="69"/>
                    </a:lnTo>
                    <a:lnTo>
                      <a:pt x="89" y="74"/>
                    </a:lnTo>
                    <a:lnTo>
                      <a:pt x="94" y="79"/>
                    </a:lnTo>
                    <a:lnTo>
                      <a:pt x="99" y="84"/>
                    </a:lnTo>
                    <a:lnTo>
                      <a:pt x="109" y="94"/>
                    </a:lnTo>
                    <a:lnTo>
                      <a:pt x="109" y="99"/>
                    </a:lnTo>
                    <a:lnTo>
                      <a:pt x="114" y="104"/>
                    </a:lnTo>
                    <a:lnTo>
                      <a:pt x="119" y="109"/>
                    </a:lnTo>
                    <a:lnTo>
                      <a:pt x="124" y="114"/>
                    </a:lnTo>
                    <a:lnTo>
                      <a:pt x="129" y="119"/>
                    </a:lnTo>
                    <a:lnTo>
                      <a:pt x="134" y="124"/>
                    </a:lnTo>
                    <a:lnTo>
                      <a:pt x="139" y="129"/>
                    </a:lnTo>
                    <a:lnTo>
                      <a:pt x="144" y="134"/>
                    </a:lnTo>
                    <a:lnTo>
                      <a:pt x="149" y="139"/>
                    </a:lnTo>
                    <a:lnTo>
                      <a:pt x="154" y="144"/>
                    </a:lnTo>
                    <a:lnTo>
                      <a:pt x="159" y="149"/>
                    </a:lnTo>
                    <a:lnTo>
                      <a:pt x="164" y="154"/>
                    </a:lnTo>
                    <a:lnTo>
                      <a:pt x="169" y="159"/>
                    </a:lnTo>
                    <a:lnTo>
                      <a:pt x="174" y="164"/>
                    </a:lnTo>
                    <a:lnTo>
                      <a:pt x="178" y="169"/>
                    </a:lnTo>
                    <a:lnTo>
                      <a:pt x="183" y="174"/>
                    </a:lnTo>
                    <a:lnTo>
                      <a:pt x="188" y="174"/>
                    </a:lnTo>
                    <a:lnTo>
                      <a:pt x="193" y="179"/>
                    </a:lnTo>
                    <a:lnTo>
                      <a:pt x="198" y="184"/>
                    </a:lnTo>
                    <a:lnTo>
                      <a:pt x="203" y="189"/>
                    </a:lnTo>
                    <a:lnTo>
                      <a:pt x="208" y="189"/>
                    </a:lnTo>
                    <a:lnTo>
                      <a:pt x="213" y="194"/>
                    </a:lnTo>
                    <a:lnTo>
                      <a:pt x="218" y="194"/>
                    </a:lnTo>
                    <a:lnTo>
                      <a:pt x="223" y="199"/>
                    </a:lnTo>
                    <a:lnTo>
                      <a:pt x="228" y="199"/>
                    </a:lnTo>
                    <a:lnTo>
                      <a:pt x="233" y="204"/>
                    </a:lnTo>
                    <a:lnTo>
                      <a:pt x="238" y="204"/>
                    </a:lnTo>
                    <a:lnTo>
                      <a:pt x="243" y="204"/>
                    </a:lnTo>
                    <a:lnTo>
                      <a:pt x="248" y="204"/>
                    </a:lnTo>
                    <a:lnTo>
                      <a:pt x="253" y="209"/>
                    </a:lnTo>
                    <a:lnTo>
                      <a:pt x="258" y="209"/>
                    </a:lnTo>
                    <a:lnTo>
                      <a:pt x="263" y="209"/>
                    </a:lnTo>
                    <a:lnTo>
                      <a:pt x="268" y="209"/>
                    </a:lnTo>
                    <a:lnTo>
                      <a:pt x="273" y="209"/>
                    </a:lnTo>
                    <a:lnTo>
                      <a:pt x="278" y="209"/>
                    </a:lnTo>
                    <a:lnTo>
                      <a:pt x="283" y="204"/>
                    </a:lnTo>
                    <a:lnTo>
                      <a:pt x="287" y="204"/>
                    </a:lnTo>
                    <a:lnTo>
                      <a:pt x="292" y="204"/>
                    </a:lnTo>
                    <a:lnTo>
                      <a:pt x="297" y="199"/>
                    </a:lnTo>
                    <a:lnTo>
                      <a:pt x="302" y="199"/>
                    </a:lnTo>
                    <a:lnTo>
                      <a:pt x="307" y="194"/>
                    </a:lnTo>
                    <a:lnTo>
                      <a:pt x="312" y="189"/>
                    </a:lnTo>
                    <a:lnTo>
                      <a:pt x="317" y="189"/>
                    </a:lnTo>
                    <a:lnTo>
                      <a:pt x="322" y="184"/>
                    </a:lnTo>
                    <a:lnTo>
                      <a:pt x="327" y="179"/>
                    </a:lnTo>
                    <a:lnTo>
                      <a:pt x="332" y="169"/>
                    </a:lnTo>
                    <a:lnTo>
                      <a:pt x="337" y="164"/>
                    </a:lnTo>
                    <a:lnTo>
                      <a:pt x="342" y="159"/>
                    </a:lnTo>
                    <a:lnTo>
                      <a:pt x="352" y="149"/>
                    </a:lnTo>
                    <a:lnTo>
                      <a:pt x="352" y="139"/>
                    </a:lnTo>
                    <a:lnTo>
                      <a:pt x="357" y="134"/>
                    </a:lnTo>
                    <a:lnTo>
                      <a:pt x="367" y="124"/>
                    </a:lnTo>
                    <a:lnTo>
                      <a:pt x="367" y="119"/>
                    </a:lnTo>
                    <a:lnTo>
                      <a:pt x="377" y="109"/>
                    </a:lnTo>
                    <a:lnTo>
                      <a:pt x="377" y="104"/>
                    </a:lnTo>
                    <a:lnTo>
                      <a:pt x="382" y="99"/>
                    </a:lnTo>
                    <a:lnTo>
                      <a:pt x="387" y="94"/>
                    </a:lnTo>
                    <a:lnTo>
                      <a:pt x="392" y="89"/>
                    </a:lnTo>
                    <a:lnTo>
                      <a:pt x="401" y="79"/>
                    </a:lnTo>
                    <a:lnTo>
                      <a:pt x="401" y="74"/>
                    </a:lnTo>
                    <a:lnTo>
                      <a:pt x="406" y="74"/>
                    </a:lnTo>
                    <a:lnTo>
                      <a:pt x="411" y="69"/>
                    </a:lnTo>
                    <a:lnTo>
                      <a:pt x="416" y="64"/>
                    </a:lnTo>
                    <a:lnTo>
                      <a:pt x="421" y="59"/>
                    </a:lnTo>
                    <a:lnTo>
                      <a:pt x="426" y="59"/>
                    </a:lnTo>
                    <a:lnTo>
                      <a:pt x="431" y="54"/>
                    </a:lnTo>
                    <a:lnTo>
                      <a:pt x="436" y="54"/>
                    </a:lnTo>
                    <a:lnTo>
                      <a:pt x="441" y="49"/>
                    </a:lnTo>
                    <a:lnTo>
                      <a:pt x="446" y="49"/>
                    </a:lnTo>
                    <a:lnTo>
                      <a:pt x="451" y="45"/>
                    </a:ln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1418040" y="3319560"/>
              <a:ext cx="426600" cy="12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ahoma"/>
                </a:rPr>
                <a:t>productivity </a:t>
              </a: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(</a:t>
              </a: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</a:t>
              </a: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)</a:t>
              </a:r>
              <a:endParaRPr b="1" i="1" lang="en-US" sz="14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97200" y="4387680"/>
              <a:ext cx="48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284480" y="2172960"/>
            <a:ext cx="7600680" cy="1395720"/>
            <a:chOff x="1284480" y="2172960"/>
            <a:chExt cx="7600680" cy="1395720"/>
          </a:xfrm>
        </p:grpSpPr>
        <p:grpSp>
          <p:nvGrpSpPr>
            <p:cNvPr id="757" name=""/>
            <p:cNvGrpSpPr/>
            <p:nvPr/>
          </p:nvGrpSpPr>
          <p:grpSpPr>
            <a:xfrm>
              <a:off x="1284480" y="2172960"/>
              <a:ext cx="5581080" cy="1395720"/>
              <a:chOff x="1284480" y="2172960"/>
              <a:chExt cx="5581080" cy="1395720"/>
            </a:xfrm>
          </p:grpSpPr>
          <p:sp>
            <p:nvSpPr>
              <p:cNvPr id="758" name=""/>
              <p:cNvSpPr/>
              <p:nvPr/>
            </p:nvSpPr>
            <p:spPr>
              <a:xfrm>
                <a:off x="3425760" y="3370320"/>
                <a:ext cx="1923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3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Years since first product </a:t>
                </a:r>
                <a:endParaRPr b="1" i="1" lang="en-US" sz="13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grpSp>
            <p:nvGrpSpPr>
              <p:cNvPr id="759" name=""/>
              <p:cNvGrpSpPr/>
              <p:nvPr/>
            </p:nvGrpSpPr>
            <p:grpSpPr>
              <a:xfrm>
                <a:off x="1284480" y="2172960"/>
                <a:ext cx="5581080" cy="1156320"/>
                <a:chOff x="1284480" y="2172960"/>
                <a:chExt cx="5581080" cy="1156320"/>
              </a:xfrm>
            </p:grpSpPr>
            <p:sp>
              <p:nvSpPr>
                <p:cNvPr id="760" name=""/>
                <p:cNvSpPr/>
                <p:nvPr/>
              </p:nvSpPr>
              <p:spPr>
                <a:xfrm flipV="1">
                  <a:off x="1884240" y="2172960"/>
                  <a:ext cx="0" cy="94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884240" y="3122640"/>
                  <a:ext cx="490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V="1">
                  <a:off x="1884240" y="2172960"/>
                  <a:ext cx="0" cy="94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V="1">
                  <a:off x="1884240" y="3065400"/>
                  <a:ext cx="0" cy="5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884240" y="2174400"/>
                  <a:ext cx="0" cy="4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844280" y="3146400"/>
                  <a:ext cx="84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it-IT" sz="1200" spc="-1" strike="noStrike" u="sng">
                      <a:solidFill>
                        <a:srgbClr val="000000"/>
                      </a:solidFill>
                      <a:uFillTx/>
                      <a:latin typeface="Tahoma"/>
                    </a:rPr>
                    <a:t>0</a:t>
                  </a:r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V="1">
                  <a:off x="2584440" y="3065400"/>
                  <a:ext cx="0" cy="5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544480" y="3146400"/>
                  <a:ext cx="84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it-IT" sz="1200" spc="-1" strike="noStrike" u="sng">
                      <a:solidFill>
                        <a:srgbClr val="000000"/>
                      </a:solidFill>
                      <a:uFillTx/>
                      <a:latin typeface="Tahoma"/>
                    </a:rPr>
                    <a:t>5</a:t>
                  </a:r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V="1">
                  <a:off x="3285000" y="3065400"/>
                  <a:ext cx="0" cy="5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195720" y="3146400"/>
                  <a:ext cx="168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it-IT" sz="1200" spc="-1" strike="noStrike" u="sng">
                      <a:solidFill>
                        <a:srgbClr val="000000"/>
                      </a:solidFill>
                      <a:uFillTx/>
                      <a:latin typeface="Tahoma"/>
                    </a:rPr>
                    <a:t>10</a:t>
                  </a:r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V="1">
                  <a:off x="3984840" y="3065400"/>
                  <a:ext cx="0" cy="5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895920" y="3146400"/>
                  <a:ext cx="168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it-IT" sz="1200" spc="-1" strike="noStrike" u="sng">
                      <a:solidFill>
                        <a:srgbClr val="000000"/>
                      </a:solidFill>
                      <a:uFillTx/>
                      <a:latin typeface="Tahoma"/>
                    </a:rPr>
                    <a:t>15</a:t>
                  </a:r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V="1">
                  <a:off x="4685400" y="3065400"/>
                  <a:ext cx="0" cy="5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596480" y="3146400"/>
                  <a:ext cx="168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it-IT" sz="1200" spc="-1" strike="noStrike" u="sng">
                      <a:solidFill>
                        <a:srgbClr val="000000"/>
                      </a:solidFill>
                      <a:uFillTx/>
                      <a:latin typeface="Tahoma"/>
                    </a:rPr>
                    <a:t>20</a:t>
                  </a:r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V="1">
                  <a:off x="5385600" y="3065400"/>
                  <a:ext cx="0" cy="5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296680" y="3146400"/>
                  <a:ext cx="168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it-IT" sz="1200" spc="-1" strike="noStrike" u="sng">
                      <a:solidFill>
                        <a:srgbClr val="000000"/>
                      </a:solidFill>
                      <a:uFillTx/>
                      <a:latin typeface="Tahoma"/>
                    </a:rPr>
                    <a:t>25</a:t>
                  </a:r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V="1">
                  <a:off x="6085800" y="3065400"/>
                  <a:ext cx="0" cy="5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996880" y="3146400"/>
                  <a:ext cx="168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it-IT" sz="1200" spc="-1" strike="noStrike" u="sng">
                      <a:solidFill>
                        <a:srgbClr val="000000"/>
                      </a:solidFill>
                      <a:uFillTx/>
                      <a:latin typeface="Tahoma"/>
                    </a:rPr>
                    <a:t>30</a:t>
                  </a:r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V="1">
                  <a:off x="6786000" y="3065400"/>
                  <a:ext cx="0" cy="5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6697080" y="3146400"/>
                  <a:ext cx="168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it-IT" sz="1200" spc="-1" strike="noStrike" u="sng">
                      <a:solidFill>
                        <a:srgbClr val="000000"/>
                      </a:solidFill>
                      <a:uFillTx/>
                      <a:latin typeface="Tahoma"/>
                    </a:rPr>
                    <a:t>35</a:t>
                  </a:r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884240" y="3122640"/>
                  <a:ext cx="4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>
                  <a:off x="6730560" y="3122640"/>
                  <a:ext cx="5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765080" y="3029400"/>
                  <a:ext cx="84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it-IT" sz="1200" spc="-1" strike="noStrike" u="sng">
                      <a:solidFill>
                        <a:srgbClr val="000000"/>
                      </a:solidFill>
                      <a:uFillTx/>
                      <a:latin typeface="Tahoma"/>
                    </a:rPr>
                    <a:t>0</a:t>
                  </a:r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884240" y="2894400"/>
                  <a:ext cx="4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765080" y="2799000"/>
                  <a:ext cx="84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it-IT" sz="1200" spc="-1" strike="noStrike" u="sng">
                      <a:solidFill>
                        <a:srgbClr val="000000"/>
                      </a:solidFill>
                      <a:uFillTx/>
                      <a:latin typeface="Tahoma"/>
                    </a:rPr>
                    <a:t>4</a:t>
                  </a:r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884240" y="2664720"/>
                  <a:ext cx="4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765080" y="2569320"/>
                  <a:ext cx="84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it-IT" sz="1200" spc="-1" strike="noStrike" u="sng">
                      <a:solidFill>
                        <a:srgbClr val="000000"/>
                      </a:solidFill>
                      <a:uFillTx/>
                      <a:latin typeface="Tahoma"/>
                    </a:rPr>
                    <a:t>8</a:t>
                  </a:r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884240" y="2436480"/>
                  <a:ext cx="4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676160" y="2341080"/>
                  <a:ext cx="168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it-IT" sz="1200" spc="-1" strike="noStrike" u="sng">
                      <a:solidFill>
                        <a:srgbClr val="000000"/>
                      </a:solidFill>
                      <a:uFillTx/>
                      <a:latin typeface="Tahoma"/>
                    </a:rPr>
                    <a:t>12</a:t>
                  </a:r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V="1">
                  <a:off x="1884240" y="2172960"/>
                  <a:ext cx="0" cy="94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grpSp>
              <p:nvGrpSpPr>
                <p:cNvPr id="790" name=""/>
                <p:cNvGrpSpPr/>
                <p:nvPr/>
              </p:nvGrpSpPr>
              <p:grpSpPr>
                <a:xfrm>
                  <a:off x="1884240" y="2388600"/>
                  <a:ext cx="4617360" cy="732240"/>
                  <a:chOff x="1884240" y="2388600"/>
                  <a:chExt cx="4617360" cy="732240"/>
                </a:xfrm>
              </p:grpSpPr>
              <p:sp>
                <p:nvSpPr>
                  <p:cNvPr id="791" name=""/>
                  <p:cNvSpPr/>
                  <p:nvPr/>
                </p:nvSpPr>
                <p:spPr>
                  <a:xfrm>
                    <a:off x="1884240" y="2523240"/>
                    <a:ext cx="998640" cy="597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0" h="378">
                        <a:moveTo>
                          <a:pt x="0" y="378"/>
                        </a:moveTo>
                        <a:lnTo>
                          <a:pt x="0" y="373"/>
                        </a:lnTo>
                        <a:lnTo>
                          <a:pt x="5" y="368"/>
                        </a:lnTo>
                        <a:lnTo>
                          <a:pt x="20" y="358"/>
                        </a:lnTo>
                        <a:lnTo>
                          <a:pt x="20" y="353"/>
                        </a:lnTo>
                        <a:lnTo>
                          <a:pt x="25" y="348"/>
                        </a:lnTo>
                        <a:lnTo>
                          <a:pt x="30" y="343"/>
                        </a:lnTo>
                        <a:lnTo>
                          <a:pt x="35" y="338"/>
                        </a:lnTo>
                        <a:lnTo>
                          <a:pt x="40" y="333"/>
                        </a:lnTo>
                        <a:lnTo>
                          <a:pt x="45" y="328"/>
                        </a:lnTo>
                        <a:lnTo>
                          <a:pt x="50" y="323"/>
                        </a:lnTo>
                        <a:lnTo>
                          <a:pt x="55" y="319"/>
                        </a:lnTo>
                        <a:lnTo>
                          <a:pt x="60" y="314"/>
                        </a:lnTo>
                        <a:lnTo>
                          <a:pt x="65" y="314"/>
                        </a:lnTo>
                        <a:lnTo>
                          <a:pt x="70" y="309"/>
                        </a:lnTo>
                        <a:lnTo>
                          <a:pt x="75" y="304"/>
                        </a:lnTo>
                        <a:lnTo>
                          <a:pt x="80" y="299"/>
                        </a:lnTo>
                        <a:lnTo>
                          <a:pt x="85" y="294"/>
                        </a:lnTo>
                        <a:lnTo>
                          <a:pt x="89" y="289"/>
                        </a:lnTo>
                        <a:lnTo>
                          <a:pt x="94" y="289"/>
                        </a:lnTo>
                        <a:lnTo>
                          <a:pt x="99" y="284"/>
                        </a:lnTo>
                        <a:lnTo>
                          <a:pt x="104" y="279"/>
                        </a:lnTo>
                        <a:lnTo>
                          <a:pt x="109" y="274"/>
                        </a:lnTo>
                        <a:lnTo>
                          <a:pt x="114" y="269"/>
                        </a:lnTo>
                        <a:lnTo>
                          <a:pt x="119" y="269"/>
                        </a:lnTo>
                        <a:lnTo>
                          <a:pt x="124" y="264"/>
                        </a:lnTo>
                        <a:lnTo>
                          <a:pt x="129" y="259"/>
                        </a:lnTo>
                        <a:lnTo>
                          <a:pt x="134" y="254"/>
                        </a:lnTo>
                        <a:lnTo>
                          <a:pt x="139" y="249"/>
                        </a:lnTo>
                        <a:lnTo>
                          <a:pt x="144" y="249"/>
                        </a:lnTo>
                        <a:lnTo>
                          <a:pt x="149" y="244"/>
                        </a:lnTo>
                        <a:lnTo>
                          <a:pt x="154" y="239"/>
                        </a:lnTo>
                        <a:lnTo>
                          <a:pt x="159" y="234"/>
                        </a:lnTo>
                        <a:lnTo>
                          <a:pt x="164" y="234"/>
                        </a:lnTo>
                        <a:lnTo>
                          <a:pt x="169" y="229"/>
                        </a:lnTo>
                        <a:lnTo>
                          <a:pt x="174" y="224"/>
                        </a:lnTo>
                        <a:lnTo>
                          <a:pt x="179" y="219"/>
                        </a:lnTo>
                        <a:lnTo>
                          <a:pt x="184" y="219"/>
                        </a:lnTo>
                        <a:lnTo>
                          <a:pt x="189" y="214"/>
                        </a:lnTo>
                        <a:lnTo>
                          <a:pt x="194" y="209"/>
                        </a:lnTo>
                        <a:lnTo>
                          <a:pt x="199" y="209"/>
                        </a:lnTo>
                        <a:lnTo>
                          <a:pt x="203" y="204"/>
                        </a:lnTo>
                        <a:lnTo>
                          <a:pt x="208" y="199"/>
                        </a:lnTo>
                        <a:lnTo>
                          <a:pt x="213" y="194"/>
                        </a:lnTo>
                        <a:lnTo>
                          <a:pt x="218" y="194"/>
                        </a:lnTo>
                        <a:lnTo>
                          <a:pt x="223" y="189"/>
                        </a:lnTo>
                        <a:lnTo>
                          <a:pt x="228" y="184"/>
                        </a:lnTo>
                        <a:lnTo>
                          <a:pt x="233" y="184"/>
                        </a:lnTo>
                        <a:lnTo>
                          <a:pt x="238" y="179"/>
                        </a:lnTo>
                        <a:lnTo>
                          <a:pt x="243" y="179"/>
                        </a:lnTo>
                        <a:lnTo>
                          <a:pt x="248" y="174"/>
                        </a:lnTo>
                        <a:lnTo>
                          <a:pt x="253" y="169"/>
                        </a:lnTo>
                        <a:lnTo>
                          <a:pt x="258" y="169"/>
                        </a:lnTo>
                        <a:lnTo>
                          <a:pt x="263" y="164"/>
                        </a:lnTo>
                        <a:lnTo>
                          <a:pt x="268" y="159"/>
                        </a:lnTo>
                        <a:lnTo>
                          <a:pt x="273" y="159"/>
                        </a:lnTo>
                        <a:lnTo>
                          <a:pt x="278" y="154"/>
                        </a:lnTo>
                        <a:lnTo>
                          <a:pt x="283" y="154"/>
                        </a:lnTo>
                        <a:lnTo>
                          <a:pt x="288" y="149"/>
                        </a:lnTo>
                        <a:lnTo>
                          <a:pt x="293" y="144"/>
                        </a:lnTo>
                        <a:lnTo>
                          <a:pt x="298" y="144"/>
                        </a:lnTo>
                        <a:lnTo>
                          <a:pt x="303" y="139"/>
                        </a:lnTo>
                        <a:lnTo>
                          <a:pt x="308" y="139"/>
                        </a:lnTo>
                        <a:lnTo>
                          <a:pt x="312" y="134"/>
                        </a:lnTo>
                        <a:lnTo>
                          <a:pt x="317" y="129"/>
                        </a:lnTo>
                        <a:lnTo>
                          <a:pt x="322" y="129"/>
                        </a:lnTo>
                        <a:lnTo>
                          <a:pt x="327" y="124"/>
                        </a:lnTo>
                        <a:lnTo>
                          <a:pt x="332" y="124"/>
                        </a:lnTo>
                        <a:lnTo>
                          <a:pt x="337" y="119"/>
                        </a:lnTo>
                        <a:lnTo>
                          <a:pt x="342" y="119"/>
                        </a:lnTo>
                        <a:lnTo>
                          <a:pt x="347" y="114"/>
                        </a:lnTo>
                        <a:lnTo>
                          <a:pt x="352" y="114"/>
                        </a:lnTo>
                        <a:lnTo>
                          <a:pt x="357" y="109"/>
                        </a:lnTo>
                        <a:lnTo>
                          <a:pt x="362" y="109"/>
                        </a:lnTo>
                        <a:lnTo>
                          <a:pt x="367" y="104"/>
                        </a:lnTo>
                        <a:lnTo>
                          <a:pt x="372" y="104"/>
                        </a:lnTo>
                        <a:lnTo>
                          <a:pt x="377" y="99"/>
                        </a:lnTo>
                        <a:lnTo>
                          <a:pt x="382" y="99"/>
                        </a:lnTo>
                        <a:lnTo>
                          <a:pt x="387" y="94"/>
                        </a:lnTo>
                        <a:lnTo>
                          <a:pt x="392" y="94"/>
                        </a:lnTo>
                        <a:lnTo>
                          <a:pt x="397" y="89"/>
                        </a:lnTo>
                        <a:lnTo>
                          <a:pt x="402" y="89"/>
                        </a:lnTo>
                        <a:lnTo>
                          <a:pt x="407" y="84"/>
                        </a:lnTo>
                        <a:lnTo>
                          <a:pt x="412" y="84"/>
                        </a:lnTo>
                        <a:lnTo>
                          <a:pt x="417" y="79"/>
                        </a:lnTo>
                        <a:lnTo>
                          <a:pt x="421" y="79"/>
                        </a:lnTo>
                        <a:lnTo>
                          <a:pt x="426" y="74"/>
                        </a:lnTo>
                        <a:lnTo>
                          <a:pt x="431" y="74"/>
                        </a:lnTo>
                        <a:lnTo>
                          <a:pt x="436" y="69"/>
                        </a:lnTo>
                        <a:lnTo>
                          <a:pt x="441" y="69"/>
                        </a:lnTo>
                        <a:lnTo>
                          <a:pt x="446" y="64"/>
                        </a:lnTo>
                        <a:lnTo>
                          <a:pt x="451" y="64"/>
                        </a:lnTo>
                        <a:lnTo>
                          <a:pt x="456" y="64"/>
                        </a:lnTo>
                        <a:lnTo>
                          <a:pt x="461" y="59"/>
                        </a:lnTo>
                        <a:lnTo>
                          <a:pt x="466" y="59"/>
                        </a:lnTo>
                        <a:lnTo>
                          <a:pt x="471" y="54"/>
                        </a:lnTo>
                        <a:lnTo>
                          <a:pt x="476" y="54"/>
                        </a:lnTo>
                        <a:lnTo>
                          <a:pt x="481" y="54"/>
                        </a:lnTo>
                        <a:lnTo>
                          <a:pt x="486" y="49"/>
                        </a:lnTo>
                        <a:lnTo>
                          <a:pt x="491" y="49"/>
                        </a:lnTo>
                        <a:lnTo>
                          <a:pt x="496" y="44"/>
                        </a:lnTo>
                        <a:lnTo>
                          <a:pt x="501" y="44"/>
                        </a:lnTo>
                        <a:lnTo>
                          <a:pt x="506" y="44"/>
                        </a:lnTo>
                        <a:lnTo>
                          <a:pt x="511" y="39"/>
                        </a:lnTo>
                        <a:lnTo>
                          <a:pt x="516" y="39"/>
                        </a:lnTo>
                        <a:lnTo>
                          <a:pt x="521" y="34"/>
                        </a:lnTo>
                        <a:lnTo>
                          <a:pt x="526" y="34"/>
                        </a:lnTo>
                        <a:lnTo>
                          <a:pt x="531" y="34"/>
                        </a:lnTo>
                        <a:lnTo>
                          <a:pt x="535" y="29"/>
                        </a:lnTo>
                        <a:lnTo>
                          <a:pt x="540" y="29"/>
                        </a:lnTo>
                        <a:lnTo>
                          <a:pt x="545" y="29"/>
                        </a:lnTo>
                        <a:lnTo>
                          <a:pt x="550" y="25"/>
                        </a:lnTo>
                        <a:lnTo>
                          <a:pt x="555" y="25"/>
                        </a:lnTo>
                        <a:lnTo>
                          <a:pt x="560" y="20"/>
                        </a:lnTo>
                        <a:lnTo>
                          <a:pt x="565" y="20"/>
                        </a:lnTo>
                        <a:lnTo>
                          <a:pt x="570" y="20"/>
                        </a:lnTo>
                        <a:lnTo>
                          <a:pt x="575" y="15"/>
                        </a:lnTo>
                        <a:lnTo>
                          <a:pt x="580" y="15"/>
                        </a:lnTo>
                        <a:lnTo>
                          <a:pt x="585" y="15"/>
                        </a:lnTo>
                        <a:lnTo>
                          <a:pt x="590" y="10"/>
                        </a:lnTo>
                        <a:lnTo>
                          <a:pt x="595" y="10"/>
                        </a:lnTo>
                        <a:lnTo>
                          <a:pt x="600" y="10"/>
                        </a:lnTo>
                        <a:lnTo>
                          <a:pt x="605" y="5"/>
                        </a:lnTo>
                        <a:lnTo>
                          <a:pt x="610" y="5"/>
                        </a:lnTo>
                        <a:lnTo>
                          <a:pt x="615" y="5"/>
                        </a:lnTo>
                        <a:lnTo>
                          <a:pt x="620" y="5"/>
                        </a:lnTo>
                        <a:lnTo>
                          <a:pt x="625" y="0"/>
                        </a:lnTo>
                        <a:lnTo>
                          <a:pt x="63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1200" spc="-1" strike="noStrike" u="sng">
                      <a:solidFill>
                        <a:srgbClr val="3333cc"/>
                      </a:solidFill>
                      <a:uFillTx/>
                      <a:latin typeface="Tahoma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2884320" y="2388600"/>
                    <a:ext cx="9972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85">
                        <a:moveTo>
                          <a:pt x="0" y="85"/>
                        </a:moveTo>
                        <a:lnTo>
                          <a:pt x="5" y="85"/>
                        </a:lnTo>
                        <a:lnTo>
                          <a:pt x="10" y="80"/>
                        </a:lnTo>
                        <a:lnTo>
                          <a:pt x="14" y="80"/>
                        </a:lnTo>
                        <a:lnTo>
                          <a:pt x="19" y="80"/>
                        </a:lnTo>
                        <a:lnTo>
                          <a:pt x="24" y="80"/>
                        </a:lnTo>
                        <a:lnTo>
                          <a:pt x="29" y="75"/>
                        </a:lnTo>
                        <a:lnTo>
                          <a:pt x="34" y="75"/>
                        </a:lnTo>
                        <a:lnTo>
                          <a:pt x="39" y="75"/>
                        </a:lnTo>
                        <a:lnTo>
                          <a:pt x="44" y="70"/>
                        </a:lnTo>
                        <a:lnTo>
                          <a:pt x="49" y="70"/>
                        </a:lnTo>
                        <a:lnTo>
                          <a:pt x="54" y="70"/>
                        </a:lnTo>
                        <a:lnTo>
                          <a:pt x="59" y="70"/>
                        </a:lnTo>
                        <a:lnTo>
                          <a:pt x="64" y="65"/>
                        </a:lnTo>
                        <a:lnTo>
                          <a:pt x="69" y="65"/>
                        </a:lnTo>
                        <a:lnTo>
                          <a:pt x="74" y="65"/>
                        </a:lnTo>
                        <a:lnTo>
                          <a:pt x="79" y="65"/>
                        </a:lnTo>
                        <a:lnTo>
                          <a:pt x="84" y="60"/>
                        </a:lnTo>
                        <a:lnTo>
                          <a:pt x="89" y="60"/>
                        </a:lnTo>
                        <a:lnTo>
                          <a:pt x="94" y="60"/>
                        </a:lnTo>
                        <a:lnTo>
                          <a:pt x="99" y="60"/>
                        </a:lnTo>
                        <a:lnTo>
                          <a:pt x="104" y="55"/>
                        </a:lnTo>
                        <a:lnTo>
                          <a:pt x="109" y="55"/>
                        </a:lnTo>
                        <a:lnTo>
                          <a:pt x="114" y="55"/>
                        </a:lnTo>
                        <a:lnTo>
                          <a:pt x="119" y="55"/>
                        </a:lnTo>
                        <a:lnTo>
                          <a:pt x="123" y="55"/>
                        </a:lnTo>
                        <a:lnTo>
                          <a:pt x="128" y="50"/>
                        </a:lnTo>
                        <a:lnTo>
                          <a:pt x="133" y="50"/>
                        </a:lnTo>
                        <a:lnTo>
                          <a:pt x="138" y="50"/>
                        </a:lnTo>
                        <a:lnTo>
                          <a:pt x="143" y="50"/>
                        </a:lnTo>
                        <a:lnTo>
                          <a:pt x="148" y="45"/>
                        </a:lnTo>
                        <a:lnTo>
                          <a:pt x="153" y="45"/>
                        </a:lnTo>
                        <a:lnTo>
                          <a:pt x="158" y="45"/>
                        </a:lnTo>
                        <a:lnTo>
                          <a:pt x="163" y="45"/>
                        </a:lnTo>
                        <a:lnTo>
                          <a:pt x="168" y="45"/>
                        </a:lnTo>
                        <a:lnTo>
                          <a:pt x="173" y="45"/>
                        </a:lnTo>
                        <a:lnTo>
                          <a:pt x="178" y="40"/>
                        </a:lnTo>
                        <a:lnTo>
                          <a:pt x="183" y="40"/>
                        </a:lnTo>
                        <a:lnTo>
                          <a:pt x="188" y="40"/>
                        </a:lnTo>
                        <a:lnTo>
                          <a:pt x="193" y="40"/>
                        </a:lnTo>
                        <a:lnTo>
                          <a:pt x="198" y="40"/>
                        </a:lnTo>
                        <a:lnTo>
                          <a:pt x="203" y="35"/>
                        </a:lnTo>
                        <a:lnTo>
                          <a:pt x="208" y="35"/>
                        </a:lnTo>
                        <a:lnTo>
                          <a:pt x="213" y="35"/>
                        </a:lnTo>
                        <a:lnTo>
                          <a:pt x="218" y="35"/>
                        </a:lnTo>
                        <a:lnTo>
                          <a:pt x="223" y="35"/>
                        </a:lnTo>
                        <a:lnTo>
                          <a:pt x="228" y="35"/>
                        </a:lnTo>
                        <a:lnTo>
                          <a:pt x="233" y="30"/>
                        </a:lnTo>
                        <a:lnTo>
                          <a:pt x="237" y="30"/>
                        </a:lnTo>
                        <a:lnTo>
                          <a:pt x="242" y="30"/>
                        </a:lnTo>
                        <a:lnTo>
                          <a:pt x="247" y="30"/>
                        </a:lnTo>
                        <a:lnTo>
                          <a:pt x="252" y="30"/>
                        </a:lnTo>
                        <a:lnTo>
                          <a:pt x="257" y="30"/>
                        </a:lnTo>
                        <a:lnTo>
                          <a:pt x="262" y="25"/>
                        </a:lnTo>
                        <a:lnTo>
                          <a:pt x="267" y="25"/>
                        </a:lnTo>
                        <a:lnTo>
                          <a:pt x="272" y="25"/>
                        </a:lnTo>
                        <a:lnTo>
                          <a:pt x="277" y="25"/>
                        </a:lnTo>
                        <a:lnTo>
                          <a:pt x="282" y="25"/>
                        </a:lnTo>
                        <a:lnTo>
                          <a:pt x="287" y="25"/>
                        </a:lnTo>
                        <a:lnTo>
                          <a:pt x="292" y="25"/>
                        </a:lnTo>
                        <a:lnTo>
                          <a:pt x="297" y="25"/>
                        </a:lnTo>
                        <a:lnTo>
                          <a:pt x="302" y="20"/>
                        </a:lnTo>
                        <a:lnTo>
                          <a:pt x="307" y="20"/>
                        </a:lnTo>
                        <a:lnTo>
                          <a:pt x="312" y="20"/>
                        </a:lnTo>
                        <a:lnTo>
                          <a:pt x="317" y="20"/>
                        </a:lnTo>
                        <a:lnTo>
                          <a:pt x="322" y="20"/>
                        </a:lnTo>
                        <a:lnTo>
                          <a:pt x="327" y="20"/>
                        </a:lnTo>
                        <a:lnTo>
                          <a:pt x="332" y="20"/>
                        </a:lnTo>
                        <a:lnTo>
                          <a:pt x="337" y="20"/>
                        </a:lnTo>
                        <a:lnTo>
                          <a:pt x="342" y="15"/>
                        </a:lnTo>
                        <a:lnTo>
                          <a:pt x="346" y="15"/>
                        </a:lnTo>
                        <a:lnTo>
                          <a:pt x="351" y="15"/>
                        </a:lnTo>
                        <a:lnTo>
                          <a:pt x="356" y="15"/>
                        </a:lnTo>
                        <a:lnTo>
                          <a:pt x="361" y="15"/>
                        </a:lnTo>
                        <a:lnTo>
                          <a:pt x="366" y="15"/>
                        </a:lnTo>
                        <a:lnTo>
                          <a:pt x="371" y="15"/>
                        </a:lnTo>
                        <a:lnTo>
                          <a:pt x="376" y="15"/>
                        </a:lnTo>
                        <a:lnTo>
                          <a:pt x="381" y="15"/>
                        </a:lnTo>
                        <a:lnTo>
                          <a:pt x="386" y="15"/>
                        </a:lnTo>
                        <a:lnTo>
                          <a:pt x="391" y="10"/>
                        </a:lnTo>
                        <a:lnTo>
                          <a:pt x="396" y="10"/>
                        </a:lnTo>
                        <a:lnTo>
                          <a:pt x="401" y="10"/>
                        </a:lnTo>
                        <a:lnTo>
                          <a:pt x="406" y="10"/>
                        </a:lnTo>
                        <a:lnTo>
                          <a:pt x="411" y="10"/>
                        </a:lnTo>
                        <a:lnTo>
                          <a:pt x="416" y="10"/>
                        </a:lnTo>
                        <a:lnTo>
                          <a:pt x="421" y="10"/>
                        </a:lnTo>
                        <a:lnTo>
                          <a:pt x="426" y="10"/>
                        </a:lnTo>
                        <a:lnTo>
                          <a:pt x="431" y="10"/>
                        </a:lnTo>
                        <a:lnTo>
                          <a:pt x="436" y="10"/>
                        </a:lnTo>
                        <a:lnTo>
                          <a:pt x="441" y="10"/>
                        </a:lnTo>
                        <a:lnTo>
                          <a:pt x="446" y="10"/>
                        </a:lnTo>
                        <a:lnTo>
                          <a:pt x="451" y="10"/>
                        </a:lnTo>
                        <a:lnTo>
                          <a:pt x="455" y="5"/>
                        </a:lnTo>
                        <a:lnTo>
                          <a:pt x="460" y="5"/>
                        </a:lnTo>
                        <a:lnTo>
                          <a:pt x="465" y="5"/>
                        </a:lnTo>
                        <a:lnTo>
                          <a:pt x="470" y="5"/>
                        </a:lnTo>
                        <a:lnTo>
                          <a:pt x="475" y="5"/>
                        </a:lnTo>
                        <a:lnTo>
                          <a:pt x="480" y="5"/>
                        </a:lnTo>
                        <a:lnTo>
                          <a:pt x="485" y="5"/>
                        </a:lnTo>
                        <a:lnTo>
                          <a:pt x="490" y="5"/>
                        </a:lnTo>
                        <a:lnTo>
                          <a:pt x="495" y="5"/>
                        </a:lnTo>
                        <a:lnTo>
                          <a:pt x="500" y="5"/>
                        </a:lnTo>
                        <a:lnTo>
                          <a:pt x="505" y="5"/>
                        </a:lnTo>
                        <a:lnTo>
                          <a:pt x="510" y="5"/>
                        </a:lnTo>
                        <a:lnTo>
                          <a:pt x="515" y="5"/>
                        </a:lnTo>
                        <a:lnTo>
                          <a:pt x="520" y="5"/>
                        </a:lnTo>
                        <a:lnTo>
                          <a:pt x="525" y="5"/>
                        </a:lnTo>
                        <a:lnTo>
                          <a:pt x="530" y="5"/>
                        </a:lnTo>
                        <a:lnTo>
                          <a:pt x="535" y="5"/>
                        </a:lnTo>
                        <a:lnTo>
                          <a:pt x="540" y="5"/>
                        </a:lnTo>
                        <a:lnTo>
                          <a:pt x="545" y="5"/>
                        </a:lnTo>
                        <a:lnTo>
                          <a:pt x="550" y="5"/>
                        </a:lnTo>
                        <a:lnTo>
                          <a:pt x="555" y="5"/>
                        </a:lnTo>
                        <a:lnTo>
                          <a:pt x="560" y="0"/>
                        </a:lnTo>
                        <a:lnTo>
                          <a:pt x="565" y="0"/>
                        </a:lnTo>
                        <a:lnTo>
                          <a:pt x="569" y="0"/>
                        </a:lnTo>
                        <a:lnTo>
                          <a:pt x="574" y="0"/>
                        </a:lnTo>
                        <a:lnTo>
                          <a:pt x="579" y="0"/>
                        </a:lnTo>
                        <a:lnTo>
                          <a:pt x="584" y="0"/>
                        </a:lnTo>
                        <a:lnTo>
                          <a:pt x="589" y="0"/>
                        </a:lnTo>
                        <a:lnTo>
                          <a:pt x="594" y="0"/>
                        </a:lnTo>
                        <a:lnTo>
                          <a:pt x="599" y="0"/>
                        </a:lnTo>
                        <a:lnTo>
                          <a:pt x="604" y="0"/>
                        </a:lnTo>
                        <a:lnTo>
                          <a:pt x="609" y="0"/>
                        </a:lnTo>
                        <a:lnTo>
                          <a:pt x="614" y="0"/>
                        </a:lnTo>
                        <a:lnTo>
                          <a:pt x="619" y="0"/>
                        </a:lnTo>
                        <a:lnTo>
                          <a:pt x="624" y="0"/>
                        </a:lnTo>
                        <a:lnTo>
                          <a:pt x="62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1200" spc="-1" strike="noStrike" u="sng">
                      <a:solidFill>
                        <a:srgbClr val="3333cc"/>
                      </a:solidFill>
                      <a:uFillTx/>
                      <a:latin typeface="Tahoma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3883320" y="2388600"/>
                    <a:ext cx="9968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35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10" y="0"/>
                        </a:lnTo>
                        <a:lnTo>
                          <a:pt x="15" y="0"/>
                        </a:lnTo>
                        <a:lnTo>
                          <a:pt x="20" y="0"/>
                        </a:lnTo>
                        <a:lnTo>
                          <a:pt x="25" y="0"/>
                        </a:lnTo>
                        <a:lnTo>
                          <a:pt x="30" y="0"/>
                        </a:lnTo>
                        <a:lnTo>
                          <a:pt x="35" y="0"/>
                        </a:lnTo>
                        <a:lnTo>
                          <a:pt x="40" y="0"/>
                        </a:lnTo>
                        <a:lnTo>
                          <a:pt x="45" y="0"/>
                        </a:lnTo>
                        <a:lnTo>
                          <a:pt x="49" y="0"/>
                        </a:lnTo>
                        <a:lnTo>
                          <a:pt x="54" y="0"/>
                        </a:lnTo>
                        <a:lnTo>
                          <a:pt x="59" y="0"/>
                        </a:lnTo>
                        <a:lnTo>
                          <a:pt x="64" y="0"/>
                        </a:lnTo>
                        <a:lnTo>
                          <a:pt x="69" y="0"/>
                        </a:lnTo>
                        <a:lnTo>
                          <a:pt x="74" y="0"/>
                        </a:lnTo>
                        <a:lnTo>
                          <a:pt x="79" y="0"/>
                        </a:lnTo>
                        <a:lnTo>
                          <a:pt x="84" y="0"/>
                        </a:lnTo>
                        <a:lnTo>
                          <a:pt x="89" y="0"/>
                        </a:lnTo>
                        <a:lnTo>
                          <a:pt x="94" y="0"/>
                        </a:lnTo>
                        <a:lnTo>
                          <a:pt x="99" y="0"/>
                        </a:lnTo>
                        <a:lnTo>
                          <a:pt x="104" y="0"/>
                        </a:lnTo>
                        <a:lnTo>
                          <a:pt x="109" y="0"/>
                        </a:lnTo>
                        <a:lnTo>
                          <a:pt x="114" y="0"/>
                        </a:lnTo>
                        <a:lnTo>
                          <a:pt x="119" y="0"/>
                        </a:lnTo>
                        <a:lnTo>
                          <a:pt x="124" y="0"/>
                        </a:lnTo>
                        <a:lnTo>
                          <a:pt x="129" y="0"/>
                        </a:lnTo>
                        <a:lnTo>
                          <a:pt x="134" y="0"/>
                        </a:lnTo>
                        <a:lnTo>
                          <a:pt x="139" y="0"/>
                        </a:lnTo>
                        <a:lnTo>
                          <a:pt x="144" y="5"/>
                        </a:lnTo>
                        <a:lnTo>
                          <a:pt x="149" y="5"/>
                        </a:lnTo>
                        <a:lnTo>
                          <a:pt x="154" y="5"/>
                        </a:lnTo>
                        <a:lnTo>
                          <a:pt x="158" y="5"/>
                        </a:lnTo>
                        <a:lnTo>
                          <a:pt x="163" y="5"/>
                        </a:lnTo>
                        <a:lnTo>
                          <a:pt x="168" y="5"/>
                        </a:lnTo>
                        <a:lnTo>
                          <a:pt x="173" y="5"/>
                        </a:lnTo>
                        <a:lnTo>
                          <a:pt x="178" y="5"/>
                        </a:lnTo>
                        <a:lnTo>
                          <a:pt x="183" y="5"/>
                        </a:lnTo>
                        <a:lnTo>
                          <a:pt x="188" y="5"/>
                        </a:lnTo>
                        <a:lnTo>
                          <a:pt x="193" y="5"/>
                        </a:lnTo>
                        <a:lnTo>
                          <a:pt x="198" y="5"/>
                        </a:lnTo>
                        <a:lnTo>
                          <a:pt x="203" y="5"/>
                        </a:lnTo>
                        <a:lnTo>
                          <a:pt x="208" y="5"/>
                        </a:lnTo>
                        <a:lnTo>
                          <a:pt x="213" y="5"/>
                        </a:lnTo>
                        <a:lnTo>
                          <a:pt x="218" y="5"/>
                        </a:lnTo>
                        <a:lnTo>
                          <a:pt x="223" y="5"/>
                        </a:lnTo>
                        <a:lnTo>
                          <a:pt x="228" y="5"/>
                        </a:lnTo>
                        <a:lnTo>
                          <a:pt x="233" y="5"/>
                        </a:lnTo>
                        <a:lnTo>
                          <a:pt x="238" y="5"/>
                        </a:lnTo>
                        <a:lnTo>
                          <a:pt x="243" y="5"/>
                        </a:lnTo>
                        <a:lnTo>
                          <a:pt x="248" y="5"/>
                        </a:lnTo>
                        <a:lnTo>
                          <a:pt x="253" y="5"/>
                        </a:lnTo>
                        <a:lnTo>
                          <a:pt x="258" y="5"/>
                        </a:lnTo>
                        <a:lnTo>
                          <a:pt x="263" y="5"/>
                        </a:lnTo>
                        <a:lnTo>
                          <a:pt x="268" y="5"/>
                        </a:lnTo>
                        <a:lnTo>
                          <a:pt x="272" y="10"/>
                        </a:lnTo>
                        <a:lnTo>
                          <a:pt x="277" y="10"/>
                        </a:lnTo>
                        <a:lnTo>
                          <a:pt x="282" y="10"/>
                        </a:lnTo>
                        <a:lnTo>
                          <a:pt x="287" y="10"/>
                        </a:lnTo>
                        <a:lnTo>
                          <a:pt x="292" y="10"/>
                        </a:lnTo>
                        <a:lnTo>
                          <a:pt x="297" y="10"/>
                        </a:lnTo>
                        <a:lnTo>
                          <a:pt x="302" y="10"/>
                        </a:lnTo>
                        <a:lnTo>
                          <a:pt x="307" y="10"/>
                        </a:lnTo>
                        <a:lnTo>
                          <a:pt x="312" y="10"/>
                        </a:lnTo>
                        <a:lnTo>
                          <a:pt x="317" y="10"/>
                        </a:lnTo>
                        <a:lnTo>
                          <a:pt x="322" y="10"/>
                        </a:lnTo>
                        <a:lnTo>
                          <a:pt x="327" y="10"/>
                        </a:lnTo>
                        <a:lnTo>
                          <a:pt x="332" y="10"/>
                        </a:lnTo>
                        <a:lnTo>
                          <a:pt x="337" y="10"/>
                        </a:lnTo>
                        <a:lnTo>
                          <a:pt x="342" y="10"/>
                        </a:lnTo>
                        <a:lnTo>
                          <a:pt x="347" y="10"/>
                        </a:lnTo>
                        <a:lnTo>
                          <a:pt x="352" y="10"/>
                        </a:lnTo>
                        <a:lnTo>
                          <a:pt x="357" y="15"/>
                        </a:lnTo>
                        <a:lnTo>
                          <a:pt x="362" y="15"/>
                        </a:lnTo>
                        <a:lnTo>
                          <a:pt x="367" y="15"/>
                        </a:lnTo>
                        <a:lnTo>
                          <a:pt x="372" y="15"/>
                        </a:lnTo>
                        <a:lnTo>
                          <a:pt x="377" y="15"/>
                        </a:lnTo>
                        <a:lnTo>
                          <a:pt x="381" y="15"/>
                        </a:lnTo>
                        <a:lnTo>
                          <a:pt x="386" y="15"/>
                        </a:lnTo>
                        <a:lnTo>
                          <a:pt x="391" y="15"/>
                        </a:lnTo>
                        <a:lnTo>
                          <a:pt x="396" y="15"/>
                        </a:lnTo>
                        <a:lnTo>
                          <a:pt x="401" y="15"/>
                        </a:lnTo>
                        <a:lnTo>
                          <a:pt x="406" y="15"/>
                        </a:lnTo>
                        <a:lnTo>
                          <a:pt x="411" y="15"/>
                        </a:lnTo>
                        <a:lnTo>
                          <a:pt x="416" y="15"/>
                        </a:lnTo>
                        <a:lnTo>
                          <a:pt x="421" y="15"/>
                        </a:lnTo>
                        <a:lnTo>
                          <a:pt x="426" y="20"/>
                        </a:lnTo>
                        <a:lnTo>
                          <a:pt x="431" y="20"/>
                        </a:lnTo>
                        <a:lnTo>
                          <a:pt x="436" y="20"/>
                        </a:lnTo>
                        <a:lnTo>
                          <a:pt x="441" y="20"/>
                        </a:lnTo>
                        <a:lnTo>
                          <a:pt x="446" y="20"/>
                        </a:lnTo>
                        <a:lnTo>
                          <a:pt x="451" y="20"/>
                        </a:lnTo>
                        <a:lnTo>
                          <a:pt x="456" y="20"/>
                        </a:lnTo>
                        <a:lnTo>
                          <a:pt x="461" y="20"/>
                        </a:lnTo>
                        <a:lnTo>
                          <a:pt x="466" y="20"/>
                        </a:lnTo>
                        <a:lnTo>
                          <a:pt x="471" y="20"/>
                        </a:lnTo>
                        <a:lnTo>
                          <a:pt x="476" y="20"/>
                        </a:lnTo>
                        <a:lnTo>
                          <a:pt x="481" y="20"/>
                        </a:lnTo>
                        <a:lnTo>
                          <a:pt x="486" y="25"/>
                        </a:lnTo>
                        <a:lnTo>
                          <a:pt x="490" y="25"/>
                        </a:lnTo>
                        <a:lnTo>
                          <a:pt x="495" y="25"/>
                        </a:lnTo>
                        <a:lnTo>
                          <a:pt x="500" y="25"/>
                        </a:lnTo>
                        <a:lnTo>
                          <a:pt x="505" y="25"/>
                        </a:lnTo>
                        <a:lnTo>
                          <a:pt x="510" y="25"/>
                        </a:lnTo>
                        <a:lnTo>
                          <a:pt x="515" y="25"/>
                        </a:lnTo>
                        <a:lnTo>
                          <a:pt x="520" y="25"/>
                        </a:lnTo>
                        <a:lnTo>
                          <a:pt x="525" y="25"/>
                        </a:lnTo>
                        <a:lnTo>
                          <a:pt x="530" y="25"/>
                        </a:lnTo>
                        <a:lnTo>
                          <a:pt x="535" y="25"/>
                        </a:lnTo>
                        <a:lnTo>
                          <a:pt x="540" y="25"/>
                        </a:lnTo>
                        <a:lnTo>
                          <a:pt x="545" y="30"/>
                        </a:lnTo>
                        <a:lnTo>
                          <a:pt x="550" y="30"/>
                        </a:lnTo>
                        <a:lnTo>
                          <a:pt x="555" y="30"/>
                        </a:lnTo>
                        <a:lnTo>
                          <a:pt x="560" y="30"/>
                        </a:lnTo>
                        <a:lnTo>
                          <a:pt x="565" y="30"/>
                        </a:lnTo>
                        <a:lnTo>
                          <a:pt x="570" y="30"/>
                        </a:lnTo>
                        <a:lnTo>
                          <a:pt x="575" y="30"/>
                        </a:lnTo>
                        <a:lnTo>
                          <a:pt x="580" y="30"/>
                        </a:lnTo>
                        <a:lnTo>
                          <a:pt x="585" y="30"/>
                        </a:lnTo>
                        <a:lnTo>
                          <a:pt x="590" y="30"/>
                        </a:lnTo>
                        <a:lnTo>
                          <a:pt x="595" y="30"/>
                        </a:lnTo>
                        <a:lnTo>
                          <a:pt x="600" y="35"/>
                        </a:lnTo>
                        <a:lnTo>
                          <a:pt x="604" y="35"/>
                        </a:lnTo>
                        <a:lnTo>
                          <a:pt x="609" y="35"/>
                        </a:lnTo>
                        <a:lnTo>
                          <a:pt x="614" y="35"/>
                        </a:lnTo>
                        <a:lnTo>
                          <a:pt x="619" y="35"/>
                        </a:lnTo>
                        <a:lnTo>
                          <a:pt x="624" y="35"/>
                        </a:lnTo>
                        <a:lnTo>
                          <a:pt x="629" y="35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1" i="1" lang="en-US" sz="1200" spc="-1" strike="noStrike" u="sng">
                      <a:solidFill>
                        <a:srgbClr val="3333cc"/>
                      </a:solidFill>
                      <a:uFillTx/>
                      <a:latin typeface="Tahoma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4881960" y="2444040"/>
                    <a:ext cx="99864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30" h="75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10" y="0"/>
                        </a:lnTo>
                        <a:lnTo>
                          <a:pt x="15" y="0"/>
                        </a:lnTo>
                        <a:lnTo>
                          <a:pt x="20" y="5"/>
                        </a:lnTo>
                        <a:lnTo>
                          <a:pt x="25" y="5"/>
                        </a:lnTo>
                        <a:lnTo>
                          <a:pt x="30" y="5"/>
                        </a:lnTo>
                        <a:lnTo>
                          <a:pt x="35" y="5"/>
                        </a:lnTo>
                        <a:lnTo>
                          <a:pt x="40" y="5"/>
                        </a:lnTo>
                        <a:lnTo>
                          <a:pt x="45" y="5"/>
                        </a:lnTo>
                        <a:lnTo>
                          <a:pt x="50" y="5"/>
                        </a:lnTo>
                        <a:lnTo>
                          <a:pt x="55" y="5"/>
                        </a:lnTo>
                        <a:lnTo>
                          <a:pt x="60" y="5"/>
                        </a:lnTo>
                        <a:lnTo>
                          <a:pt x="65" y="5"/>
                        </a:lnTo>
                        <a:lnTo>
                          <a:pt x="70" y="10"/>
                        </a:lnTo>
                        <a:lnTo>
                          <a:pt x="75" y="10"/>
                        </a:lnTo>
                        <a:lnTo>
                          <a:pt x="80" y="10"/>
                        </a:lnTo>
                        <a:lnTo>
                          <a:pt x="84" y="10"/>
                        </a:lnTo>
                        <a:lnTo>
                          <a:pt x="89" y="10"/>
                        </a:lnTo>
                        <a:lnTo>
                          <a:pt x="94" y="10"/>
                        </a:lnTo>
                        <a:lnTo>
                          <a:pt x="99" y="10"/>
                        </a:lnTo>
                        <a:lnTo>
                          <a:pt x="104" y="10"/>
                        </a:lnTo>
                        <a:lnTo>
                          <a:pt x="109" y="10"/>
                        </a:lnTo>
                        <a:lnTo>
                          <a:pt x="114" y="15"/>
                        </a:lnTo>
                        <a:lnTo>
                          <a:pt x="119" y="15"/>
                        </a:lnTo>
                        <a:lnTo>
                          <a:pt x="124" y="15"/>
                        </a:lnTo>
                        <a:lnTo>
                          <a:pt x="129" y="15"/>
                        </a:lnTo>
                        <a:lnTo>
                          <a:pt x="134" y="15"/>
                        </a:lnTo>
                        <a:lnTo>
                          <a:pt x="139" y="15"/>
                        </a:lnTo>
                        <a:lnTo>
                          <a:pt x="144" y="15"/>
                        </a:lnTo>
                        <a:lnTo>
                          <a:pt x="149" y="15"/>
                        </a:lnTo>
                        <a:lnTo>
                          <a:pt x="154" y="15"/>
                        </a:lnTo>
                        <a:lnTo>
                          <a:pt x="159" y="20"/>
                        </a:lnTo>
                        <a:lnTo>
                          <a:pt x="164" y="20"/>
                        </a:lnTo>
                        <a:lnTo>
                          <a:pt x="169" y="20"/>
                        </a:lnTo>
                        <a:lnTo>
                          <a:pt x="174" y="20"/>
                        </a:lnTo>
                        <a:lnTo>
                          <a:pt x="179" y="20"/>
                        </a:lnTo>
                        <a:lnTo>
                          <a:pt x="184" y="20"/>
                        </a:lnTo>
                        <a:lnTo>
                          <a:pt x="189" y="20"/>
                        </a:lnTo>
                        <a:lnTo>
                          <a:pt x="193" y="20"/>
                        </a:lnTo>
                        <a:lnTo>
                          <a:pt x="198" y="20"/>
                        </a:lnTo>
                        <a:lnTo>
                          <a:pt x="203" y="25"/>
                        </a:lnTo>
                        <a:lnTo>
                          <a:pt x="208" y="25"/>
                        </a:lnTo>
                        <a:lnTo>
                          <a:pt x="213" y="25"/>
                        </a:lnTo>
                        <a:lnTo>
                          <a:pt x="218" y="25"/>
                        </a:lnTo>
                        <a:lnTo>
                          <a:pt x="223" y="25"/>
                        </a:lnTo>
                        <a:lnTo>
                          <a:pt x="228" y="25"/>
                        </a:lnTo>
                        <a:lnTo>
                          <a:pt x="233" y="25"/>
                        </a:lnTo>
                        <a:lnTo>
                          <a:pt x="238" y="25"/>
                        </a:lnTo>
                        <a:lnTo>
                          <a:pt x="243" y="25"/>
                        </a:lnTo>
                        <a:lnTo>
                          <a:pt x="248" y="30"/>
                        </a:lnTo>
                        <a:lnTo>
                          <a:pt x="253" y="30"/>
                        </a:lnTo>
                        <a:lnTo>
                          <a:pt x="258" y="30"/>
                        </a:lnTo>
                        <a:lnTo>
                          <a:pt x="263" y="30"/>
                        </a:lnTo>
                        <a:lnTo>
                          <a:pt x="268" y="30"/>
                        </a:lnTo>
                        <a:lnTo>
                          <a:pt x="273" y="30"/>
                        </a:lnTo>
                        <a:lnTo>
                          <a:pt x="278" y="30"/>
                        </a:lnTo>
                        <a:lnTo>
                          <a:pt x="283" y="30"/>
                        </a:lnTo>
                        <a:lnTo>
                          <a:pt x="288" y="30"/>
                        </a:lnTo>
                        <a:lnTo>
                          <a:pt x="293" y="35"/>
                        </a:lnTo>
                        <a:lnTo>
                          <a:pt x="298" y="35"/>
                        </a:lnTo>
                        <a:lnTo>
                          <a:pt x="303" y="35"/>
                        </a:lnTo>
                        <a:lnTo>
                          <a:pt x="307" y="35"/>
                        </a:lnTo>
                        <a:lnTo>
                          <a:pt x="312" y="35"/>
                        </a:lnTo>
                        <a:lnTo>
                          <a:pt x="317" y="35"/>
                        </a:lnTo>
                        <a:lnTo>
                          <a:pt x="322" y="35"/>
                        </a:lnTo>
                        <a:lnTo>
                          <a:pt x="327" y="35"/>
                        </a:lnTo>
                        <a:lnTo>
                          <a:pt x="332" y="40"/>
                        </a:lnTo>
                        <a:lnTo>
                          <a:pt x="337" y="40"/>
                        </a:lnTo>
                        <a:lnTo>
                          <a:pt x="342" y="40"/>
                        </a:lnTo>
                        <a:lnTo>
                          <a:pt x="347" y="40"/>
                        </a:lnTo>
                        <a:lnTo>
                          <a:pt x="352" y="40"/>
                        </a:lnTo>
                        <a:lnTo>
                          <a:pt x="357" y="40"/>
                        </a:lnTo>
                        <a:lnTo>
                          <a:pt x="362" y="40"/>
                        </a:lnTo>
                        <a:lnTo>
                          <a:pt x="367" y="40"/>
                        </a:lnTo>
                        <a:lnTo>
                          <a:pt x="372" y="40"/>
                        </a:lnTo>
                        <a:lnTo>
                          <a:pt x="377" y="45"/>
                        </a:lnTo>
                        <a:lnTo>
                          <a:pt x="382" y="45"/>
                        </a:lnTo>
                        <a:lnTo>
                          <a:pt x="387" y="45"/>
                        </a:lnTo>
                        <a:lnTo>
                          <a:pt x="392" y="45"/>
                        </a:lnTo>
                        <a:lnTo>
                          <a:pt x="397" y="45"/>
                        </a:lnTo>
                        <a:lnTo>
                          <a:pt x="402" y="45"/>
                        </a:lnTo>
                        <a:lnTo>
                          <a:pt x="407" y="45"/>
                        </a:lnTo>
                        <a:lnTo>
                          <a:pt x="412" y="45"/>
                        </a:lnTo>
                        <a:lnTo>
                          <a:pt x="416" y="50"/>
                        </a:lnTo>
                        <a:lnTo>
                          <a:pt x="421" y="50"/>
                        </a:lnTo>
                        <a:lnTo>
                          <a:pt x="426" y="50"/>
                        </a:lnTo>
                        <a:lnTo>
                          <a:pt x="431" y="50"/>
                        </a:lnTo>
                        <a:lnTo>
                          <a:pt x="436" y="50"/>
                        </a:lnTo>
                        <a:lnTo>
                          <a:pt x="441" y="50"/>
                        </a:lnTo>
                        <a:lnTo>
                          <a:pt x="446" y="50"/>
                        </a:lnTo>
                        <a:lnTo>
                          <a:pt x="451" y="50"/>
                        </a:lnTo>
                        <a:lnTo>
                          <a:pt x="456" y="55"/>
                        </a:lnTo>
                        <a:lnTo>
                          <a:pt x="461" y="55"/>
                        </a:lnTo>
                        <a:lnTo>
                          <a:pt x="466" y="55"/>
                        </a:lnTo>
                        <a:lnTo>
                          <a:pt x="471" y="55"/>
                        </a:lnTo>
                        <a:lnTo>
                          <a:pt x="476" y="55"/>
                        </a:lnTo>
                        <a:lnTo>
                          <a:pt x="481" y="55"/>
                        </a:lnTo>
                        <a:lnTo>
                          <a:pt x="486" y="55"/>
                        </a:lnTo>
                        <a:lnTo>
                          <a:pt x="491" y="55"/>
                        </a:lnTo>
                        <a:lnTo>
                          <a:pt x="496" y="60"/>
                        </a:lnTo>
                        <a:lnTo>
                          <a:pt x="501" y="60"/>
                        </a:lnTo>
                        <a:lnTo>
                          <a:pt x="506" y="60"/>
                        </a:lnTo>
                        <a:lnTo>
                          <a:pt x="511" y="60"/>
                        </a:lnTo>
                        <a:lnTo>
                          <a:pt x="516" y="60"/>
                        </a:lnTo>
                        <a:lnTo>
                          <a:pt x="521" y="60"/>
                        </a:lnTo>
                        <a:lnTo>
                          <a:pt x="525" y="60"/>
                        </a:lnTo>
                        <a:lnTo>
                          <a:pt x="530" y="60"/>
                        </a:lnTo>
                        <a:lnTo>
                          <a:pt x="535" y="65"/>
                        </a:lnTo>
                        <a:lnTo>
                          <a:pt x="540" y="65"/>
                        </a:lnTo>
                        <a:lnTo>
                          <a:pt x="545" y="65"/>
                        </a:lnTo>
                        <a:lnTo>
                          <a:pt x="550" y="65"/>
                        </a:lnTo>
                        <a:lnTo>
                          <a:pt x="555" y="65"/>
                        </a:lnTo>
                        <a:lnTo>
                          <a:pt x="560" y="65"/>
                        </a:lnTo>
                        <a:lnTo>
                          <a:pt x="565" y="65"/>
                        </a:lnTo>
                        <a:lnTo>
                          <a:pt x="570" y="65"/>
                        </a:lnTo>
                        <a:lnTo>
                          <a:pt x="575" y="65"/>
                        </a:lnTo>
                        <a:lnTo>
                          <a:pt x="580" y="70"/>
                        </a:lnTo>
                        <a:lnTo>
                          <a:pt x="585" y="70"/>
                        </a:lnTo>
                        <a:lnTo>
                          <a:pt x="590" y="70"/>
                        </a:lnTo>
                        <a:lnTo>
                          <a:pt x="595" y="70"/>
                        </a:lnTo>
                        <a:lnTo>
                          <a:pt x="600" y="70"/>
                        </a:lnTo>
                        <a:lnTo>
                          <a:pt x="605" y="70"/>
                        </a:lnTo>
                        <a:lnTo>
                          <a:pt x="610" y="70"/>
                        </a:lnTo>
                        <a:lnTo>
                          <a:pt x="615" y="70"/>
                        </a:lnTo>
                        <a:lnTo>
                          <a:pt x="620" y="75"/>
                        </a:lnTo>
                        <a:lnTo>
                          <a:pt x="625" y="75"/>
                        </a:lnTo>
                        <a:lnTo>
                          <a:pt x="630" y="75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1200" spc="-1" strike="noStrike" u="sng">
                      <a:solidFill>
                        <a:srgbClr val="3333cc"/>
                      </a:solidFill>
                      <a:uFillTx/>
                      <a:latin typeface="Tahoma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5882400" y="2562840"/>
                    <a:ext cx="6192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1" h="49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14" y="0"/>
                        </a:lnTo>
                        <a:lnTo>
                          <a:pt x="19" y="0"/>
                        </a:lnTo>
                        <a:lnTo>
                          <a:pt x="24" y="0"/>
                        </a:lnTo>
                        <a:lnTo>
                          <a:pt x="29" y="4"/>
                        </a:lnTo>
                        <a:lnTo>
                          <a:pt x="34" y="4"/>
                        </a:lnTo>
                        <a:lnTo>
                          <a:pt x="39" y="4"/>
                        </a:lnTo>
                        <a:lnTo>
                          <a:pt x="44" y="4"/>
                        </a:lnTo>
                        <a:lnTo>
                          <a:pt x="49" y="4"/>
                        </a:lnTo>
                        <a:lnTo>
                          <a:pt x="54" y="4"/>
                        </a:lnTo>
                        <a:lnTo>
                          <a:pt x="59" y="4"/>
                        </a:lnTo>
                        <a:lnTo>
                          <a:pt x="64" y="4"/>
                        </a:lnTo>
                        <a:lnTo>
                          <a:pt x="69" y="9"/>
                        </a:lnTo>
                        <a:lnTo>
                          <a:pt x="74" y="9"/>
                        </a:lnTo>
                        <a:lnTo>
                          <a:pt x="79" y="9"/>
                        </a:lnTo>
                        <a:lnTo>
                          <a:pt x="84" y="9"/>
                        </a:lnTo>
                        <a:lnTo>
                          <a:pt x="89" y="9"/>
                        </a:lnTo>
                        <a:lnTo>
                          <a:pt x="94" y="9"/>
                        </a:lnTo>
                        <a:lnTo>
                          <a:pt x="99" y="9"/>
                        </a:lnTo>
                        <a:lnTo>
                          <a:pt x="104" y="9"/>
                        </a:lnTo>
                        <a:lnTo>
                          <a:pt x="109" y="14"/>
                        </a:lnTo>
                        <a:lnTo>
                          <a:pt x="114" y="14"/>
                        </a:lnTo>
                        <a:lnTo>
                          <a:pt x="118" y="14"/>
                        </a:lnTo>
                        <a:lnTo>
                          <a:pt x="123" y="14"/>
                        </a:lnTo>
                        <a:lnTo>
                          <a:pt x="128" y="14"/>
                        </a:lnTo>
                        <a:lnTo>
                          <a:pt x="133" y="14"/>
                        </a:lnTo>
                        <a:lnTo>
                          <a:pt x="138" y="14"/>
                        </a:lnTo>
                        <a:lnTo>
                          <a:pt x="143" y="14"/>
                        </a:lnTo>
                        <a:lnTo>
                          <a:pt x="148" y="19"/>
                        </a:lnTo>
                        <a:lnTo>
                          <a:pt x="153" y="19"/>
                        </a:lnTo>
                        <a:lnTo>
                          <a:pt x="158" y="19"/>
                        </a:lnTo>
                        <a:lnTo>
                          <a:pt x="163" y="19"/>
                        </a:lnTo>
                        <a:lnTo>
                          <a:pt x="168" y="19"/>
                        </a:lnTo>
                        <a:lnTo>
                          <a:pt x="173" y="19"/>
                        </a:lnTo>
                        <a:lnTo>
                          <a:pt x="178" y="19"/>
                        </a:lnTo>
                        <a:lnTo>
                          <a:pt x="183" y="19"/>
                        </a:lnTo>
                        <a:lnTo>
                          <a:pt x="188" y="24"/>
                        </a:lnTo>
                        <a:lnTo>
                          <a:pt x="193" y="24"/>
                        </a:lnTo>
                        <a:lnTo>
                          <a:pt x="198" y="24"/>
                        </a:lnTo>
                        <a:lnTo>
                          <a:pt x="203" y="24"/>
                        </a:lnTo>
                        <a:lnTo>
                          <a:pt x="208" y="24"/>
                        </a:lnTo>
                        <a:lnTo>
                          <a:pt x="213" y="24"/>
                        </a:lnTo>
                        <a:lnTo>
                          <a:pt x="218" y="24"/>
                        </a:lnTo>
                        <a:lnTo>
                          <a:pt x="223" y="24"/>
                        </a:lnTo>
                        <a:lnTo>
                          <a:pt x="227" y="29"/>
                        </a:lnTo>
                        <a:lnTo>
                          <a:pt x="232" y="29"/>
                        </a:lnTo>
                        <a:lnTo>
                          <a:pt x="237" y="29"/>
                        </a:lnTo>
                        <a:lnTo>
                          <a:pt x="242" y="29"/>
                        </a:lnTo>
                        <a:lnTo>
                          <a:pt x="247" y="29"/>
                        </a:lnTo>
                        <a:lnTo>
                          <a:pt x="252" y="29"/>
                        </a:lnTo>
                        <a:lnTo>
                          <a:pt x="257" y="29"/>
                        </a:lnTo>
                        <a:lnTo>
                          <a:pt x="262" y="29"/>
                        </a:lnTo>
                        <a:lnTo>
                          <a:pt x="267" y="34"/>
                        </a:lnTo>
                        <a:lnTo>
                          <a:pt x="272" y="34"/>
                        </a:lnTo>
                        <a:lnTo>
                          <a:pt x="277" y="34"/>
                        </a:lnTo>
                        <a:lnTo>
                          <a:pt x="282" y="34"/>
                        </a:lnTo>
                        <a:lnTo>
                          <a:pt x="287" y="34"/>
                        </a:lnTo>
                        <a:lnTo>
                          <a:pt x="292" y="34"/>
                        </a:lnTo>
                        <a:lnTo>
                          <a:pt x="297" y="34"/>
                        </a:lnTo>
                        <a:lnTo>
                          <a:pt x="302" y="34"/>
                        </a:lnTo>
                        <a:lnTo>
                          <a:pt x="307" y="39"/>
                        </a:lnTo>
                        <a:lnTo>
                          <a:pt x="312" y="39"/>
                        </a:lnTo>
                        <a:lnTo>
                          <a:pt x="317" y="39"/>
                        </a:lnTo>
                        <a:lnTo>
                          <a:pt x="322" y="39"/>
                        </a:lnTo>
                        <a:lnTo>
                          <a:pt x="327" y="39"/>
                        </a:lnTo>
                        <a:lnTo>
                          <a:pt x="332" y="39"/>
                        </a:lnTo>
                        <a:lnTo>
                          <a:pt x="337" y="39"/>
                        </a:lnTo>
                        <a:lnTo>
                          <a:pt x="341" y="39"/>
                        </a:lnTo>
                        <a:lnTo>
                          <a:pt x="346" y="44"/>
                        </a:lnTo>
                        <a:lnTo>
                          <a:pt x="351" y="44"/>
                        </a:lnTo>
                        <a:lnTo>
                          <a:pt x="356" y="44"/>
                        </a:lnTo>
                        <a:lnTo>
                          <a:pt x="361" y="44"/>
                        </a:lnTo>
                        <a:lnTo>
                          <a:pt x="366" y="44"/>
                        </a:lnTo>
                        <a:lnTo>
                          <a:pt x="371" y="44"/>
                        </a:lnTo>
                        <a:lnTo>
                          <a:pt x="376" y="44"/>
                        </a:lnTo>
                        <a:lnTo>
                          <a:pt x="381" y="44"/>
                        </a:lnTo>
                        <a:lnTo>
                          <a:pt x="386" y="44"/>
                        </a:lnTo>
                        <a:lnTo>
                          <a:pt x="391" y="49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1" i="1" lang="en-US" sz="1200" spc="-1" strike="noStrike" u="sng">
                      <a:solidFill>
                        <a:srgbClr val="3333cc"/>
                      </a:solidFill>
                      <a:uFillTx/>
                      <a:latin typeface="Tahoma"/>
                    </a:endParaRPr>
                  </a:p>
                </p:txBody>
              </p:sp>
            </p:grpSp>
            <p:sp>
              <p:nvSpPr>
                <p:cNvPr id="796" name=""/>
                <p:cNvSpPr/>
                <p:nvPr/>
              </p:nvSpPr>
              <p:spPr>
                <a:xfrm>
                  <a:off x="1884240" y="2562840"/>
                  <a:ext cx="4900320" cy="0"/>
                </a:xfrm>
                <a:prstGeom prst="line">
                  <a:avLst/>
                </a:prstGeom>
                <a:ln w="12600">
                  <a:solidFill>
                    <a:srgbClr val="3333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284480" y="2355120"/>
                  <a:ext cx="393480" cy="69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it-IT" sz="1400" spc="-1" strike="noStrike" u="sng">
                      <a:solidFill>
                        <a:srgbClr val="3333cc"/>
                      </a:solidFill>
                      <a:uFillTx/>
                      <a:latin typeface="Tahoma"/>
                    </a:rPr>
                    <a:t>effort </a:t>
                  </a:r>
                  <a:r>
                    <a:rPr b="1" i="1" lang="it-IT" sz="1400" spc="-1" strike="noStrike" u="sng">
                      <a:solidFill>
                        <a:srgbClr val="3333cc"/>
                      </a:solidFill>
                      <a:uFillTx/>
                      <a:latin typeface="Times New Roman"/>
                    </a:rPr>
                    <a:t>e</a:t>
                  </a:r>
                  <a:endParaRPr b="1" i="1" lang="en-US" sz="14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2735280" y="2534400"/>
                  <a:ext cx="0" cy="60696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860440" y="2534400"/>
                  <a:ext cx="0" cy="60696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2706840" y="2534400"/>
                  <a:ext cx="68040" cy="694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822280" y="2534400"/>
                  <a:ext cx="68400" cy="694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1" i="1" lang="en-US" sz="12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</p:grpSp>
        </p:grpSp>
        <p:sp>
          <p:nvSpPr>
            <p:cNvPr id="802" name=""/>
            <p:cNvSpPr/>
            <p:nvPr/>
          </p:nvSpPr>
          <p:spPr>
            <a:xfrm>
              <a:off x="6760440" y="23335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ahoma"/>
                </a:rPr>
                <a:t>e</a:t>
              </a: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imes New Roman"/>
                  <a:ea typeface="Tahoma"/>
                </a:rPr>
                <a:t>*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005240" y="2373480"/>
              <a:ext cx="187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  <a:ea typeface="Tahoma"/>
                </a:rPr>
                <a:t>is the threshold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 fill="hold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 fill="hold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 fill="hold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Maximization of the mean production rate</a:t>
            </a:r>
            <a:endParaRPr b="1" i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1063800" y="3657600"/>
            <a:ext cx="701640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5760" indent="-455760">
              <a:spcBef>
                <a:spcPts val="901"/>
              </a:spcBef>
              <a:buClr>
                <a:srgbClr val="3333cc"/>
              </a:buClr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In 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  <a:ea typeface="Tahoma"/>
              </a:rPr>
              <a:t>stationary regimes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, the production rate grows </a:t>
            </a:r>
            <a:br>
              <a:rPr sz="1800"/>
            </a:b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	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	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	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	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	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proportionally to effort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455760" indent="-455760">
              <a:spcBef>
                <a:spcPts val="901"/>
              </a:spcBef>
              <a:buClr>
                <a:srgbClr val="3333cc"/>
              </a:buClr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In 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  <a:ea typeface="Tahoma"/>
              </a:rPr>
              <a:t>periodic regimes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, the 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  <a:ea typeface="Tahoma"/>
              </a:rPr>
              <a:t>mean production rate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 decreases close to the threshold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imes New Roman"/>
                <a:ea typeface="Tahoma"/>
              </a:rPr>
              <a:t>e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*, then it increases again linearly 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  <a:ea typeface="Tahoma"/>
              </a:rPr>
              <a:t>but </a:t>
            </a:r>
            <a:br>
              <a:rPr sz="1800"/>
            </a:b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  <a:ea typeface="Tahoma"/>
              </a:rPr>
              <a:t>at a significantly lower rate 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455760" indent="-455760">
              <a:spcBef>
                <a:spcPts val="901"/>
              </a:spcBef>
              <a:buClr>
                <a:srgbClr val="3333cc"/>
              </a:buClr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Therefore, the mean production rate has a 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  <a:ea typeface="Tahoma"/>
              </a:rPr>
              <a:t>relative maximum on the verge of complexity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(marginal efficiency of investment?) 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3544920" y="1295280"/>
            <a:ext cx="1706400" cy="171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07" name=""/>
          <p:cNvSpPr/>
          <p:nvPr/>
        </p:nvSpPr>
        <p:spPr>
          <a:xfrm>
            <a:off x="3544920" y="3009960"/>
            <a:ext cx="1706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3544920" y="1293480"/>
            <a:ext cx="1440" cy="17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3544920" y="3009960"/>
            <a:ext cx="1440" cy="1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3534120" y="304488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9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i="1" lang="en-US" sz="9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4299120" y="3009960"/>
            <a:ext cx="1440" cy="1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4278600" y="3044880"/>
            <a:ext cx="19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Times New Roman"/>
              </a:rPr>
              <a:t>*</a:t>
            </a:r>
            <a:endParaRPr b="1" i="1" lang="en-US" sz="16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5251320" y="3009960"/>
            <a:ext cx="1800" cy="1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3521160" y="3009960"/>
            <a:ext cx="25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3484800" y="295920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9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i="1" lang="en-US" sz="9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521160" y="1295280"/>
            <a:ext cx="25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3544920" y="1577880"/>
            <a:ext cx="1711440" cy="1434960"/>
            <a:chOff x="3544920" y="1577880"/>
            <a:chExt cx="1711440" cy="1434960"/>
          </a:xfrm>
        </p:grpSpPr>
        <p:sp>
          <p:nvSpPr>
            <p:cNvPr id="818" name=""/>
            <p:cNvSpPr/>
            <p:nvPr/>
          </p:nvSpPr>
          <p:spPr>
            <a:xfrm>
              <a:off x="3544920" y="1978920"/>
              <a:ext cx="752400" cy="681840"/>
            </a:xfrm>
            <a:custGeom>
              <a:avLst/>
              <a:gdLst/>
              <a:ahLst/>
              <a:rect l="l" t="t" r="r" b="b"/>
              <a:pathLst>
                <a:path w="620" h="562">
                  <a:moveTo>
                    <a:pt x="0" y="562"/>
                  </a:moveTo>
                  <a:lnTo>
                    <a:pt x="204" y="376"/>
                  </a:lnTo>
                  <a:lnTo>
                    <a:pt x="412" y="186"/>
                  </a:lnTo>
                  <a:lnTo>
                    <a:pt x="62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299120" y="1577880"/>
              <a:ext cx="957240" cy="410400"/>
            </a:xfrm>
            <a:custGeom>
              <a:avLst/>
              <a:gdLst/>
              <a:ahLst/>
              <a:rect l="l" t="t" r="r" b="b"/>
              <a:pathLst>
                <a:path w="787" h="339">
                  <a:moveTo>
                    <a:pt x="0" y="330"/>
                  </a:moveTo>
                  <a:lnTo>
                    <a:pt x="5" y="330"/>
                  </a:lnTo>
                  <a:lnTo>
                    <a:pt x="14" y="335"/>
                  </a:lnTo>
                  <a:lnTo>
                    <a:pt x="23" y="335"/>
                  </a:lnTo>
                  <a:lnTo>
                    <a:pt x="33" y="335"/>
                  </a:lnTo>
                  <a:lnTo>
                    <a:pt x="42" y="335"/>
                  </a:lnTo>
                  <a:lnTo>
                    <a:pt x="56" y="339"/>
                  </a:lnTo>
                  <a:lnTo>
                    <a:pt x="65" y="335"/>
                  </a:lnTo>
                  <a:lnTo>
                    <a:pt x="79" y="339"/>
                  </a:lnTo>
                  <a:lnTo>
                    <a:pt x="88" y="339"/>
                  </a:lnTo>
                  <a:lnTo>
                    <a:pt x="102" y="335"/>
                  </a:lnTo>
                  <a:lnTo>
                    <a:pt x="116" y="335"/>
                  </a:lnTo>
                  <a:lnTo>
                    <a:pt x="130" y="330"/>
                  </a:lnTo>
                  <a:lnTo>
                    <a:pt x="144" y="330"/>
                  </a:lnTo>
                  <a:lnTo>
                    <a:pt x="158" y="325"/>
                  </a:lnTo>
                  <a:lnTo>
                    <a:pt x="172" y="325"/>
                  </a:lnTo>
                  <a:lnTo>
                    <a:pt x="185" y="321"/>
                  </a:lnTo>
                  <a:lnTo>
                    <a:pt x="199" y="316"/>
                  </a:lnTo>
                  <a:lnTo>
                    <a:pt x="213" y="311"/>
                  </a:lnTo>
                  <a:lnTo>
                    <a:pt x="232" y="307"/>
                  </a:lnTo>
                  <a:lnTo>
                    <a:pt x="246" y="297"/>
                  </a:lnTo>
                  <a:lnTo>
                    <a:pt x="259" y="293"/>
                  </a:lnTo>
                  <a:lnTo>
                    <a:pt x="273" y="288"/>
                  </a:lnTo>
                  <a:lnTo>
                    <a:pt x="292" y="279"/>
                  </a:lnTo>
                  <a:lnTo>
                    <a:pt x="306" y="274"/>
                  </a:lnTo>
                  <a:lnTo>
                    <a:pt x="320" y="265"/>
                  </a:lnTo>
                  <a:lnTo>
                    <a:pt x="338" y="260"/>
                  </a:lnTo>
                  <a:lnTo>
                    <a:pt x="352" y="251"/>
                  </a:lnTo>
                  <a:lnTo>
                    <a:pt x="366" y="242"/>
                  </a:lnTo>
                  <a:lnTo>
                    <a:pt x="384" y="232"/>
                  </a:lnTo>
                  <a:lnTo>
                    <a:pt x="398" y="228"/>
                  </a:lnTo>
                  <a:lnTo>
                    <a:pt x="412" y="218"/>
                  </a:lnTo>
                  <a:lnTo>
                    <a:pt x="431" y="209"/>
                  </a:lnTo>
                  <a:lnTo>
                    <a:pt x="444" y="205"/>
                  </a:lnTo>
                  <a:lnTo>
                    <a:pt x="458" y="195"/>
                  </a:lnTo>
                  <a:lnTo>
                    <a:pt x="477" y="186"/>
                  </a:lnTo>
                  <a:lnTo>
                    <a:pt x="491" y="177"/>
                  </a:lnTo>
                  <a:lnTo>
                    <a:pt x="505" y="167"/>
                  </a:lnTo>
                  <a:lnTo>
                    <a:pt x="523" y="158"/>
                  </a:lnTo>
                  <a:lnTo>
                    <a:pt x="537" y="149"/>
                  </a:lnTo>
                  <a:lnTo>
                    <a:pt x="555" y="139"/>
                  </a:lnTo>
                  <a:lnTo>
                    <a:pt x="569" y="130"/>
                  </a:lnTo>
                  <a:lnTo>
                    <a:pt x="583" y="121"/>
                  </a:lnTo>
                  <a:lnTo>
                    <a:pt x="602" y="116"/>
                  </a:lnTo>
                  <a:lnTo>
                    <a:pt x="616" y="107"/>
                  </a:lnTo>
                  <a:lnTo>
                    <a:pt x="629" y="98"/>
                  </a:lnTo>
                  <a:lnTo>
                    <a:pt x="648" y="88"/>
                  </a:lnTo>
                  <a:lnTo>
                    <a:pt x="662" y="74"/>
                  </a:lnTo>
                  <a:lnTo>
                    <a:pt x="676" y="65"/>
                  </a:lnTo>
                  <a:lnTo>
                    <a:pt x="694" y="56"/>
                  </a:lnTo>
                  <a:lnTo>
                    <a:pt x="708" y="47"/>
                  </a:lnTo>
                  <a:lnTo>
                    <a:pt x="727" y="37"/>
                  </a:lnTo>
                  <a:lnTo>
                    <a:pt x="740" y="28"/>
                  </a:lnTo>
                  <a:lnTo>
                    <a:pt x="754" y="19"/>
                  </a:lnTo>
                  <a:lnTo>
                    <a:pt x="773" y="9"/>
                  </a:lnTo>
                  <a:lnTo>
                    <a:pt x="78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4299120" y="1977480"/>
              <a:ext cx="0" cy="103536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3117960" y="1099440"/>
            <a:ext cx="39348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400" spc="-1" strike="noStrike" u="sng">
                <a:solidFill>
                  <a:srgbClr val="3333cc"/>
                </a:solidFill>
                <a:uFillTx/>
                <a:latin typeface="Tahoma"/>
              </a:rPr>
              <a:t>Mean productivity </a:t>
            </a:r>
            <a:r>
              <a:rPr b="1" i="1" lang="it-IT" sz="1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it-IT" sz="1400" spc="-1" strike="noStrike" u="sng">
                <a:solidFill>
                  <a:srgbClr val="3333cc"/>
                </a:solidFill>
                <a:uFillTx/>
                <a:latin typeface="Times New Roman"/>
              </a:rPr>
              <a:t>(</a:t>
            </a:r>
            <a:r>
              <a:rPr b="1" i="1" lang="it-IT" sz="1400" spc="-1" strike="noStrike" u="sng">
                <a:solidFill>
                  <a:srgbClr val="3333cc"/>
                </a:solidFill>
                <a:uFillTx/>
                <a:latin typeface="Times New Roman"/>
              </a:rPr>
              <a:t>C</a:t>
            </a:r>
            <a:r>
              <a:rPr b="1" i="1" lang="it-IT" sz="1400" spc="-1" strike="noStrike" u="sng">
                <a:solidFill>
                  <a:srgbClr val="3333cc"/>
                </a:solidFill>
                <a:uFillTx/>
                <a:latin typeface="Times New Roman"/>
              </a:rPr>
              <a:t>)</a:t>
            </a:r>
            <a:endParaRPr b="1" i="1" lang="en-US" sz="1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3898080" y="327348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400" spc="-1" strike="noStrike" u="sng">
                <a:solidFill>
                  <a:srgbClr val="3333cc"/>
                </a:solidFill>
                <a:uFillTx/>
                <a:latin typeface="Tahoma"/>
              </a:rPr>
              <a:t>Effort </a:t>
            </a:r>
            <a:r>
              <a:rPr b="1" i="1" lang="it-IT" sz="1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endParaRPr b="1" i="1" lang="en-US" sz="1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 fill="hold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7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8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8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2800" spc="-1" strike="noStrike" u="sng">
                <a:solidFill>
                  <a:srgbClr val="3333cc"/>
                </a:solidFill>
                <a:uFillTx/>
                <a:latin typeface="Tahoma"/>
              </a:rPr>
              <a:t>Maestros</a:t>
            </a:r>
            <a:r>
              <a:rPr b="1" i="1" lang="it-IT" sz="2800" spc="-1" strike="noStrike" u="sng">
                <a:solidFill>
                  <a:srgbClr val="3333cc"/>
                </a:solidFill>
                <a:uFillTx/>
                <a:latin typeface="Tahoma"/>
              </a:rPr>
              <a:t> at work</a:t>
            </a:r>
            <a:endParaRPr b="1" i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27160" y="974880"/>
            <a:ext cx="85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What is 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</a:rPr>
              <a:t>production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in the context of 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</a:rPr>
              <a:t>creative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work? Can we</a:t>
            </a:r>
            <a:r>
              <a:rPr b="1" i="1" lang="it-IT" sz="18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</a:rPr>
              <a:t>measure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it? And 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</a:rPr>
              <a:t>how?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12200" y="1436760"/>
            <a:ext cx="2244240" cy="2094120"/>
            <a:chOff x="412200" y="1436760"/>
            <a:chExt cx="2244240" cy="209412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539640" y="1436760"/>
              <a:ext cx="14922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12200" y="3284640"/>
              <a:ext cx="224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000" spc="-1" strike="noStrike" u="sng">
                  <a:solidFill>
                    <a:srgbClr val="3333cc"/>
                  </a:solidFill>
                  <a:uFillTx/>
                  <a:latin typeface="Tahoma"/>
                </a:rPr>
                <a:t>Young Mozart with Birdnest (1764)</a:t>
              </a:r>
              <a:endParaRPr b="1" i="1" lang="en-US" sz="10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123280" y="1353960"/>
            <a:ext cx="157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K1c – Allegro (1761)</a:t>
            </a: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Mozart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was aged 5</a:t>
            </a: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201760" y="181116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2016000" cy="1955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27040" y="2924280"/>
            <a:ext cx="211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K527 – Don Giovanni (1787)</a:t>
            </a: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Mozart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was aged 31</a:t>
            </a: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746520" y="1844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0" y="3645000"/>
            <a:ext cx="6443640" cy="2868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59760" y="6524640"/>
            <a:ext cx="237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Tahoma"/>
              </a:rPr>
              <a:t>Guernica </a:t>
            </a: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Tahoma"/>
              </a:rPr>
              <a:t>(1937), Pablo Picasso</a:t>
            </a: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659640" y="4791240"/>
            <a:ext cx="2273400" cy="1733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580080" y="4511520"/>
            <a:ext cx="22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Tahoma"/>
              </a:rPr>
              <a:t>Dove </a:t>
            </a: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Tahoma"/>
              </a:rPr>
              <a:t>(1949), Pablo Picasso</a:t>
            </a: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6597000" y="364500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</a:rPr>
              <a:t>Dove 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</a:rPr>
              <a:t>= 1 = Guernica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6634080" y="29685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</a:rPr>
              <a:t>K1c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</a:rPr>
              <a:t> </a:t>
            </a: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</a:rPr>
              <a:t>= 1 = K527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p:timing>
    <p:tnLst>
      <p:par>
        <p:cTn id="23" dur="indefinite" restart="never" fill="hold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515240" y="1504800"/>
            <a:ext cx="2767680" cy="1946520"/>
            <a:chOff x="1515240" y="1504800"/>
            <a:chExt cx="2767680" cy="1946520"/>
          </a:xfrm>
        </p:grpSpPr>
        <p:sp>
          <p:nvSpPr>
            <p:cNvPr id="91" name=""/>
            <p:cNvSpPr/>
            <p:nvPr/>
          </p:nvSpPr>
          <p:spPr>
            <a:xfrm>
              <a:off x="1619280" y="1700280"/>
              <a:ext cx="430200" cy="1751040"/>
            </a:xfrm>
            <a:prstGeom prst="rect">
              <a:avLst/>
            </a:prstGeom>
            <a:solidFill>
              <a:srgbClr val="33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74760" y="1700280"/>
              <a:ext cx="1532160" cy="1751040"/>
            </a:xfrm>
            <a:prstGeom prst="rect">
              <a:avLst/>
            </a:prstGeom>
            <a:solidFill>
              <a:srgbClr val="33cc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08360" y="1690560"/>
              <a:ext cx="574560" cy="1751040"/>
            </a:xfrm>
            <a:prstGeom prst="rect">
              <a:avLst/>
            </a:prstGeom>
            <a:solidFill>
              <a:srgbClr val="ff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15240" y="1504800"/>
              <a:ext cx="64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000" spc="-1" strike="noStrike" u="sng">
                  <a:solidFill>
                    <a:srgbClr val="3399ff"/>
                  </a:solidFill>
                  <a:uFillTx/>
                  <a:latin typeface="Tahoma"/>
                </a:rPr>
                <a:t>Russian</a:t>
              </a:r>
              <a:endParaRPr b="1" i="1" lang="en-US" sz="10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05000" y="1504800"/>
              <a:ext cx="1501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000" spc="-1" strike="noStrike" u="sng">
                  <a:solidFill>
                    <a:srgbClr val="008000"/>
                  </a:solidFill>
                  <a:uFillTx/>
                  <a:latin typeface="Tahoma"/>
                </a:rPr>
                <a:t>Neoclassical</a:t>
              </a:r>
              <a:endParaRPr b="1" i="1" lang="en-US" sz="10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05120" y="1504800"/>
              <a:ext cx="5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000" spc="-1" strike="noStrike" u="sng">
                  <a:solidFill>
                    <a:srgbClr val="ff9900"/>
                  </a:solidFill>
                  <a:uFillTx/>
                  <a:latin typeface="Tahoma"/>
                </a:rPr>
                <a:t>Serial</a:t>
              </a:r>
              <a:endParaRPr b="1" i="1" lang="en-US" sz="10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28600" y="105264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</a:rPr>
              <a:t>Analysis of “careers”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476360" y="1484280"/>
            <a:ext cx="7770960" cy="2089080"/>
            <a:chOff x="1476360" y="1484280"/>
            <a:chExt cx="7770960" cy="2089080"/>
          </a:xfrm>
        </p:grpSpPr>
        <p:sp>
          <p:nvSpPr>
            <p:cNvPr id="99" name=""/>
            <p:cNvSpPr/>
            <p:nvPr/>
          </p:nvSpPr>
          <p:spPr>
            <a:xfrm>
              <a:off x="1476360" y="1484280"/>
              <a:ext cx="7769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76360" y="3573360"/>
              <a:ext cx="7769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76360" y="1484280"/>
              <a:ext cx="0" cy="20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247320" y="1484280"/>
              <a:ext cx="0" cy="20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2800" spc="-1" strike="noStrike" u="sng">
                <a:solidFill>
                  <a:srgbClr val="3333cc"/>
                </a:solidFill>
                <a:uFillTx/>
                <a:latin typeface="Tahoma"/>
              </a:rPr>
              <a:t>Maestros</a:t>
            </a:r>
            <a:r>
              <a:rPr b="1" i="1" lang="it-IT" sz="2800" spc="-1" strike="noStrike" u="sng">
                <a:solidFill>
                  <a:srgbClr val="3333cc"/>
                </a:solidFill>
                <a:uFillTx/>
                <a:latin typeface="Tahoma"/>
              </a:rPr>
              <a:t> at work</a:t>
            </a:r>
            <a:endParaRPr b="1" i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30040" y="1052640"/>
            <a:ext cx="8517240" cy="5427360"/>
            <a:chOff x="230040" y="1052640"/>
            <a:chExt cx="8517240" cy="5427360"/>
          </a:xfrm>
        </p:grpSpPr>
        <p:sp>
          <p:nvSpPr>
            <p:cNvPr id="105" name=""/>
            <p:cNvSpPr/>
            <p:nvPr/>
          </p:nvSpPr>
          <p:spPr>
            <a:xfrm>
              <a:off x="230040" y="1052640"/>
              <a:ext cx="830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 u="sng">
                  <a:solidFill>
                    <a:srgbClr val="3399ff"/>
                  </a:solidFill>
                  <a:uFillTx/>
                  <a:latin typeface="Tahoma"/>
                </a:rPr>
                <a:t>Analysis of “careers”</a:t>
              </a: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: not always a pattern clearly emerges…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62480" y="3936960"/>
              <a:ext cx="7984800" cy="2543040"/>
              <a:chOff x="762480" y="3936960"/>
              <a:chExt cx="7984800" cy="254304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762480" y="3936960"/>
                <a:ext cx="7984800" cy="2543040"/>
                <a:chOff x="762480" y="3936960"/>
                <a:chExt cx="7984800" cy="2543040"/>
              </a:xfrm>
            </p:grpSpPr>
            <p:graphicFrame>
              <p:nvGraphicFramePr>
                <p:cNvPr id="108" name=""/>
                <p:cNvGraphicFramePr/>
                <p:nvPr/>
              </p:nvGraphicFramePr>
              <p:xfrm>
                <a:off x="4592520" y="3936960"/>
                <a:ext cx="4154760" cy="254304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09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592520" y="3936960"/>
                          <a:ext cx="4154760" cy="25430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110" name=""/>
                <p:cNvGrpSpPr/>
                <p:nvPr/>
              </p:nvGrpSpPr>
              <p:grpSpPr>
                <a:xfrm>
                  <a:off x="762480" y="4006800"/>
                  <a:ext cx="3088800" cy="2406960"/>
                  <a:chOff x="762480" y="4006800"/>
                  <a:chExt cx="3088800" cy="2406960"/>
                </a:xfrm>
              </p:grpSpPr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4006800"/>
                    <a:ext cx="295128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2" name=""/>
                  <p:cNvSpPr/>
                  <p:nvPr/>
                </p:nvSpPr>
                <p:spPr>
                  <a:xfrm>
                    <a:off x="762480" y="6167520"/>
                    <a:ext cx="2148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i="1" lang="it-IT" sz="1000" spc="-1" strike="noStrike" u="sng">
                        <a:solidFill>
                          <a:srgbClr val="3333cc"/>
                        </a:solidFill>
                        <a:uFillTx/>
                        <a:latin typeface="Tahoma"/>
                      </a:rPr>
                      <a:t>Fallingwater, 1935, Pennsylvania</a:t>
                    </a:r>
                    <a:endParaRPr b="1" i="1" lang="en-US" sz="1000" spc="-1" strike="noStrike" u="sng">
                      <a:solidFill>
                        <a:srgbClr val="3333cc"/>
                      </a:solidFill>
                      <a:uFillTx/>
                      <a:latin typeface="Tahoma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>
                <a:off x="5076720" y="4073400"/>
                <a:ext cx="258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800" spc="-1" strike="noStrike" u="sng">
                    <a:solidFill>
                      <a:srgbClr val="3399ff"/>
                    </a:solidFill>
                    <a:uFillTx/>
                    <a:latin typeface="Tahoma"/>
                  </a:rPr>
                  <a:t>Frank Lloyd Wright</a:t>
                </a:r>
                <a:endPara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46840" y="4132080"/>
                <a:ext cx="423720" cy="167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6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# realized works</a:t>
                </a:r>
                <a:endParaRPr b="1" i="1" lang="en-US" sz="16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6194520" y="5661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238800" y="458136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753240" y="5661000"/>
            <a:ext cx="144360" cy="372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cxnSp>
        <p:nvCxnSpPr>
          <p:cNvPr id="118" name=""/>
          <p:cNvCxnSpPr>
            <a:stCxn id="119" idx="0"/>
          </p:cNvCxnSpPr>
          <p:nvPr/>
        </p:nvCxnSpPr>
        <p:spPr>
          <a:xfrm flipV="1">
            <a:off x="4590720" y="3004560"/>
            <a:ext cx="1631160" cy="1648440"/>
          </a:xfrm>
          <a:prstGeom prst="bentConnector3">
            <a:avLst>
              <a:gd name="adj1" fmla="val 50000"/>
            </a:avLst>
          </a:prstGeom>
          <a:ln w="28440">
            <a:solidFill>
              <a:srgbClr val="a50021"/>
            </a:solidFill>
            <a:miter/>
            <a:tailEnd len="med" type="triangle" w="med"/>
          </a:ln>
        </p:spPr>
      </p:cxnSp>
      <p:grpSp>
        <p:nvGrpSpPr>
          <p:cNvPr id="120" name=""/>
          <p:cNvGrpSpPr/>
          <p:nvPr/>
        </p:nvGrpSpPr>
        <p:grpSpPr>
          <a:xfrm>
            <a:off x="4144680" y="4599000"/>
            <a:ext cx="4892400" cy="2144880"/>
            <a:chOff x="4144680" y="4599000"/>
            <a:chExt cx="4892400" cy="2144880"/>
          </a:xfrm>
        </p:grpSpPr>
        <p:sp>
          <p:nvSpPr>
            <p:cNvPr id="119" name=""/>
            <p:cNvSpPr/>
            <p:nvPr/>
          </p:nvSpPr>
          <p:spPr>
            <a:xfrm>
              <a:off x="4144680" y="6284880"/>
              <a:ext cx="891000" cy="459000"/>
            </a:xfrm>
            <a:prstGeom prst="rect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200" spc="-1" strike="noStrike" u="sng">
                  <a:solidFill>
                    <a:srgbClr val="a50021"/>
                  </a:solidFill>
                  <a:uFillTx/>
                  <a:latin typeface="Tahoma"/>
                </a:rPr>
                <a:t>August 15</a:t>
              </a:r>
              <a:br>
                <a:rPr sz="1200"/>
              </a:br>
              <a:r>
                <a:rPr b="1" i="1" lang="it-IT" sz="1200" spc="-1" strike="noStrike" u="sng">
                  <a:solidFill>
                    <a:srgbClr val="a50021"/>
                  </a:solidFill>
                  <a:uFillTx/>
                  <a:latin typeface="Tahoma"/>
                </a:rPr>
                <a:t>1914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06280" y="4599000"/>
              <a:ext cx="730800" cy="459000"/>
            </a:xfrm>
            <a:prstGeom prst="rect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200" spc="-1" strike="noStrike" u="sng">
                  <a:solidFill>
                    <a:srgbClr val="a50021"/>
                  </a:solidFill>
                  <a:uFillTx/>
                  <a:latin typeface="Tahoma"/>
                </a:rPr>
                <a:t>April 22</a:t>
              </a:r>
              <a:br>
                <a:rPr sz="1200"/>
              </a:br>
              <a:r>
                <a:rPr b="1" i="1" lang="it-IT" sz="1200" spc="-1" strike="noStrike" u="sng">
                  <a:solidFill>
                    <a:srgbClr val="a50021"/>
                  </a:solidFill>
                  <a:uFillTx/>
                  <a:latin typeface="Tahoma"/>
                </a:rPr>
                <a:t>1925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cxnSp>
        <p:nvCxnSpPr>
          <p:cNvPr id="122" name=""/>
          <p:cNvCxnSpPr>
            <a:stCxn id="121" idx="1"/>
          </p:cNvCxnSpPr>
          <p:nvPr/>
        </p:nvCxnSpPr>
        <p:spPr>
          <a:xfrm flipV="1" rot="10800000">
            <a:off x="5365080" y="3997080"/>
            <a:ext cx="1461240" cy="834120"/>
          </a:xfrm>
          <a:prstGeom prst="bentConnector3">
            <a:avLst>
              <a:gd name="adj1" fmla="val 50000"/>
            </a:avLst>
          </a:prstGeom>
          <a:ln w="28440">
            <a:solidFill>
              <a:srgbClr val="a50021"/>
            </a:solidFill>
            <a:miter/>
            <a:tailEnd len="med" type="triangle" w="med"/>
          </a:ln>
        </p:spPr>
      </p:cxnSp>
      <p:grpSp>
        <p:nvGrpSpPr>
          <p:cNvPr id="123" name=""/>
          <p:cNvGrpSpPr/>
          <p:nvPr/>
        </p:nvGrpSpPr>
        <p:grpSpPr>
          <a:xfrm>
            <a:off x="379080" y="95400"/>
            <a:ext cx="8633160" cy="3897000"/>
            <a:chOff x="379080" y="95400"/>
            <a:chExt cx="8633160" cy="3897000"/>
          </a:xfrm>
        </p:grpSpPr>
        <p:grpSp>
          <p:nvGrpSpPr>
            <p:cNvPr id="124" name=""/>
            <p:cNvGrpSpPr/>
            <p:nvPr/>
          </p:nvGrpSpPr>
          <p:grpSpPr>
            <a:xfrm>
              <a:off x="379080" y="1557360"/>
              <a:ext cx="7359120" cy="2435040"/>
              <a:chOff x="379080" y="1557360"/>
              <a:chExt cx="7359120" cy="24350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379080" y="1557360"/>
                <a:ext cx="4277160" cy="2435040"/>
                <a:chOff x="379080" y="1557360"/>
                <a:chExt cx="4277160" cy="2435040"/>
              </a:xfrm>
            </p:grpSpPr>
            <p:graphicFrame>
              <p:nvGraphicFramePr>
                <p:cNvPr id="126" name=""/>
                <p:cNvGraphicFramePr/>
                <p:nvPr/>
              </p:nvGraphicFramePr>
              <p:xfrm>
                <a:off x="848880" y="1557360"/>
                <a:ext cx="3807360" cy="2435040"/>
              </p:xfrm>
              <a:graphic>
                <a:graphicData uri="http://schemas.openxmlformats.org/presentationml/2006/ole">
                  <p:oleObj progId="Excel.Sheet.12" r:id="rId4" spid="">
                    <p:embed/>
                    <p:pic>
                      <p:nvPicPr>
                        <p:cNvPr id="127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848880" y="1557360"/>
                          <a:ext cx="3807360" cy="24350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28" name=""/>
                <p:cNvSpPr/>
                <p:nvPr/>
              </p:nvSpPr>
              <p:spPr>
                <a:xfrm>
                  <a:off x="2372760" y="1785960"/>
                  <a:ext cx="2007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it-IT" sz="1800" spc="-1" strike="noStrike" u="sng">
                      <a:solidFill>
                        <a:srgbClr val="3399ff"/>
                      </a:solidFill>
                      <a:uFillTx/>
                      <a:latin typeface="Tahoma"/>
                    </a:rPr>
                    <a:t>Igor Stravinsky</a:t>
                  </a:r>
                  <a:endParaRPr b="1" i="1" lang="en-US" sz="18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79080" y="1826280"/>
                  <a:ext cx="423720" cy="155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it-IT" sz="1600" spc="-1" strike="noStrike" u="sng">
                      <a:solidFill>
                        <a:srgbClr val="3333cc"/>
                      </a:solidFill>
                      <a:uFillTx/>
                      <a:latin typeface="Tahoma"/>
                    </a:rPr>
                    <a:t># compositions</a:t>
                  </a:r>
                  <a:endParaRPr b="1" i="1" lang="en-US" sz="16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4854960" y="1787400"/>
                <a:ext cx="2883240" cy="1977480"/>
                <a:chOff x="4854960" y="1787400"/>
                <a:chExt cx="2883240" cy="1977480"/>
              </a:xfrm>
            </p:grpSpPr>
            <p:pic>
              <p:nvPicPr>
                <p:cNvPr id="13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54960" y="1787400"/>
                  <a:ext cx="2883240" cy="1567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2" name=""/>
                <p:cNvSpPr/>
                <p:nvPr/>
              </p:nvSpPr>
              <p:spPr>
                <a:xfrm>
                  <a:off x="5957640" y="3366360"/>
                  <a:ext cx="17733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it-IT" sz="1000" spc="-1" strike="noStrike" u="sng">
                      <a:solidFill>
                        <a:srgbClr val="3333cc"/>
                      </a:solidFill>
                      <a:uFillTx/>
                      <a:latin typeface="Tahoma"/>
                    </a:rPr>
                    <a:t>picture by</a:t>
                  </a:r>
                  <a:r>
                    <a:rPr b="1" i="1" lang="it-IT" sz="1000" spc="-1" strike="noStrike" u="sng">
                      <a:solidFill>
                        <a:srgbClr val="3333cc"/>
                      </a:solidFill>
                      <a:uFillTx/>
                      <a:latin typeface="Tahoma"/>
                    </a:rPr>
                    <a:t> Arnold Newman</a:t>
                  </a:r>
                  <a:endParaRPr b="1" i="1" lang="en-US" sz="10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1" i="1" lang="en-US" sz="10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</p:grpSp>
        </p:grpSp>
        <p:pic>
          <p:nvPicPr>
            <p:cNvPr id="133" name="" descr=""/>
            <p:cNvPicPr/>
            <p:nvPr/>
          </p:nvPicPr>
          <p:blipFill>
            <a:blip r:embed="rId7"/>
            <a:stretch/>
          </p:blipFill>
          <p:spPr>
            <a:xfrm>
              <a:off x="7451640" y="95400"/>
              <a:ext cx="1560600" cy="2323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3174840" y="4259160"/>
            <a:ext cx="5788080" cy="1618560"/>
            <a:chOff x="3174840" y="4259160"/>
            <a:chExt cx="5788080" cy="1618560"/>
          </a:xfrm>
        </p:grpSpPr>
        <p:grpSp>
          <p:nvGrpSpPr>
            <p:cNvPr id="135" name=""/>
            <p:cNvGrpSpPr/>
            <p:nvPr/>
          </p:nvGrpSpPr>
          <p:grpSpPr>
            <a:xfrm>
              <a:off x="3174840" y="4259160"/>
              <a:ext cx="2979720" cy="1042200"/>
              <a:chOff x="3174840" y="4259160"/>
              <a:chExt cx="2979720" cy="1042200"/>
            </a:xfrm>
          </p:grpSpPr>
          <p:sp>
            <p:nvSpPr>
              <p:cNvPr id="136" name=""/>
              <p:cNvSpPr/>
              <p:nvPr/>
            </p:nvSpPr>
            <p:spPr>
              <a:xfrm>
                <a:off x="3174840" y="5158440"/>
                <a:ext cx="142920" cy="1429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067280" y="4259160"/>
                <a:ext cx="142920" cy="1429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78280" y="4518000"/>
                <a:ext cx="142920" cy="1429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14880" y="4878720"/>
                <a:ext cx="142920" cy="1429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489640" y="4869360"/>
                <a:ext cx="142920" cy="142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12000" y="4562640"/>
                <a:ext cx="142560" cy="142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6732720" y="4381560"/>
              <a:ext cx="223020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Importance of the </a:t>
              </a:r>
              <a:r>
                <a:rPr b="1" i="1" lang="it-IT" sz="1800" spc="-1" strike="noStrike" u="sng">
                  <a:solidFill>
                    <a:srgbClr val="3399ff"/>
                  </a:solidFill>
                  <a:uFillTx/>
                  <a:latin typeface="Tahoma"/>
                </a:rPr>
                <a:t>time interval</a:t>
              </a: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 </a:t>
              </a:r>
              <a:r>
                <a:rPr b="1" i="1" lang="it-IT" sz="2000" spc="-1" strike="noStrike" u="sng">
                  <a:solidFill>
                    <a:srgbClr val="3399ff"/>
                  </a:solidFill>
                  <a:uFillTx/>
                  <a:latin typeface="Symbol"/>
                  <a:ea typeface="Symbol"/>
                </a:rPr>
                <a:t></a:t>
              </a: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 between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two </a:t>
              </a:r>
              <a:r>
                <a:rPr b="1" i="1" lang="en-US" sz="1800" spc="-1" strike="noStrike" u="sng">
                  <a:solidFill>
                    <a:srgbClr val="3399ff"/>
                  </a:solidFill>
                  <a:uFillTx/>
                  <a:latin typeface="Tahoma"/>
                </a:rPr>
                <a:t>subsequent maxima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02760" y="3773520"/>
            <a:ext cx="6499800" cy="2897280"/>
            <a:chOff x="302760" y="3773520"/>
            <a:chExt cx="6499800" cy="2897280"/>
          </a:xfrm>
        </p:grpSpPr>
        <p:graphicFrame>
          <p:nvGraphicFramePr>
            <p:cNvPr id="144" name=""/>
            <p:cNvGraphicFramePr/>
            <p:nvPr/>
          </p:nvGraphicFramePr>
          <p:xfrm>
            <a:off x="2556000" y="3878280"/>
            <a:ext cx="4246560" cy="2598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56000" y="3878280"/>
                      <a:ext cx="4246560" cy="259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" name=""/>
            <p:cNvSpPr/>
            <p:nvPr/>
          </p:nvSpPr>
          <p:spPr>
            <a:xfrm>
              <a:off x="3708360" y="6333480"/>
              <a:ext cx="21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600" spc="-1" strike="noStrike" u="sng">
                  <a:solidFill>
                    <a:srgbClr val="3333cc"/>
                  </a:solidFill>
                  <a:uFillTx/>
                  <a:latin typeface="Tahoma"/>
                </a:rPr>
                <a:t>years</a:t>
              </a:r>
              <a:endParaRPr b="1" i="1" lang="en-US" sz="16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65560" y="3773520"/>
              <a:ext cx="423720" cy="25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600" spc="-1" strike="noStrike" u="sng">
                  <a:solidFill>
                    <a:srgbClr val="3333cc"/>
                  </a:solidFill>
                  <a:uFillTx/>
                  <a:latin typeface="Tahoma"/>
                </a:rPr>
                <a:t># poems (last 20 years)</a:t>
              </a:r>
              <a:endParaRPr b="1" i="1" lang="en-US" sz="16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02760" y="3860640"/>
              <a:ext cx="1840320" cy="2372760"/>
              <a:chOff x="302760" y="3860640"/>
              <a:chExt cx="1840320" cy="2372760"/>
            </a:xfrm>
          </p:grpSpPr>
          <p:pic>
            <p:nvPicPr>
              <p:cNvPr id="14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00" y="3860640"/>
                <a:ext cx="1798560" cy="214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302760" y="5987160"/>
                <a:ext cx="184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0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Emily Dickinson (1830-1886)</a:t>
                </a:r>
                <a:endParaRPr b="1" i="1" lang="en-US" sz="10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4659840" y="3998880"/>
              <a:ext cx="187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800" spc="-1" strike="noStrike" u="sng">
                  <a:solidFill>
                    <a:srgbClr val="3399ff"/>
                  </a:solidFill>
                  <a:uFillTx/>
                  <a:latin typeface="Tahoma"/>
                </a:rPr>
                <a:t>Emily Dickinson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28600" y="105264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3399ff"/>
                </a:solidFill>
                <a:uFillTx/>
                <a:latin typeface="Tahoma"/>
              </a:rPr>
              <a:t>Analysis of “careers”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: …but in many cases a pattern does clearly emerge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476360" y="1484280"/>
            <a:ext cx="7770960" cy="2089080"/>
            <a:chOff x="1476360" y="1484280"/>
            <a:chExt cx="7770960" cy="2089080"/>
          </a:xfrm>
        </p:grpSpPr>
        <p:sp>
          <p:nvSpPr>
            <p:cNvPr id="154" name=""/>
            <p:cNvSpPr/>
            <p:nvPr/>
          </p:nvSpPr>
          <p:spPr>
            <a:xfrm>
              <a:off x="1476360" y="1484280"/>
              <a:ext cx="7769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76360" y="3573360"/>
              <a:ext cx="7769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76360" y="1484280"/>
              <a:ext cx="0" cy="20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47320" y="1484280"/>
              <a:ext cx="0" cy="20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2800" spc="-1" strike="noStrike" u="sng">
                <a:solidFill>
                  <a:srgbClr val="3333cc"/>
                </a:solidFill>
                <a:uFillTx/>
                <a:latin typeface="Tahoma"/>
              </a:rPr>
              <a:t>Maestros</a:t>
            </a:r>
            <a:r>
              <a:rPr b="1" i="1" lang="it-IT" sz="2800" spc="-1" strike="noStrike" u="sng">
                <a:solidFill>
                  <a:srgbClr val="3333cc"/>
                </a:solidFill>
                <a:uFillTx/>
                <a:latin typeface="Tahoma"/>
              </a:rPr>
              <a:t> at work</a:t>
            </a:r>
            <a:endParaRPr b="1" i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5373720"/>
            <a:ext cx="10731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4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</a:t>
            </a:r>
            <a:r>
              <a:rPr b="1" i="1" lang="it-IT" sz="1400" spc="-1" strike="noStrike" u="sng" baseline="-25000">
                <a:solidFill>
                  <a:srgbClr val="3333cc"/>
                </a:solidFill>
                <a:uFillTx/>
                <a:latin typeface="Symbol"/>
                <a:ea typeface="Symbol"/>
              </a:rPr>
              <a:t></a:t>
            </a:r>
            <a:r>
              <a:rPr b="1" i="1" lang="it-IT" sz="1400" spc="-1" strike="noStrike" u="sng">
                <a:solidFill>
                  <a:srgbClr val="3333cc"/>
                </a:solidFill>
                <a:uFillTx/>
                <a:latin typeface="Tahoma"/>
              </a:rPr>
              <a:t>= 3.2</a:t>
            </a:r>
            <a:br>
              <a:rPr sz="1400"/>
            </a:br>
            <a:r>
              <a:rPr b="1" i="1" lang="it-IT" sz="14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</a:t>
            </a:r>
            <a:r>
              <a:rPr b="1" i="1" lang="it-IT" sz="1400" spc="-1" strike="noStrike" u="sng" baseline="-25000">
                <a:solidFill>
                  <a:srgbClr val="3333cc"/>
                </a:solidFill>
                <a:uFillTx/>
                <a:latin typeface="Symbol"/>
                <a:ea typeface="Symbol"/>
              </a:rPr>
              <a:t></a:t>
            </a:r>
            <a:r>
              <a:rPr b="1" i="1" lang="it-IT" sz="1400" spc="-1" strike="noStrike" u="sng">
                <a:solidFill>
                  <a:srgbClr val="3333cc"/>
                </a:solidFill>
                <a:uFillTx/>
                <a:latin typeface="Tahoma"/>
              </a:rPr>
              <a:t>= 1.3</a:t>
            </a:r>
            <a:endParaRPr b="1" i="1" lang="en-US" sz="14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24000" y="1574640"/>
            <a:ext cx="8291520" cy="2360880"/>
            <a:chOff x="324000" y="1574640"/>
            <a:chExt cx="8291520" cy="2360880"/>
          </a:xfrm>
        </p:grpSpPr>
        <p:grpSp>
          <p:nvGrpSpPr>
            <p:cNvPr id="161" name=""/>
            <p:cNvGrpSpPr/>
            <p:nvPr/>
          </p:nvGrpSpPr>
          <p:grpSpPr>
            <a:xfrm>
              <a:off x="324000" y="1574640"/>
              <a:ext cx="8291520" cy="2360880"/>
              <a:chOff x="324000" y="1574640"/>
              <a:chExt cx="8291520" cy="2360880"/>
            </a:xfrm>
          </p:grpSpPr>
          <p:sp>
            <p:nvSpPr>
              <p:cNvPr id="162" name=""/>
              <p:cNvSpPr/>
              <p:nvPr/>
            </p:nvSpPr>
            <p:spPr>
              <a:xfrm>
                <a:off x="324000" y="1963800"/>
                <a:ext cx="197784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8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Phases of </a:t>
                </a:r>
                <a:r>
                  <a:rPr b="1" i="1" lang="it-IT" sz="1800" spc="-1" strike="noStrike" u="sng">
                    <a:solidFill>
                      <a:srgbClr val="3399ff"/>
                    </a:solidFill>
                    <a:uFillTx/>
                    <a:latin typeface="Tahoma"/>
                  </a:rPr>
                  <a:t>high creativity</a:t>
                </a:r>
                <a:endPara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8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are followed by</a:t>
                </a:r>
                <a:br>
                  <a:rPr sz="1800"/>
                </a:br>
                <a:r>
                  <a:rPr b="1" i="1" lang="it-IT" sz="1800" spc="-1" strike="noStrike" u="sng">
                    <a:solidFill>
                      <a:srgbClr val="3399ff"/>
                    </a:solidFill>
                    <a:uFillTx/>
                    <a:latin typeface="Tahoma"/>
                  </a:rPr>
                  <a:t>low production</a:t>
                </a:r>
                <a:r>
                  <a:rPr b="1" i="1" lang="it-IT" sz="18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 </a:t>
                </a:r>
                <a:br>
                  <a:rPr sz="1800"/>
                </a:br>
                <a:r>
                  <a:rPr b="1" i="1" lang="it-IT" sz="18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periods</a:t>
                </a:r>
                <a:endPara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graphicFrame>
            <p:nvGraphicFramePr>
              <p:cNvPr id="163" name=""/>
              <p:cNvGraphicFramePr/>
              <p:nvPr/>
            </p:nvGraphicFramePr>
            <p:xfrm>
              <a:off x="2401920" y="1671480"/>
              <a:ext cx="3687840" cy="2260800"/>
            </p:xfrm>
            <a:graphic>
              <a:graphicData uri="http://schemas.openxmlformats.org/presentationml/2006/ole">
                <p:oleObj progId="Excel.Sheet.12" r:id="rId4" spid="">
                  <p:embed/>
                  <p:pic>
                    <p:nvPicPr>
                      <p:cNvPr id="164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2401920" y="1671480"/>
                        <a:ext cx="3687840" cy="2260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65" name=""/>
              <p:cNvGrpSpPr/>
              <p:nvPr/>
            </p:nvGrpSpPr>
            <p:grpSpPr>
              <a:xfrm>
                <a:off x="6660720" y="1574640"/>
                <a:ext cx="1954800" cy="2360880"/>
                <a:chOff x="6660720" y="1574640"/>
                <a:chExt cx="1954800" cy="2360880"/>
              </a:xfrm>
            </p:grpSpPr>
            <p:pic>
              <p:nvPicPr>
                <p:cNvPr id="16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773760" y="1574640"/>
                  <a:ext cx="1728720" cy="2087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6660720" y="3689280"/>
                  <a:ext cx="1954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it-IT" sz="1000" spc="-1" strike="noStrike" u="sng">
                      <a:solidFill>
                        <a:srgbClr val="3333cc"/>
                      </a:solidFill>
                      <a:uFillTx/>
                      <a:latin typeface="Tahoma"/>
                    </a:rPr>
                    <a:t>Vincent Van Gogh (1853-1890)</a:t>
                  </a:r>
                  <a:endParaRPr b="1" i="1" lang="en-US" sz="10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</p:grpSp>
        </p:grpSp>
        <p:sp>
          <p:nvSpPr>
            <p:cNvPr id="168" name=""/>
            <p:cNvSpPr/>
            <p:nvPr/>
          </p:nvSpPr>
          <p:spPr>
            <a:xfrm>
              <a:off x="2035440" y="1628640"/>
              <a:ext cx="423720" cy="21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600" spc="-1" strike="noStrike" u="sng">
                  <a:solidFill>
                    <a:srgbClr val="3333cc"/>
                  </a:solidFill>
                  <a:uFillTx/>
                  <a:latin typeface="Tahoma"/>
                </a:rPr>
                <a:t># paintings</a:t>
              </a:r>
              <a:endParaRPr b="1" i="1" lang="en-US" sz="16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7"/>
            <a:stretch/>
          </p:blipFill>
          <p:spPr>
            <a:xfrm>
              <a:off x="4446720" y="3059280"/>
              <a:ext cx="1522440" cy="371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3652920" y="3065400"/>
            <a:ext cx="2717640" cy="1503720"/>
            <a:chOff x="3652920" y="3065400"/>
            <a:chExt cx="2717640" cy="1503720"/>
          </a:xfrm>
        </p:grpSpPr>
        <p:sp>
          <p:nvSpPr>
            <p:cNvPr id="171" name=""/>
            <p:cNvSpPr/>
            <p:nvPr/>
          </p:nvSpPr>
          <p:spPr>
            <a:xfrm>
              <a:off x="3652920" y="3354480"/>
              <a:ext cx="142920" cy="1429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00560" y="3570480"/>
              <a:ext cx="142920" cy="1429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3200" y="3344760"/>
              <a:ext cx="142920" cy="1429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51400" y="3282840"/>
              <a:ext cx="142920" cy="1429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30840" y="3065400"/>
              <a:ext cx="142920" cy="1429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99200" y="3990600"/>
              <a:ext cx="107136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i="1" lang="it-IT" sz="1400" spc="-1" strike="noStrike" u="sng" baseline="-25000">
                  <a:solidFill>
                    <a:srgbClr val="3333cc"/>
                  </a:solidFill>
                  <a:uFillTx/>
                  <a:latin typeface="Symbol"/>
                  <a:ea typeface="Symbol"/>
                </a:rPr>
                <a:t></a:t>
              </a: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ahoma"/>
                </a:rPr>
                <a:t>= 3.6</a:t>
              </a:r>
              <a:br>
                <a:rPr sz="1400"/>
              </a:b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Symbol"/>
                  <a:ea typeface="Symbol"/>
                </a:rPr>
                <a:t></a:t>
              </a:r>
              <a:r>
                <a:rPr b="1" i="1" lang="it-IT" sz="1400" spc="-1" strike="noStrike" u="sng" baseline="-25000">
                  <a:solidFill>
                    <a:srgbClr val="3333cc"/>
                  </a:solidFill>
                  <a:uFillTx/>
                  <a:latin typeface="Symbol"/>
                  <a:ea typeface="Symbol"/>
                </a:rPr>
                <a:t></a:t>
              </a: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ahoma"/>
                </a:rPr>
                <a:t>= 1.34</a:t>
              </a:r>
              <a:endParaRPr b="1" i="1" lang="en-US" sz="14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916360" y="333360"/>
            <a:ext cx="3022560" cy="1317600"/>
            <a:chOff x="2916360" y="333360"/>
            <a:chExt cx="3022560" cy="1317600"/>
          </a:xfrm>
        </p:grpSpPr>
        <p:grpSp>
          <p:nvGrpSpPr>
            <p:cNvPr id="178" name=""/>
            <p:cNvGrpSpPr/>
            <p:nvPr/>
          </p:nvGrpSpPr>
          <p:grpSpPr>
            <a:xfrm>
              <a:off x="3112920" y="480960"/>
              <a:ext cx="2826000" cy="1170000"/>
              <a:chOff x="3112920" y="480960"/>
              <a:chExt cx="2826000" cy="1170000"/>
            </a:xfrm>
          </p:grpSpPr>
          <p:sp>
            <p:nvSpPr>
              <p:cNvPr id="179" name=""/>
              <p:cNvSpPr/>
              <p:nvPr/>
            </p:nvSpPr>
            <p:spPr>
              <a:xfrm>
                <a:off x="5119560" y="779400"/>
                <a:ext cx="142920" cy="1429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96000" y="480960"/>
                <a:ext cx="142920" cy="1429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697280" y="808200"/>
                <a:ext cx="142920" cy="142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56080" y="933480"/>
                <a:ext cx="142920" cy="1429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14720" y="895320"/>
                <a:ext cx="142920" cy="1429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80000" y="952560"/>
                <a:ext cx="142560" cy="1429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448080" y="1379520"/>
                <a:ext cx="142920" cy="1429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112920" y="1508040"/>
                <a:ext cx="142920" cy="1429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2916360" y="333360"/>
              <a:ext cx="107136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i="1" lang="it-IT" sz="1400" spc="-1" strike="noStrike" u="sng" baseline="-25000">
                  <a:solidFill>
                    <a:srgbClr val="3333cc"/>
                  </a:solidFill>
                  <a:uFillTx/>
                  <a:latin typeface="Symbol"/>
                  <a:ea typeface="Symbol"/>
                </a:rPr>
                <a:t></a:t>
              </a: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ahoma"/>
                </a:rPr>
                <a:t>= 3.25</a:t>
              </a:r>
              <a:br>
                <a:rPr sz="1400"/>
              </a:b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Symbol"/>
                  <a:ea typeface="Symbol"/>
                </a:rPr>
                <a:t></a:t>
              </a:r>
              <a:r>
                <a:rPr b="1" i="1" lang="it-IT" sz="1400" spc="-1" strike="noStrike" u="sng" baseline="-25000">
                  <a:solidFill>
                    <a:srgbClr val="3333cc"/>
                  </a:solidFill>
                  <a:uFillTx/>
                  <a:latin typeface="Symbol"/>
                  <a:ea typeface="Symbol"/>
                </a:rPr>
                <a:t></a:t>
              </a: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ahoma"/>
                </a:rPr>
                <a:t>= 1.39</a:t>
              </a:r>
              <a:endParaRPr b="1" i="1" lang="en-US" sz="14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31640" y="44280"/>
            <a:ext cx="6065640" cy="2643480"/>
            <a:chOff x="431640" y="44280"/>
            <a:chExt cx="6065640" cy="2643480"/>
          </a:xfrm>
        </p:grpSpPr>
        <p:grpSp>
          <p:nvGrpSpPr>
            <p:cNvPr id="189" name=""/>
            <p:cNvGrpSpPr/>
            <p:nvPr/>
          </p:nvGrpSpPr>
          <p:grpSpPr>
            <a:xfrm>
              <a:off x="1963080" y="44280"/>
              <a:ext cx="4534200" cy="2643480"/>
              <a:chOff x="1963080" y="44280"/>
              <a:chExt cx="4534200" cy="2643480"/>
            </a:xfrm>
          </p:grpSpPr>
          <p:sp>
            <p:nvSpPr>
              <p:cNvPr id="190" name=""/>
              <p:cNvSpPr/>
              <p:nvPr/>
            </p:nvSpPr>
            <p:spPr>
              <a:xfrm>
                <a:off x="3274920" y="2350440"/>
                <a:ext cx="2157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6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years</a:t>
                </a:r>
                <a:endParaRPr b="1" i="1" lang="en-US" sz="16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1963080" y="44280"/>
                <a:ext cx="4534200" cy="2413800"/>
                <a:chOff x="1963080" y="44280"/>
                <a:chExt cx="4534200" cy="2413800"/>
              </a:xfrm>
            </p:grpSpPr>
            <p:graphicFrame>
              <p:nvGraphicFramePr>
                <p:cNvPr id="192" name=""/>
                <p:cNvGraphicFramePr/>
                <p:nvPr/>
              </p:nvGraphicFramePr>
              <p:xfrm>
                <a:off x="2452680" y="185760"/>
                <a:ext cx="4044600" cy="227232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93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452680" y="185760"/>
                          <a:ext cx="4044600" cy="2272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94" name=""/>
                <p:cNvSpPr/>
                <p:nvPr/>
              </p:nvSpPr>
              <p:spPr>
                <a:xfrm>
                  <a:off x="1963080" y="44280"/>
                  <a:ext cx="454680" cy="215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i="1" lang="it-IT" sz="1800" spc="-1" strike="noStrike" u="sng">
                      <a:solidFill>
                        <a:srgbClr val="3333cc"/>
                      </a:solidFill>
                      <a:uFillTx/>
                      <a:latin typeface="Tahoma"/>
                    </a:rPr>
                    <a:t># compositions</a:t>
                  </a:r>
                  <a:endParaRPr b="1" i="1" lang="en-US" sz="1800" spc="-1" strike="noStrike" u="sng">
                    <a:solidFill>
                      <a:srgbClr val="3333cc"/>
                    </a:solidFill>
                    <a:uFillTx/>
                    <a:latin typeface="Tahoma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431640" y="260280"/>
              <a:ext cx="1623960" cy="2117880"/>
              <a:chOff x="431640" y="260280"/>
              <a:chExt cx="1623960" cy="2117880"/>
            </a:xfrm>
          </p:grpSpPr>
          <p:pic>
            <p:nvPicPr>
              <p:cNvPr id="19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82480" y="260280"/>
                <a:ext cx="1327320" cy="188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431640" y="2131920"/>
                <a:ext cx="162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0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W.A. Mozart (1756-1791)</a:t>
                </a:r>
                <a:endParaRPr b="1" i="1" lang="en-US" sz="10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7885080" y="6165720"/>
            <a:ext cx="64764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979640" y="4079880"/>
            <a:ext cx="6924960" cy="2734200"/>
            <a:chOff x="1979640" y="4079880"/>
            <a:chExt cx="6924960" cy="2734200"/>
          </a:xfrm>
        </p:grpSpPr>
        <p:sp>
          <p:nvSpPr>
            <p:cNvPr id="200" name=""/>
            <p:cNvSpPr/>
            <p:nvPr/>
          </p:nvSpPr>
          <p:spPr>
            <a:xfrm>
              <a:off x="7373160" y="4079880"/>
              <a:ext cx="777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800" spc="-1" strike="noStrike" u="sng">
                  <a:solidFill>
                    <a:srgbClr val="3399ff"/>
                  </a:solidFill>
                  <a:uFillTx/>
                  <a:latin typeface="Tahoma"/>
                </a:rPr>
                <a:t>Ibsen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79640" y="5515560"/>
              <a:ext cx="347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800" spc="-1" strike="noStrike" u="sng">
                  <a:solidFill>
                    <a:srgbClr val="3399ff"/>
                  </a:solidFill>
                  <a:uFillTx/>
                  <a:latin typeface="Tahoma"/>
                </a:rPr>
                <a:t>Nota bene:</a:t>
              </a:r>
              <a:r>
                <a:rPr b="1" i="1" lang="it-IT" sz="1800" spc="-1" strike="noStrike" u="sng">
                  <a:solidFill>
                    <a:srgbClr val="3333cc"/>
                  </a:solidFill>
                  <a:uFillTx/>
                  <a:latin typeface="Tahoma"/>
                </a:rPr>
                <a:t> creativity does not necessarily imply oscillations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cxnSp>
          <p:nvCxnSpPr>
            <p:cNvPr id="202" name=""/>
            <p:cNvCxnSpPr/>
            <p:nvPr/>
          </p:nvCxnSpPr>
          <p:spPr>
            <a:xfrm>
              <a:off x="5579640" y="5784480"/>
              <a:ext cx="662760" cy="1080"/>
            </a:xfrm>
            <a:prstGeom prst="straightConnector1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</p:cxnSp>
        <p:grpSp>
          <p:nvGrpSpPr>
            <p:cNvPr id="203" name=""/>
            <p:cNvGrpSpPr/>
            <p:nvPr/>
          </p:nvGrpSpPr>
          <p:grpSpPr>
            <a:xfrm>
              <a:off x="6355080" y="4490280"/>
              <a:ext cx="2549520" cy="2323800"/>
              <a:chOff x="6355080" y="4490280"/>
              <a:chExt cx="2549520" cy="2323800"/>
            </a:xfrm>
          </p:grpSpPr>
          <p:sp>
            <p:nvSpPr>
              <p:cNvPr id="204" name=""/>
              <p:cNvSpPr/>
              <p:nvPr/>
            </p:nvSpPr>
            <p:spPr>
              <a:xfrm>
                <a:off x="6948360" y="4491720"/>
                <a:ext cx="1782720" cy="177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48360" y="6268680"/>
                <a:ext cx="1782720" cy="10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6948360" y="4490280"/>
                <a:ext cx="1800" cy="17780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948360" y="6268680"/>
                <a:ext cx="180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784560" y="6305040"/>
                <a:ext cx="33588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2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1880</a:t>
                </a:r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0800" y="626868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676640" y="6305040"/>
                <a:ext cx="33588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2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1890</a:t>
                </a:r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732880" y="6268680"/>
                <a:ext cx="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68720" y="6305040"/>
                <a:ext cx="33588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2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1900</a:t>
                </a:r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6926040" y="6268680"/>
                <a:ext cx="219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71960" y="6159600"/>
                <a:ext cx="8460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2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0</a:t>
                </a:r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6926040" y="4651920"/>
                <a:ext cx="2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71960" y="4541040"/>
                <a:ext cx="8460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2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1</a:t>
                </a:r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50160" y="4651920"/>
                <a:ext cx="1689120" cy="1615320"/>
              </a:xfrm>
              <a:custGeom>
                <a:avLst/>
                <a:gdLst/>
                <a:ahLst/>
                <a:rect l="l" t="t" r="r" b="b"/>
                <a:pathLst>
                  <a:path w="889" h="851">
                    <a:moveTo>
                      <a:pt x="0" y="851"/>
                    </a:moveTo>
                    <a:lnTo>
                      <a:pt x="47" y="0"/>
                    </a:lnTo>
                    <a:lnTo>
                      <a:pt x="94" y="0"/>
                    </a:lnTo>
                    <a:lnTo>
                      <a:pt x="140" y="851"/>
                    </a:lnTo>
                    <a:lnTo>
                      <a:pt x="187" y="0"/>
                    </a:lnTo>
                    <a:lnTo>
                      <a:pt x="234" y="851"/>
                    </a:lnTo>
                    <a:lnTo>
                      <a:pt x="280" y="0"/>
                    </a:lnTo>
                    <a:lnTo>
                      <a:pt x="327" y="851"/>
                    </a:lnTo>
                    <a:lnTo>
                      <a:pt x="373" y="0"/>
                    </a:lnTo>
                    <a:lnTo>
                      <a:pt x="420" y="851"/>
                    </a:lnTo>
                    <a:lnTo>
                      <a:pt x="469" y="0"/>
                    </a:lnTo>
                    <a:lnTo>
                      <a:pt x="516" y="851"/>
                    </a:lnTo>
                    <a:lnTo>
                      <a:pt x="563" y="0"/>
                    </a:lnTo>
                    <a:lnTo>
                      <a:pt x="609" y="851"/>
                    </a:lnTo>
                    <a:lnTo>
                      <a:pt x="656" y="0"/>
                    </a:lnTo>
                    <a:lnTo>
                      <a:pt x="703" y="851"/>
                    </a:lnTo>
                    <a:lnTo>
                      <a:pt x="749" y="0"/>
                    </a:lnTo>
                    <a:lnTo>
                      <a:pt x="796" y="851"/>
                    </a:lnTo>
                    <a:lnTo>
                      <a:pt x="842" y="851"/>
                    </a:lnTo>
                    <a:lnTo>
                      <a:pt x="889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994440" y="4604400"/>
                <a:ext cx="84240" cy="10296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11" y="27"/>
                    </a:moveTo>
                    <a:lnTo>
                      <a:pt x="22" y="13"/>
                    </a:lnTo>
                    <a:lnTo>
                      <a:pt x="11" y="0"/>
                    </a:lnTo>
                    <a:lnTo>
                      <a:pt x="0" y="13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083360" y="4604400"/>
                <a:ext cx="84240" cy="10296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11" y="27"/>
                    </a:moveTo>
                    <a:lnTo>
                      <a:pt x="22" y="13"/>
                    </a:lnTo>
                    <a:lnTo>
                      <a:pt x="11" y="0"/>
                    </a:lnTo>
                    <a:lnTo>
                      <a:pt x="0" y="13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83440" y="6207120"/>
                <a:ext cx="77760" cy="997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11" y="28"/>
                    </a:moveTo>
                    <a:lnTo>
                      <a:pt x="22" y="14"/>
                    </a:lnTo>
                    <a:lnTo>
                      <a:pt x="11" y="0"/>
                    </a:lnTo>
                    <a:lnTo>
                      <a:pt x="0" y="14"/>
                    </a:lnTo>
                    <a:lnTo>
                      <a:pt x="1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261200" y="4604400"/>
                <a:ext cx="84240" cy="10296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11" y="27"/>
                    </a:moveTo>
                    <a:lnTo>
                      <a:pt x="22" y="13"/>
                    </a:lnTo>
                    <a:lnTo>
                      <a:pt x="11" y="0"/>
                    </a:lnTo>
                    <a:lnTo>
                      <a:pt x="0" y="13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61280" y="6207120"/>
                <a:ext cx="79200" cy="997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11" y="28"/>
                    </a:moveTo>
                    <a:lnTo>
                      <a:pt x="22" y="14"/>
                    </a:lnTo>
                    <a:lnTo>
                      <a:pt x="11" y="0"/>
                    </a:lnTo>
                    <a:lnTo>
                      <a:pt x="0" y="14"/>
                    </a:lnTo>
                    <a:lnTo>
                      <a:pt x="1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437600" y="4604400"/>
                <a:ext cx="83880" cy="10296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11" y="27"/>
                    </a:moveTo>
                    <a:lnTo>
                      <a:pt x="22" y="13"/>
                    </a:lnTo>
                    <a:lnTo>
                      <a:pt x="11" y="0"/>
                    </a:lnTo>
                    <a:lnTo>
                      <a:pt x="0" y="13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539120" y="6207120"/>
                <a:ext cx="77760" cy="997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11" y="28"/>
                    </a:moveTo>
                    <a:lnTo>
                      <a:pt x="22" y="14"/>
                    </a:lnTo>
                    <a:lnTo>
                      <a:pt x="11" y="0"/>
                    </a:lnTo>
                    <a:lnTo>
                      <a:pt x="0" y="14"/>
                    </a:lnTo>
                    <a:lnTo>
                      <a:pt x="1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15080" y="4604400"/>
                <a:ext cx="84240" cy="10296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11" y="27"/>
                    </a:moveTo>
                    <a:lnTo>
                      <a:pt x="22" y="13"/>
                    </a:lnTo>
                    <a:lnTo>
                      <a:pt x="11" y="0"/>
                    </a:lnTo>
                    <a:lnTo>
                      <a:pt x="0" y="13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715160" y="6207120"/>
                <a:ext cx="77760" cy="997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11" y="28"/>
                    </a:moveTo>
                    <a:lnTo>
                      <a:pt x="22" y="14"/>
                    </a:lnTo>
                    <a:lnTo>
                      <a:pt x="11" y="0"/>
                    </a:lnTo>
                    <a:lnTo>
                      <a:pt x="0" y="14"/>
                    </a:lnTo>
                    <a:lnTo>
                      <a:pt x="1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797960" y="4604400"/>
                <a:ext cx="83880" cy="10296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11" y="27"/>
                    </a:moveTo>
                    <a:lnTo>
                      <a:pt x="22" y="13"/>
                    </a:lnTo>
                    <a:lnTo>
                      <a:pt x="11" y="0"/>
                    </a:lnTo>
                    <a:lnTo>
                      <a:pt x="0" y="13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897680" y="6207120"/>
                <a:ext cx="77760" cy="997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11" y="28"/>
                    </a:moveTo>
                    <a:lnTo>
                      <a:pt x="22" y="14"/>
                    </a:lnTo>
                    <a:lnTo>
                      <a:pt x="11" y="0"/>
                    </a:lnTo>
                    <a:lnTo>
                      <a:pt x="0" y="14"/>
                    </a:lnTo>
                    <a:lnTo>
                      <a:pt x="1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975440" y="4604400"/>
                <a:ext cx="84240" cy="10296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11" y="27"/>
                    </a:moveTo>
                    <a:lnTo>
                      <a:pt x="22" y="13"/>
                    </a:lnTo>
                    <a:lnTo>
                      <a:pt x="11" y="0"/>
                    </a:lnTo>
                    <a:lnTo>
                      <a:pt x="0" y="13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075520" y="6207120"/>
                <a:ext cx="77760" cy="997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11" y="28"/>
                    </a:moveTo>
                    <a:lnTo>
                      <a:pt x="22" y="14"/>
                    </a:lnTo>
                    <a:lnTo>
                      <a:pt x="11" y="0"/>
                    </a:lnTo>
                    <a:lnTo>
                      <a:pt x="0" y="14"/>
                    </a:lnTo>
                    <a:lnTo>
                      <a:pt x="1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153280" y="4604400"/>
                <a:ext cx="84240" cy="10296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11" y="27"/>
                    </a:moveTo>
                    <a:lnTo>
                      <a:pt x="22" y="13"/>
                    </a:lnTo>
                    <a:lnTo>
                      <a:pt x="11" y="0"/>
                    </a:lnTo>
                    <a:lnTo>
                      <a:pt x="0" y="13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253360" y="6207120"/>
                <a:ext cx="77760" cy="997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11" y="28"/>
                    </a:moveTo>
                    <a:lnTo>
                      <a:pt x="22" y="14"/>
                    </a:lnTo>
                    <a:lnTo>
                      <a:pt x="11" y="0"/>
                    </a:lnTo>
                    <a:lnTo>
                      <a:pt x="0" y="14"/>
                    </a:lnTo>
                    <a:lnTo>
                      <a:pt x="1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329680" y="4604400"/>
                <a:ext cx="84240" cy="10296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11" y="27"/>
                    </a:moveTo>
                    <a:lnTo>
                      <a:pt x="22" y="13"/>
                    </a:lnTo>
                    <a:lnTo>
                      <a:pt x="11" y="0"/>
                    </a:lnTo>
                    <a:lnTo>
                      <a:pt x="0" y="13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431200" y="6207120"/>
                <a:ext cx="77760" cy="997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11" y="28"/>
                    </a:moveTo>
                    <a:lnTo>
                      <a:pt x="22" y="14"/>
                    </a:lnTo>
                    <a:lnTo>
                      <a:pt x="11" y="0"/>
                    </a:lnTo>
                    <a:lnTo>
                      <a:pt x="0" y="14"/>
                    </a:lnTo>
                    <a:lnTo>
                      <a:pt x="1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518680" y="6207120"/>
                <a:ext cx="77760" cy="997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11" y="28"/>
                    </a:moveTo>
                    <a:lnTo>
                      <a:pt x="22" y="14"/>
                    </a:lnTo>
                    <a:lnTo>
                      <a:pt x="11" y="0"/>
                    </a:lnTo>
                    <a:lnTo>
                      <a:pt x="0" y="14"/>
                    </a:lnTo>
                    <a:lnTo>
                      <a:pt x="1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596440" y="4604400"/>
                <a:ext cx="82440" cy="9972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11" y="27"/>
                    </a:moveTo>
                    <a:lnTo>
                      <a:pt x="22" y="13"/>
                    </a:lnTo>
                    <a:lnTo>
                      <a:pt x="11" y="0"/>
                    </a:lnTo>
                    <a:lnTo>
                      <a:pt x="0" y="13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462440" y="6476760"/>
                <a:ext cx="70056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6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years</a:t>
                </a:r>
                <a:endParaRPr b="1" i="1" lang="en-US" sz="16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355080" y="4898880"/>
                <a:ext cx="423720" cy="108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6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# playings</a:t>
                </a:r>
                <a:endParaRPr b="1" i="1" lang="en-US" sz="16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</p:grpSp>
      <p:grpSp>
        <p:nvGrpSpPr>
          <p:cNvPr id="239" name=""/>
          <p:cNvGrpSpPr/>
          <p:nvPr/>
        </p:nvGrpSpPr>
        <p:grpSpPr>
          <a:xfrm>
            <a:off x="6798240" y="260280"/>
            <a:ext cx="2070360" cy="1723680"/>
            <a:chOff x="6798240" y="260280"/>
            <a:chExt cx="2070360" cy="1723680"/>
          </a:xfrm>
        </p:grpSpPr>
        <p:sp>
          <p:nvSpPr>
            <p:cNvPr id="240" name=""/>
            <p:cNvSpPr/>
            <p:nvPr/>
          </p:nvSpPr>
          <p:spPr>
            <a:xfrm>
              <a:off x="7165800" y="260280"/>
              <a:ext cx="114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800" spc="-1" strike="noStrike" u="sng">
                  <a:solidFill>
                    <a:srgbClr val="000099"/>
                  </a:solidFill>
                  <a:uFillTx/>
                  <a:latin typeface="Symbol"/>
                  <a:ea typeface="Symbol"/>
                </a:rPr>
                <a:t></a:t>
              </a:r>
              <a:r>
                <a:rPr b="1" i="1" lang="it-IT" sz="1800" spc="-1" strike="noStrike" u="sng" baseline="-25000">
                  <a:solidFill>
                    <a:srgbClr val="000099"/>
                  </a:solidFill>
                  <a:uFillTx/>
                  <a:latin typeface="Symbol"/>
                  <a:ea typeface="Symbol"/>
                </a:rPr>
                <a:t></a:t>
              </a:r>
              <a:r>
                <a:rPr b="1" i="1" lang="it-IT" sz="1800" spc="-1" strike="noStrike" u="sng">
                  <a:solidFill>
                    <a:srgbClr val="000099"/>
                  </a:solidFill>
                  <a:uFillTx/>
                  <a:latin typeface="Tahoma"/>
                </a:rPr>
                <a:t>/</a:t>
              </a:r>
              <a:r>
                <a:rPr b="1" i="1" lang="it-IT" sz="1800" spc="-1" strike="noStrike" u="sng">
                  <a:solidFill>
                    <a:srgbClr val="000099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i="1" lang="it-IT" sz="1800" spc="-1" strike="noStrike" u="sng" baseline="-25000">
                  <a:solidFill>
                    <a:srgbClr val="000099"/>
                  </a:solidFill>
                  <a:uFillTx/>
                  <a:latin typeface="Symbol"/>
                  <a:ea typeface="Symbol"/>
                </a:rPr>
                <a:t></a:t>
              </a:r>
              <a:r>
                <a:rPr b="1" i="1" lang="it-IT" sz="1200" spc="-1" strike="noStrike" u="sng">
                  <a:solidFill>
                    <a:srgbClr val="000099"/>
                  </a:solidFill>
                  <a:uFillTx/>
                  <a:latin typeface="Tahoma"/>
                </a:rPr>
                <a:t> </a:t>
              </a:r>
              <a:r>
                <a:rPr b="1" i="1" lang="it-IT" sz="1800" spc="-1" strike="noStrike" u="sng">
                  <a:solidFill>
                    <a:srgbClr val="000099"/>
                  </a:solidFill>
                  <a:uFillTx/>
                  <a:latin typeface="Tahoma"/>
                </a:rPr>
                <a:t>low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34160" y="765000"/>
              <a:ext cx="249480" cy="503280"/>
            </a:xfrm>
            <a:prstGeom prst="downArrow">
              <a:avLst>
                <a:gd name="adj1" fmla="val 50000"/>
                <a:gd name="adj2" fmla="val 50433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98240" y="13413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800" spc="-1" strike="noStrike" u="sng">
                  <a:solidFill>
                    <a:srgbClr val="000099"/>
                  </a:solidFill>
                  <a:uFillTx/>
                  <a:latin typeface="Tahoma"/>
                </a:rPr>
                <a:t>periodic behavior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 u="sng">
                  <a:solidFill>
                    <a:srgbClr val="000099"/>
                  </a:solidFill>
                  <a:uFillTx/>
                  <a:latin typeface="Tahoma"/>
                </a:rPr>
                <a:t>(cycles)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300720" y="2349360"/>
            <a:ext cx="271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A few hundred maxima would be needed </a:t>
            </a:r>
            <a:br>
              <a:rPr sz="1800"/>
            </a:b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to discuss temporal </a:t>
            </a:r>
            <a:br>
              <a:rPr sz="1800"/>
            </a:b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irregularities more </a:t>
            </a:r>
            <a:br>
              <a:rPr sz="1800"/>
            </a:b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closely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32640" y="2633760"/>
            <a:ext cx="6001560" cy="2377800"/>
            <a:chOff x="332640" y="2633760"/>
            <a:chExt cx="6001560" cy="2377800"/>
          </a:xfrm>
        </p:grpSpPr>
        <p:graphicFrame>
          <p:nvGraphicFramePr>
            <p:cNvPr id="245" name=""/>
            <p:cNvGraphicFramePr/>
            <p:nvPr/>
          </p:nvGraphicFramePr>
          <p:xfrm>
            <a:off x="2449440" y="2633760"/>
            <a:ext cx="3884760" cy="237780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449440" y="2633760"/>
                      <a:ext cx="3884760" cy="23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7" name=""/>
            <p:cNvSpPr/>
            <p:nvPr/>
          </p:nvSpPr>
          <p:spPr>
            <a:xfrm>
              <a:off x="2915640" y="280368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800" spc="-1" strike="noStrike" u="sng">
                  <a:solidFill>
                    <a:srgbClr val="3399ff"/>
                  </a:solidFill>
                  <a:uFillTx/>
                  <a:latin typeface="Tahoma"/>
                </a:rPr>
                <a:t>Henri Poincaré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55960" y="2709720"/>
              <a:ext cx="423720" cy="21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600" spc="-1" strike="noStrike" u="sng">
                  <a:solidFill>
                    <a:srgbClr val="3333cc"/>
                  </a:solidFill>
                  <a:uFillTx/>
                  <a:latin typeface="Tahoma"/>
                </a:rPr>
                <a:t># scientific pubs</a:t>
              </a:r>
              <a:endParaRPr b="1" i="1" lang="en-US" sz="16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32640" y="2846520"/>
              <a:ext cx="1787040" cy="2075040"/>
              <a:chOff x="332640" y="2846520"/>
              <a:chExt cx="1787040" cy="2075040"/>
            </a:xfrm>
          </p:grpSpPr>
          <p:pic>
            <p:nvPicPr>
              <p:cNvPr id="25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68360" y="2846520"/>
                <a:ext cx="1481040" cy="181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332640" y="4675320"/>
                <a:ext cx="1787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0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Henri Poincar</a:t>
                </a:r>
                <a:r>
                  <a:rPr b="1" i="1" lang="en-US" sz="1000" spc="-1" strike="noStrike" u="sng">
                    <a:solidFill>
                      <a:srgbClr val="3333cc"/>
                    </a:solidFill>
                    <a:uFillTx/>
                    <a:latin typeface="Tahoma"/>
                    <a:ea typeface="Tahoma"/>
                  </a:rPr>
                  <a:t>é</a:t>
                </a:r>
                <a:r>
                  <a:rPr b="1" i="1" lang="it-IT" sz="10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 (1854-1912)</a:t>
                </a:r>
                <a:endParaRPr b="1" i="1" lang="en-US" sz="10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 fill="hold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 fill="hold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2462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2800" spc="-1" strike="noStrike" u="sng">
                <a:solidFill>
                  <a:srgbClr val="3333cc"/>
                </a:solidFill>
                <a:uFillTx/>
                <a:latin typeface="Tahoma"/>
              </a:rPr>
              <a:t>The typical career of a </a:t>
            </a:r>
            <a:r>
              <a:rPr b="1" i="1" lang="it-IT" sz="2800" spc="-1" strike="noStrike" u="sng">
                <a:solidFill>
                  <a:srgbClr val="3333cc"/>
                </a:solidFill>
                <a:uFillTx/>
                <a:latin typeface="Tahoma"/>
              </a:rPr>
              <a:t>genius</a:t>
            </a:r>
            <a:endParaRPr b="1" i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69360" y="615960"/>
            <a:ext cx="6918840" cy="3098880"/>
            <a:chOff x="369360" y="615960"/>
            <a:chExt cx="6918840" cy="3098880"/>
          </a:xfrm>
        </p:grpSpPr>
        <p:grpSp>
          <p:nvGrpSpPr>
            <p:cNvPr id="254" name=""/>
            <p:cNvGrpSpPr/>
            <p:nvPr/>
          </p:nvGrpSpPr>
          <p:grpSpPr>
            <a:xfrm>
              <a:off x="369360" y="615960"/>
              <a:ext cx="5153400" cy="3098880"/>
              <a:chOff x="369360" y="615960"/>
              <a:chExt cx="5153400" cy="309888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369360" y="615960"/>
                <a:ext cx="5153400" cy="3098880"/>
                <a:chOff x="369360" y="615960"/>
                <a:chExt cx="5153400" cy="3098880"/>
              </a:xfrm>
            </p:grpSpPr>
            <p:grpSp>
              <p:nvGrpSpPr>
                <p:cNvPr id="256" name=""/>
                <p:cNvGrpSpPr/>
                <p:nvPr/>
              </p:nvGrpSpPr>
              <p:grpSpPr>
                <a:xfrm>
                  <a:off x="369360" y="615960"/>
                  <a:ext cx="5153400" cy="3098880"/>
                  <a:chOff x="369360" y="615960"/>
                  <a:chExt cx="5153400" cy="3098880"/>
                </a:xfrm>
              </p:grpSpPr>
              <p:graphicFrame>
                <p:nvGraphicFramePr>
                  <p:cNvPr id="257" name=""/>
                  <p:cNvGraphicFramePr/>
                  <p:nvPr/>
                </p:nvGraphicFramePr>
                <p:xfrm>
                  <a:off x="804960" y="615960"/>
                  <a:ext cx="4717800" cy="2900520"/>
                </p:xfrm>
                <a:graphic>
                  <a:graphicData uri="http://schemas.openxmlformats.org/presentationml/2006/ole">
                    <p:oleObj progId="Excel.Sheet.12" r:id="rId1" spid="">
                      <p:embed/>
                      <p:pic>
                        <p:nvPicPr>
                          <p:cNvPr id="258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804960" y="615960"/>
                            <a:ext cx="4717800" cy="29005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259" name=""/>
                  <p:cNvSpPr/>
                  <p:nvPr/>
                </p:nvSpPr>
                <p:spPr>
                  <a:xfrm>
                    <a:off x="369360" y="700200"/>
                    <a:ext cx="454680" cy="2396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i="1" lang="it-IT" sz="1800" spc="-1" strike="noStrike" u="sng">
                        <a:solidFill>
                          <a:srgbClr val="3333cc"/>
                        </a:solidFill>
                        <a:uFillTx/>
                        <a:latin typeface="Tahoma"/>
                      </a:rPr>
                      <a:t># patents</a:t>
                    </a:r>
                    <a:endParaRPr b="1" i="1" lang="en-US" sz="1800" spc="-1" strike="noStrike" u="sng">
                      <a:solidFill>
                        <a:srgbClr val="3333cc"/>
                      </a:solidFill>
                      <a:uFillTx/>
                      <a:latin typeface="Tahoma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2759040" y="3349800"/>
                    <a:ext cx="18108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i="1" lang="en-US" sz="1200" spc="-1" strike="noStrike" u="sng">
                      <a:solidFill>
                        <a:srgbClr val="3333cc"/>
                      </a:solidFill>
                      <a:uFillTx/>
                      <a:latin typeface="Tahoma"/>
                    </a:endParaRPr>
                  </a:p>
                </p:txBody>
              </p:sp>
            </p:grpSp>
            <p:pic>
              <p:nvPicPr>
                <p:cNvPr id="26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49880" y="1039680"/>
                  <a:ext cx="836640" cy="1419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62" name=""/>
              <p:cNvSpPr/>
              <p:nvPr/>
            </p:nvSpPr>
            <p:spPr>
              <a:xfrm>
                <a:off x="2572560" y="1530360"/>
                <a:ext cx="1294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800" spc="-1" strike="noStrike" u="sng">
                    <a:solidFill>
                      <a:srgbClr val="3399ff"/>
                    </a:solidFill>
                    <a:uFillTx/>
                    <a:latin typeface="Tahoma"/>
                  </a:rPr>
                  <a:t>Thomas A.</a:t>
                </a:r>
                <a:endPara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800" spc="-1" strike="noStrike" u="sng">
                    <a:solidFill>
                      <a:srgbClr val="3399ff"/>
                    </a:solidFill>
                    <a:uFillTx/>
                    <a:latin typeface="Tahoma"/>
                  </a:rPr>
                  <a:t>Edison</a:t>
                </a:r>
                <a:endPara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5292720" y="938880"/>
              <a:ext cx="199548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ahoma"/>
                </a:rPr>
                <a:t>“</a:t>
              </a: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ahoma"/>
                </a:rPr>
                <a:t>Genius is one </a:t>
              </a:r>
              <a:br>
                <a:rPr sz="1400"/>
              </a:b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ahoma"/>
                </a:rPr>
                <a:t>percent inspiration, </a:t>
              </a:r>
              <a:br>
                <a:rPr sz="1400"/>
              </a:b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ahoma"/>
                </a:rPr>
                <a:t>ninety-nine </a:t>
              </a:r>
              <a:br>
                <a:rPr sz="1400"/>
              </a:b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ahoma"/>
                </a:rPr>
                <a:t>percent perspiration</a:t>
              </a: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ahoma"/>
                </a:rPr>
                <a:t>” </a:t>
              </a:r>
              <a:br>
                <a:rPr sz="1400"/>
              </a:br>
              <a:br>
                <a:rPr sz="1400"/>
              </a:b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ahoma"/>
                </a:rPr>
                <a:t>- Thomas Alva Edison</a:t>
              </a:r>
              <a:endParaRPr b="1" i="1" lang="en-US" sz="1400" spc="-1" strike="noStrike" u="sng">
                <a:solidFill>
                  <a:srgbClr val="3333cc"/>
                </a:solidFill>
                <a:uFillTx/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1" i="1" lang="en-US" sz="14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58760" y="3589200"/>
            <a:ext cx="7940520" cy="3081600"/>
            <a:chOff x="158760" y="3589200"/>
            <a:chExt cx="7940520" cy="3081600"/>
          </a:xfrm>
        </p:grpSpPr>
        <p:grpSp>
          <p:nvGrpSpPr>
            <p:cNvPr id="265" name=""/>
            <p:cNvGrpSpPr/>
            <p:nvPr/>
          </p:nvGrpSpPr>
          <p:grpSpPr>
            <a:xfrm>
              <a:off x="3098160" y="3713040"/>
              <a:ext cx="5001120" cy="2957760"/>
              <a:chOff x="3098160" y="3713040"/>
              <a:chExt cx="5001120" cy="2957760"/>
            </a:xfrm>
          </p:grpSpPr>
          <p:graphicFrame>
            <p:nvGraphicFramePr>
              <p:cNvPr id="266" name=""/>
              <p:cNvGraphicFramePr/>
              <p:nvPr/>
            </p:nvGraphicFramePr>
            <p:xfrm>
              <a:off x="3611520" y="3713040"/>
              <a:ext cx="4487760" cy="2754360"/>
            </p:xfrm>
            <a:graphic>
              <a:graphicData uri="http://schemas.openxmlformats.org/presentationml/2006/ole">
                <p:oleObj progId="Excel.Sheet.12" r:id="rId4" spid="">
                  <p:embed/>
                  <p:pic>
                    <p:nvPicPr>
                      <p:cNvPr id="267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611520" y="3713040"/>
                        <a:ext cx="4487760" cy="2754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68" name=""/>
              <p:cNvSpPr/>
              <p:nvPr/>
            </p:nvSpPr>
            <p:spPr>
              <a:xfrm>
                <a:off x="4748040" y="6302520"/>
                <a:ext cx="239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8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years</a:t>
                </a:r>
                <a:endPara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098160" y="3822840"/>
                <a:ext cx="454680" cy="23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800" spc="-1" strike="noStrike" u="sng">
                    <a:solidFill>
                      <a:srgbClr val="3333cc"/>
                    </a:solidFill>
                    <a:uFillTx/>
                    <a:latin typeface="Tahoma"/>
                  </a:rPr>
                  <a:t># publications</a:t>
                </a:r>
                <a:endPara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86880" y="3797280"/>
                <a:ext cx="891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800" spc="-1" strike="noStrike" u="sng">
                    <a:solidFill>
                      <a:srgbClr val="3399ff"/>
                    </a:solidFill>
                    <a:uFillTx/>
                    <a:latin typeface="Tahoma"/>
                  </a:rPr>
                  <a:t>John </a:t>
                </a:r>
                <a:endPara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it-IT" sz="1800" spc="-1" strike="noStrike" u="sng">
                    <a:solidFill>
                      <a:srgbClr val="3399ff"/>
                    </a:solidFill>
                    <a:uFillTx/>
                    <a:latin typeface="Tahoma"/>
                  </a:rPr>
                  <a:t>Dewey</a:t>
                </a:r>
                <a:endParaRPr b="1" i="1" lang="en-US" sz="1800" spc="-1" strike="noStrike" u="sng">
                  <a:solidFill>
                    <a:srgbClr val="3333cc"/>
                  </a:solidFill>
                  <a:uFillTx/>
                  <a:latin typeface="Tahoma"/>
                </a:endParaRPr>
              </a:p>
            </p:txBody>
          </p:sp>
        </p:grpSp>
        <p:pic>
          <p:nvPicPr>
            <p:cNvPr id="271" name="" descr=""/>
            <p:cNvPicPr/>
            <p:nvPr/>
          </p:nvPicPr>
          <p:blipFill>
            <a:blip r:embed="rId6"/>
            <a:srcRect l="8898" t="0" r="24462" b="23346"/>
            <a:stretch/>
          </p:blipFill>
          <p:spPr>
            <a:xfrm>
              <a:off x="4184640" y="3589200"/>
              <a:ext cx="936720" cy="14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58760" y="4573440"/>
              <a:ext cx="29696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ahoma"/>
                </a:rPr>
                <a:t>“</a:t>
              </a: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ahoma"/>
                </a:rPr>
                <a:t>Every great advance </a:t>
              </a:r>
              <a:br>
                <a:rPr sz="1400"/>
              </a:b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ahoma"/>
                </a:rPr>
                <a:t>in science has issued from a new </a:t>
              </a:r>
              <a:br>
                <a:rPr sz="1400"/>
              </a:b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ahoma"/>
                </a:rPr>
                <a:t>audacity of imagination</a:t>
              </a: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ahoma"/>
                </a:rPr>
                <a:t>” </a:t>
              </a:r>
              <a:endParaRPr b="1" i="1" lang="en-US" sz="1400" spc="-1" strike="noStrike" u="sng">
                <a:solidFill>
                  <a:srgbClr val="3333cc"/>
                </a:solidFill>
                <a:uFillTx/>
                <a:latin typeface="Tahoma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br>
                <a:rPr sz="1400"/>
              </a:b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ahoma"/>
                </a:rPr>
                <a:t>	</a:t>
              </a:r>
              <a:r>
                <a:rPr b="1" i="1" lang="it-IT" sz="1400" spc="-1" strike="noStrike" u="sng">
                  <a:solidFill>
                    <a:srgbClr val="3333cc"/>
                  </a:solidFill>
                  <a:uFillTx/>
                  <a:latin typeface="Tahoma"/>
                </a:rPr>
                <a:t>- John Dewey</a:t>
              </a:r>
              <a:endParaRPr b="1" i="1" lang="en-US" sz="14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763640" y="3348000"/>
            <a:ext cx="23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800" spc="-1" strike="noStrike" u="sng">
                <a:solidFill>
                  <a:srgbClr val="3333cc"/>
                </a:solidFill>
                <a:uFillTx/>
                <a:latin typeface="Tahoma"/>
              </a:rPr>
              <a:t>years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7"/>
          <a:stretch/>
        </p:blipFill>
        <p:spPr>
          <a:xfrm>
            <a:off x="7164360" y="103320"/>
            <a:ext cx="1971720" cy="28209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001960" y="2327400"/>
            <a:ext cx="129960" cy="118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2027160" y="2644920"/>
            <a:ext cx="130320" cy="141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cxnSp>
        <p:nvCxnSpPr>
          <p:cNvPr id="277" name=""/>
          <p:cNvCxnSpPr>
            <a:stCxn id="274" idx="2"/>
          </p:cNvCxnSpPr>
          <p:nvPr/>
        </p:nvCxnSpPr>
        <p:spPr>
          <a:xfrm rot="10800000">
            <a:off x="2045520" y="-3337920"/>
            <a:ext cx="159480" cy="6104520"/>
          </a:xfrm>
          <a:prstGeom prst="bentConnector3">
            <a:avLst>
              <a:gd name="adj1" fmla="val 50000"/>
            </a:avLst>
          </a:prstGeom>
          <a:ln w="25560">
            <a:solidFill>
              <a:srgbClr val="00b0f0"/>
            </a:solidFill>
            <a:round/>
            <a:tailEnd len="med" type="triangle" w="med"/>
          </a:ln>
        </p:spPr>
      </p:cxn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4000" y="1890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2800" spc="-1" strike="noStrike" u="sng">
                <a:solidFill>
                  <a:srgbClr val="3333cc"/>
                </a:solidFill>
                <a:uFillTx/>
                <a:latin typeface="Tahoma"/>
              </a:rPr>
              <a:t>Conclusions from data</a:t>
            </a:r>
            <a:endParaRPr b="1" i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5364000" y="333360"/>
            <a:ext cx="3581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spcBef>
                <a:spcPts val="1125"/>
              </a:spcBef>
              <a:buClr>
                <a:srgbClr val="3399ff"/>
              </a:buClr>
              <a:buFont typeface="Tahoma"/>
              <a:buAutoNum type="arabicPeriod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515600"/>
              </a:tabLst>
            </a:pPr>
            <a:r>
              <a:rPr b="1" i="1" lang="it-IT" sz="1800" spc="-1" strike="noStrike" u="sng">
                <a:solidFill>
                  <a:srgbClr val="3399ff"/>
                </a:solidFill>
                <a:uFillTx/>
                <a:latin typeface="Tahoma"/>
              </a:rPr>
              <a:t>Exogenous factors</a:t>
            </a:r>
            <a:r>
              <a:rPr b="1" i="1" lang="it-IT" sz="1800" spc="-1" strike="noStrike" u="sng">
                <a:solidFill>
                  <a:srgbClr val="3333cc"/>
                </a:solidFill>
                <a:uFillTx/>
                <a:latin typeface="Tahoma"/>
              </a:rPr>
              <a:t> are important (e.g. Boltzmann in 1885 or Wright’s fires)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455760" indent="-455760">
              <a:spcBef>
                <a:spcPts val="1125"/>
              </a:spcBef>
              <a:buClr>
                <a:srgbClr val="3399ff"/>
              </a:buClr>
              <a:buFont typeface="Tahoma"/>
              <a:buAutoNum type="arabicPeriod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515600"/>
              </a:tabLst>
            </a:pPr>
            <a:r>
              <a:rPr b="1" i="1" lang="it-IT" sz="1800" spc="-1" strike="noStrike" u="sng">
                <a:solidFill>
                  <a:srgbClr val="3399ff"/>
                </a:solidFill>
                <a:uFillTx/>
                <a:latin typeface="Tahoma"/>
              </a:rPr>
              <a:t>Attractors</a:t>
            </a:r>
            <a:r>
              <a:rPr b="1" i="1" lang="it-IT" sz="1800" spc="-1" strike="noStrike" u="sng">
                <a:solidFill>
                  <a:srgbClr val="3333cc"/>
                </a:solidFill>
                <a:uFillTx/>
                <a:latin typeface="Tahoma"/>
              </a:rPr>
              <a:t> or </a:t>
            </a:r>
            <a:r>
              <a:rPr b="1" i="1" lang="it-IT" sz="1800" spc="-1" strike="noStrike" u="sng">
                <a:solidFill>
                  <a:srgbClr val="3399ff"/>
                </a:solidFill>
                <a:uFillTx/>
                <a:latin typeface="Tahoma"/>
              </a:rPr>
              <a:t>transients</a:t>
            </a:r>
            <a:r>
              <a:rPr b="1" i="1" lang="it-IT" sz="1800" spc="-1" strike="noStrike" u="sng">
                <a:solidFill>
                  <a:srgbClr val="3333cc"/>
                </a:solidFill>
                <a:uFillTx/>
                <a:latin typeface="Tahoma"/>
              </a:rPr>
              <a:t>?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455760" indent="-455760">
              <a:spcBef>
                <a:spcPts val="1125"/>
              </a:spcBef>
              <a:buClr>
                <a:srgbClr val="3399ff"/>
              </a:buClr>
              <a:buFont typeface="Tahoma"/>
              <a:buAutoNum type="arabicPeriod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515600"/>
              </a:tabLst>
            </a:pPr>
            <a:r>
              <a:rPr b="1" i="1" lang="it-IT" sz="1800" spc="-1" strike="noStrike" u="sng">
                <a:solidFill>
                  <a:srgbClr val="3399ff"/>
                </a:solidFill>
                <a:uFillTx/>
                <a:latin typeface="Tahoma"/>
              </a:rPr>
              <a:t>Initial</a:t>
            </a:r>
            <a:r>
              <a:rPr b="1" i="1" lang="it-IT" sz="1800" spc="-1" strike="noStrike" u="sng">
                <a:solidFill>
                  <a:srgbClr val="3333cc"/>
                </a:solidFill>
                <a:uFillTx/>
                <a:latin typeface="Tahoma"/>
              </a:rPr>
              <a:t> and </a:t>
            </a:r>
            <a:r>
              <a:rPr b="1" i="1" lang="it-IT" sz="1800" spc="-1" strike="noStrike" u="sng">
                <a:solidFill>
                  <a:srgbClr val="3399ff"/>
                </a:solidFill>
                <a:uFillTx/>
                <a:latin typeface="Tahoma"/>
              </a:rPr>
              <a:t>final</a:t>
            </a:r>
            <a:r>
              <a:rPr b="1" i="1" lang="it-IT" sz="1800" spc="-1" strike="noStrike" u="sng">
                <a:solidFill>
                  <a:srgbClr val="3333cc"/>
                </a:solidFill>
                <a:uFillTx/>
                <a:latin typeface="Tahoma"/>
              </a:rPr>
              <a:t> phases as the interplay </a:t>
            </a:r>
            <a:br>
              <a:rPr sz="1800"/>
            </a:br>
            <a:r>
              <a:rPr b="1" i="1" lang="it-IT" sz="1800" spc="-1" strike="noStrike" u="sng">
                <a:solidFill>
                  <a:srgbClr val="3333cc"/>
                </a:solidFill>
                <a:uFillTx/>
                <a:latin typeface="Tahoma"/>
              </a:rPr>
              <a:t>between </a:t>
            </a:r>
            <a:r>
              <a:rPr b="1" i="1" lang="it-IT" sz="1800" spc="-1" strike="noStrike" u="sng">
                <a:solidFill>
                  <a:srgbClr val="3399ff"/>
                </a:solidFill>
                <a:uFillTx/>
                <a:latin typeface="Tahoma"/>
              </a:rPr>
              <a:t>learning </a:t>
            </a:r>
            <a:r>
              <a:rPr b="1" i="1" lang="it-IT" sz="1800" spc="-1" strike="noStrike" u="sng">
                <a:solidFill>
                  <a:srgbClr val="3333cc"/>
                </a:solidFill>
                <a:uFillTx/>
                <a:latin typeface="Tahoma"/>
              </a:rPr>
              <a:t>and </a:t>
            </a:r>
            <a:r>
              <a:rPr b="1" i="1" lang="it-IT" sz="1800" spc="-1" strike="noStrike" u="sng">
                <a:solidFill>
                  <a:srgbClr val="3399ff"/>
                </a:solidFill>
                <a:uFillTx/>
                <a:latin typeface="Tahoma"/>
              </a:rPr>
              <a:t>aging</a:t>
            </a: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455760" indent="-455760">
              <a:spcBef>
                <a:spcPts val="1125"/>
              </a:spcBef>
              <a:tabLst>
                <a:tab algn="l" pos="0"/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515600"/>
              </a:tabLst>
            </a:pP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455760" indent="-455760">
              <a:spcBef>
                <a:spcPts val="1125"/>
              </a:spcBef>
              <a:tabLst>
                <a:tab algn="l" pos="0"/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515600"/>
              </a:tabLst>
            </a:pPr>
            <a:endParaRPr b="1" i="1" lang="en-US" sz="1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68360" y="2763720"/>
            <a:ext cx="3804480" cy="1868760"/>
            <a:chOff x="468360" y="2763720"/>
            <a:chExt cx="3804480" cy="186876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468360" y="2763720"/>
              <a:ext cx="2782080" cy="18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696040" y="2979720"/>
              <a:ext cx="15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800" spc="-1" strike="noStrike" u="sng">
                  <a:solidFill>
                    <a:srgbClr val="3399ff"/>
                  </a:solidFill>
                  <a:uFillTx/>
                  <a:latin typeface="Tahoma"/>
                </a:rPr>
                <a:t>Stationary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400" spc="-1" strike="noStrike" u="sng">
                  <a:solidFill>
                    <a:srgbClr val="3399ff"/>
                  </a:solidFill>
                  <a:uFillTx/>
                  <a:latin typeface="Tahoma"/>
                  <a:ea typeface="Droid Sans Fallback"/>
                </a:rPr>
                <a:t>(e.g. Ibsen)</a:t>
              </a:r>
              <a:endParaRPr b="1" i="1" lang="en-US" sz="14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68360" y="4869000"/>
            <a:ext cx="4822920" cy="1636560"/>
            <a:chOff x="468360" y="4869000"/>
            <a:chExt cx="4822920" cy="1636560"/>
          </a:xfrm>
        </p:grpSpPr>
        <p:pic>
          <p:nvPicPr>
            <p:cNvPr id="284" name="" descr=""/>
            <p:cNvPicPr/>
            <p:nvPr/>
          </p:nvPicPr>
          <p:blipFill>
            <a:blip r:embed="rId2"/>
            <a:stretch/>
          </p:blipFill>
          <p:spPr>
            <a:xfrm>
              <a:off x="468360" y="4884840"/>
              <a:ext cx="278136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2700360" y="4869000"/>
              <a:ext cx="25909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800" spc="-1" strike="noStrike" u="sng">
                  <a:solidFill>
                    <a:srgbClr val="3399ff"/>
                  </a:solidFill>
                  <a:uFillTx/>
                  <a:latin typeface="Tahoma"/>
                </a:rPr>
                <a:t>Cyclic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400" spc="-1" strike="noStrike" u="sng">
                  <a:solidFill>
                    <a:srgbClr val="3399ff"/>
                  </a:solidFill>
                  <a:uFillTx/>
                  <a:latin typeface="Tahoma"/>
                  <a:ea typeface="Droid Sans Fallback"/>
                </a:rPr>
                <a:t>(e.g. Mozart, Poincaré</a:t>
              </a:r>
              <a:r>
                <a:rPr b="1" i="1" lang="en-US" sz="1400" spc="-1" strike="noStrike" u="sng">
                  <a:solidFill>
                    <a:srgbClr val="3399ff"/>
                  </a:solidFill>
                  <a:uFillTx/>
                  <a:latin typeface="Tahoma"/>
                  <a:ea typeface="Droid Sans Fallback"/>
                </a:rPr>
                <a:t>,    Dickinson</a:t>
              </a:r>
              <a:r>
                <a:rPr b="1" i="1" lang="it-IT" sz="1400" spc="-1" strike="noStrike" u="sng">
                  <a:solidFill>
                    <a:srgbClr val="3399ff"/>
                  </a:solidFill>
                  <a:uFillTx/>
                  <a:latin typeface="Tahoma"/>
                  <a:ea typeface="Droid Sans Fallback"/>
                </a:rPr>
                <a:t>)</a:t>
              </a:r>
              <a:endParaRPr b="1" i="1" lang="en-US" sz="14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68360" y="907920"/>
            <a:ext cx="4192200" cy="1621080"/>
            <a:chOff x="468360" y="907920"/>
            <a:chExt cx="4192200" cy="1621080"/>
          </a:xfrm>
        </p:grpSpPr>
        <p:pic>
          <p:nvPicPr>
            <p:cNvPr id="287" name="" descr=""/>
            <p:cNvPicPr/>
            <p:nvPr/>
          </p:nvPicPr>
          <p:blipFill>
            <a:blip r:embed="rId3"/>
            <a:stretch/>
          </p:blipFill>
          <p:spPr>
            <a:xfrm>
              <a:off x="468360" y="907920"/>
              <a:ext cx="278136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672280" y="979560"/>
              <a:ext cx="198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 u="sng">
                  <a:solidFill>
                    <a:srgbClr val="3399ff"/>
                  </a:solidFill>
                  <a:uFillTx/>
                  <a:latin typeface="Tahoma"/>
                </a:rPr>
                <a:t>Unclassified</a:t>
              </a:r>
              <a:endParaRPr b="1" i="1" lang="en-US" sz="1800" spc="-1" strike="noStrike" u="sng">
                <a:solidFill>
                  <a:srgbClr val="3333cc"/>
                </a:solidFill>
                <a:uFillTx/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it-IT" sz="1400" spc="-1" strike="noStrike" u="sng">
                  <a:solidFill>
                    <a:srgbClr val="3399ff"/>
                  </a:solidFill>
                  <a:uFillTx/>
                  <a:latin typeface="Tahoma"/>
                  <a:ea typeface="Droid Sans Fallback"/>
                </a:rPr>
                <a:t>(e.g. Stravinsky)</a:t>
              </a:r>
              <a:endParaRPr b="1" i="1" lang="en-US" sz="14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592960" y="2987640"/>
            <a:ext cx="3225600" cy="2632680"/>
            <a:chOff x="5592960" y="2987640"/>
            <a:chExt cx="3225600" cy="2632680"/>
          </a:xfrm>
        </p:grpSpPr>
        <p:pic>
          <p:nvPicPr>
            <p:cNvPr id="290" name="" descr=""/>
            <p:cNvPicPr/>
            <p:nvPr/>
          </p:nvPicPr>
          <p:blipFill>
            <a:blip r:embed="rId4"/>
            <a:stretch/>
          </p:blipFill>
          <p:spPr>
            <a:xfrm>
              <a:off x="5848200" y="3156120"/>
              <a:ext cx="2055960" cy="19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896080" y="5078520"/>
              <a:ext cx="2230200" cy="52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69240" y="5099040"/>
              <a:ext cx="348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rPr>
                <a:t>20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02600" y="5099040"/>
              <a:ext cx="348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rPr>
                <a:t>30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34520" y="5099040"/>
              <a:ext cx="348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rPr>
                <a:t>40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64640" y="5099040"/>
              <a:ext cx="348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rPr>
                <a:t>50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98000" y="5099040"/>
              <a:ext cx="348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rPr>
                <a:t>60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5680" y="5313240"/>
              <a:ext cx="218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400" spc="-1" strike="noStrike" u="sng">
                  <a:solidFill>
                    <a:srgbClr val="3333cc"/>
                  </a:solidFill>
                  <a:uFillTx/>
                  <a:latin typeface="Tahoma"/>
                </a:rPr>
                <a:t>Age at peak publication</a:t>
              </a:r>
              <a:endParaRPr b="1" i="1" lang="en-US" sz="14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92960" y="3316320"/>
              <a:ext cx="545760" cy="158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400" spc="-1" strike="noStrike" u="sng">
                  <a:solidFill>
                    <a:srgbClr val="3333cc"/>
                  </a:solidFill>
                  <a:uFillTx/>
                  <a:latin typeface="Tahoma"/>
                  <a:ea typeface="Tahoma"/>
                </a:rPr>
                <a:t># scientists</a:t>
              </a:r>
              <a:br>
                <a:rPr sz="1400"/>
              </a:br>
              <a:r>
                <a:rPr b="1" i="1" lang="en-US" sz="1000" spc="-1" strike="noStrike" u="sng">
                  <a:solidFill>
                    <a:srgbClr val="3333cc"/>
                  </a:solidFill>
                  <a:uFillTx/>
                  <a:latin typeface="Tahoma"/>
                  <a:ea typeface="Tahoma"/>
                </a:rPr>
                <a:t>(over 280, 97.8% males)</a:t>
              </a:r>
              <a:endParaRPr b="1" i="1" lang="en-US" sz="10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95200" y="488952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rPr>
                <a:t>0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9040" y="3092400"/>
              <a:ext cx="34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200" spc="-1" strike="noStrike" u="sng">
                  <a:solidFill>
                    <a:srgbClr val="3333cc"/>
                  </a:solidFill>
                  <a:uFillTx/>
                  <a:latin typeface="Tahoma"/>
                </a:rPr>
                <a:t>70</a:t>
              </a:r>
              <a:endParaRPr b="1" i="1" lang="en-US" sz="12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48200" y="2987640"/>
              <a:ext cx="297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000" spc="-1" strike="noStrike" u="sng">
                  <a:solidFill>
                    <a:srgbClr val="3333cc"/>
                  </a:solidFill>
                  <a:uFillTx/>
                  <a:latin typeface="Tahoma"/>
                </a:rPr>
                <a:t>Journal of Research in Personality</a:t>
              </a:r>
              <a:r>
                <a:rPr b="1" i="1" lang="en-US" sz="1000" spc="-1" strike="noStrike" u="sng">
                  <a:solidFill>
                    <a:srgbClr val="3333cc"/>
                  </a:solidFill>
                  <a:uFillTx/>
                  <a:latin typeface="Tahoma"/>
                </a:rPr>
                <a:t> </a:t>
              </a:r>
              <a:br>
                <a:rPr sz="1000"/>
              </a:br>
              <a:r>
                <a:rPr b="1" i="1" lang="en-US" sz="1000" spc="-1" strike="noStrike" u="sng">
                  <a:solidFill>
                    <a:srgbClr val="3333cc"/>
                  </a:solidFill>
                  <a:uFillTx/>
                  <a:latin typeface="Tahoma"/>
                </a:rPr>
                <a:t>(2003, </a:t>
              </a:r>
              <a:r>
                <a:rPr b="1" i="1" lang="en-US" sz="1000" spc="-1" strike="noStrike" u="sng">
                  <a:solidFill>
                    <a:srgbClr val="3333cc"/>
                  </a:solidFill>
                  <a:uFillTx/>
                  <a:latin typeface="Tahoma"/>
                </a:rPr>
                <a:t>37</a:t>
              </a:r>
              <a:r>
                <a:rPr b="1" i="1" lang="en-US" sz="1000" spc="-1" strike="noStrike" u="sng">
                  <a:solidFill>
                    <a:srgbClr val="3333cc"/>
                  </a:solidFill>
                  <a:uFillTx/>
                  <a:latin typeface="Tahoma"/>
                </a:rPr>
                <a:t>:257)</a:t>
              </a:r>
              <a:endParaRPr b="1" i="1" lang="en-US" sz="1000" spc="-1" strike="noStrike" u="sng">
                <a:solidFill>
                  <a:srgbClr val="3333cc"/>
                </a:solidFill>
                <a:uFillTx/>
                <a:latin typeface="Tahoma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364000" y="5848200"/>
            <a:ext cx="3673800" cy="96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A person who has not made his great contribution to science before the age of thirty will never do so.</a:t>
            </a:r>
            <a:br>
              <a:rPr sz="1200"/>
            </a:br>
            <a:r>
              <a:rPr b="1" i="1" lang="it-IT" sz="1200" spc="-1" strike="noStrike" u="sng">
                <a:solidFill>
                  <a:srgbClr val="3333cc"/>
                </a:solidFill>
                <a:uFillTx/>
                <a:latin typeface="Tahoma"/>
              </a:rPr>
              <a:t>- Albert Einstein (Brodetsky, 1942, p. 699)</a:t>
            </a:r>
            <a:endParaRPr b="1" i="1" lang="en-US" sz="12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 fill="hold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 fill="hold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Our approach</a:t>
            </a:r>
            <a:endParaRPr b="1" i="1" lang="en-US" sz="28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55800" y="1243080"/>
            <a:ext cx="9303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buClr>
                <a:srgbClr val="3333cc"/>
              </a:buClr>
              <a:buFont typeface="Tahom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Freeze the </a:t>
            </a:r>
            <a:r>
              <a:rPr b="1" i="1" lang="en-US" sz="2000" spc="-1" strike="noStrike" u="sng">
                <a:solidFill>
                  <a:srgbClr val="3399ff"/>
                </a:solidFill>
                <a:uFillTx/>
                <a:latin typeface="Tahoma"/>
              </a:rPr>
              <a:t>age</a:t>
            </a: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 and hence all behavioral </a:t>
            </a:r>
            <a:br>
              <a:rPr sz="2000"/>
            </a:b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parameters of the individuals (but see below)</a:t>
            </a:r>
            <a:br>
              <a:rPr sz="2000"/>
            </a:b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endParaRPr b="1" i="1" lang="en-US" sz="20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455760" indent="-455760">
              <a:buClr>
                <a:srgbClr val="3333cc"/>
              </a:buClr>
              <a:buFont typeface="Tahom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Propose a minimal model, that is a conjecture on </a:t>
            </a:r>
            <a:r>
              <a:rPr b="1" i="1" lang="en-US" sz="2000" spc="-1" strike="noStrike" u="sng">
                <a:solidFill>
                  <a:srgbClr val="3399ff"/>
                </a:solidFill>
                <a:uFillTx/>
                <a:latin typeface="Tahoma"/>
              </a:rPr>
              <a:t>creativity</a:t>
            </a: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, </a:t>
            </a:r>
            <a:br>
              <a:rPr sz="2000"/>
            </a:b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rate of achievements and </a:t>
            </a:r>
            <a:r>
              <a:rPr b="1" i="1" lang="en-US" sz="2000" spc="-1" strike="noStrike" u="sng">
                <a:solidFill>
                  <a:srgbClr val="3399ff"/>
                </a:solidFill>
                <a:uFillTx/>
                <a:latin typeface="Tahoma"/>
              </a:rPr>
              <a:t>satisfaction</a:t>
            </a: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 (only intrinsic motivation)</a:t>
            </a:r>
            <a:endParaRPr b="1" i="1" lang="en-US" sz="20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455760" indent="-455760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i="1" lang="en-US" sz="20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455760" indent="-455760">
              <a:buClr>
                <a:srgbClr val="3333cc"/>
              </a:buClr>
              <a:buFont typeface="Tahom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Analyze the model and prove it can generate </a:t>
            </a:r>
            <a:br>
              <a:rPr sz="2000"/>
            </a:b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either </a:t>
            </a:r>
            <a:r>
              <a:rPr b="1" i="1" lang="en-US" sz="2000" spc="-1" strike="noStrike" u="sng">
                <a:solidFill>
                  <a:srgbClr val="3399ff"/>
                </a:solidFill>
                <a:uFillTx/>
                <a:latin typeface="Tahoma"/>
              </a:rPr>
              <a:t>stationary</a:t>
            </a: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 or </a:t>
            </a:r>
            <a:r>
              <a:rPr b="1" i="1" lang="en-US" sz="2000" spc="-1" strike="noStrike" u="sng">
                <a:solidFill>
                  <a:srgbClr val="3399ff"/>
                </a:solidFill>
                <a:uFillTx/>
                <a:latin typeface="Tahoma"/>
              </a:rPr>
              <a:t>cyclic</a:t>
            </a: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 patterns</a:t>
            </a:r>
            <a:endParaRPr b="1" i="1" lang="en-US" sz="20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455760" indent="-455760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i="1" lang="en-US" sz="20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455760" indent="-455760">
              <a:buClr>
                <a:srgbClr val="3333cc"/>
              </a:buClr>
              <a:buFont typeface="Tahom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Particularize the model for more detailed </a:t>
            </a:r>
            <a:r>
              <a:rPr b="1" i="1" lang="en-US" sz="2000" spc="-1" strike="noStrike" u="sng">
                <a:solidFill>
                  <a:srgbClr val="3399ff"/>
                </a:solidFill>
                <a:uFillTx/>
                <a:latin typeface="Tahoma"/>
              </a:rPr>
              <a:t>discussions</a:t>
            </a: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 and </a:t>
            </a:r>
            <a:br>
              <a:rPr sz="2000"/>
            </a:b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interpretations</a:t>
            </a:r>
            <a:endParaRPr b="1" i="1" lang="en-US" sz="20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455760" indent="-455760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i="1" lang="en-US" sz="2000" spc="-1" strike="noStrike" u="sng">
              <a:solidFill>
                <a:srgbClr val="3333cc"/>
              </a:solidFill>
              <a:uFillTx/>
              <a:latin typeface="Tahoma"/>
            </a:endParaRPr>
          </a:p>
          <a:p>
            <a:pPr marL="455760" indent="-455760">
              <a:buClr>
                <a:srgbClr val="3333cc"/>
              </a:buClr>
              <a:buFont typeface="Tahom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Point out how the model can be </a:t>
            </a:r>
            <a:r>
              <a:rPr b="1" i="1" lang="en-US" sz="2000" spc="-1" strike="noStrike" u="sng">
                <a:solidFill>
                  <a:srgbClr val="3399ff"/>
                </a:solidFill>
                <a:uFillTx/>
                <a:latin typeface="Tahoma"/>
              </a:rPr>
              <a:t>extended</a:t>
            </a: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 to account</a:t>
            </a:r>
            <a:br>
              <a:rPr sz="2000"/>
            </a:b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	</a:t>
            </a: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for different assumptions (e.g., reputation, team work, etc…)</a:t>
            </a:r>
            <a:endParaRPr b="1" i="1" lang="en-US" sz="2000" spc="-1" strike="noStrike" u="sng">
              <a:solidFill>
                <a:srgbClr val="3333cc"/>
              </a:solidFill>
              <a:uFillTx/>
              <a:latin typeface="Tahom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8:57:21Z</dcterms:created>
  <dc:creator>Renato Casagrandi</dc:creator>
  <dc:description/>
  <dc:language>en-US</dc:language>
  <cp:lastModifiedBy>utente</cp:lastModifiedBy>
  <dcterms:modified xsi:type="dcterms:W3CDTF">2012-10-13T10:29:13Z</dcterms:modified>
  <cp:revision>530</cp:revision>
  <dc:subject/>
  <dc:title>Creativity</dc:title>
</cp:coreProperties>
</file>