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E65-050F-47C7-9498-AB462865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8D1-E179-4549-B642-9EA61C94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B59-CABF-4A4C-A4C1-A82F3706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F27-BABD-47BD-B8D8-641C5F60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315-ADF9-455B-B255-50752D09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6C7-12B4-4725-8372-0C2DDE17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D90-79AE-45C5-9564-75C25597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1A5-8E85-45CB-BC82-26D27FD1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57C-44A4-4113-93D5-BC93D170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931-688B-4130-B608-1DB156F7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545-8762-49D3-8ADB-7D72CC72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187-A059-411D-9EF9-632414BA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5478-FD66-4B07-A5BA-C0E7EA056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4160" y="52236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ili di 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7680" y="985680"/>
            <a:ext cx="2957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     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   …     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9637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0040" y="100008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6120" y="99684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497960"/>
            <a:ext cx="890892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: dato lo stato del sistema in un dato istante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quale sarà il suo stato futuro e da quali stati precedenti provie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34840" y="3227400"/>
            <a:ext cx="389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Leggi locali di evol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81080" y="3825360"/>
            <a:ext cx="5935680" cy="1373400"/>
            <a:chOff x="181080" y="3825360"/>
            <a:chExt cx="5935680" cy="1373400"/>
          </a:xfrm>
        </p:grpSpPr>
        <p:sp>
          <p:nvSpPr>
            <p:cNvPr id="49" name=""/>
            <p:cNvSpPr/>
            <p:nvPr/>
          </p:nvSpPr>
          <p:spPr>
            <a:xfrm>
              <a:off x="261720" y="3825360"/>
              <a:ext cx="5812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mpo continuo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stellar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: equazioni differenzial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81080" y="4310640"/>
                  <a:ext cx="5935680" cy="88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" name=""/>
          <p:cNvGrpSpPr/>
          <p:nvPr/>
        </p:nvGrpSpPr>
        <p:grpSpPr>
          <a:xfrm>
            <a:off x="11880" y="5394240"/>
            <a:ext cx="9036000" cy="1328400"/>
            <a:chOff x="11880" y="5394240"/>
            <a:chExt cx="9036000" cy="1328400"/>
          </a:xfrm>
        </p:grpSpPr>
        <p:sp>
          <p:nvSpPr>
            <p:cNvPr id="52" name=""/>
            <p:cNvSpPr/>
            <p:nvPr/>
          </p:nvSpPr>
          <p:spPr>
            <a:xfrm>
              <a:off x="11880" y="5394240"/>
              <a:ext cx="9036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mpo discre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astellar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equazioni alle differenze (mappe iterate, induttiv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17000" y="6220080"/>
                  <a:ext cx="5768640" cy="50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" name=""/>
          <p:cNvSpPr/>
          <p:nvPr/>
        </p:nvSpPr>
        <p:spPr>
          <a:xfrm>
            <a:off x="3004200" y="-7920"/>
            <a:ext cx="2912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istema Dina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56240" y="2433600"/>
            <a:ext cx="7565400" cy="584280"/>
            <a:chOff x="156240" y="2433600"/>
            <a:chExt cx="7565400" cy="584280"/>
          </a:xfrm>
        </p:grpSpPr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3406680" y="2433600"/>
                  <a:ext cx="431496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  <m:r>
                            <m:t xml:space="preserve">;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7" name=""/>
            <p:cNvSpPr/>
            <p:nvPr/>
          </p:nvSpPr>
          <p:spPr>
            <a:xfrm>
              <a:off x="156240" y="2479680"/>
              <a:ext cx="31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eratore di evolu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00160" y="179280"/>
            <a:ext cx="894384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oritmo dello studio qualitativo (o topologico) di un sistema dinamico a tempo continuo unidimensio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Si cercano i punti si equilibrio cercando gli zeri d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(x),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ioè risolvendo l’equaz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(x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In ogni punto di equilibri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i calcola la derivat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’(x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’(x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)&lt;0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ra il punto di equilibrio è stabile (tangente a  pendenza negativa, vedi approx. line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’(x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)&gt;0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ra il punto di equilibrio è instabile (tangente a  pendenza positiva, vedi ancora approx. line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’(x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)=0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pprox. lineare non ci dà informazio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756400" y="527040"/>
                <a:ext cx="12366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41360" y="476280"/>
            <a:ext cx="55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empio: la parabola della crescita logi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997600" y="258840"/>
                <a:ext cx="2890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404280" y="1347840"/>
            <a:ext cx="3668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= 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q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*= r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’(x) = r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’(0)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’(r/s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070520" y="1585800"/>
            <a:ext cx="4267080" cy="2693880"/>
            <a:chOff x="4070520" y="1585800"/>
            <a:chExt cx="4267080" cy="2693880"/>
          </a:xfrm>
        </p:grpSpPr>
        <p:sp>
          <p:nvSpPr>
            <p:cNvPr id="294" name="Line 21"/>
            <p:cNvSpPr/>
            <p:nvPr/>
          </p:nvSpPr>
          <p:spPr>
            <a:xfrm flipH="1">
              <a:off x="4735440" y="1753920"/>
              <a:ext cx="42480" cy="2438280"/>
            </a:xfrm>
            <a:custGeom>
              <a:avLst/>
              <a:gdLst/>
              <a:ahLst/>
              <a:rect l="l" t="t" r="r" b="b"/>
              <a:pathLst>
                <a:path w="5" h="1187">
                  <a:moveTo>
                    <a:pt x="5" y="1187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2"/>
            <p:cNvSpPr/>
            <p:nvPr/>
          </p:nvSpPr>
          <p:spPr>
            <a:xfrm>
              <a:off x="4070520" y="3659040"/>
              <a:ext cx="4127400" cy="42840"/>
            </a:xfrm>
            <a:custGeom>
              <a:avLst/>
              <a:gdLst/>
              <a:ahLst/>
              <a:rect l="l" t="t" r="r" b="b"/>
              <a:pathLst>
                <a:path w="2175" h="2">
                  <a:moveTo>
                    <a:pt x="0" y="2"/>
                  </a:moveTo>
                  <a:lnTo>
                    <a:pt x="217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51480" y="2070000"/>
              <a:ext cx="3025440" cy="2209680"/>
            </a:xfrm>
            <a:custGeom>
              <a:avLst/>
              <a:gdLst/>
              <a:ahLst/>
              <a:rect l="l" t="t" r="r" b="b"/>
              <a:pathLst>
                <a:path w="1906" h="1392">
                  <a:moveTo>
                    <a:pt x="0" y="1392"/>
                  </a:moveTo>
                  <a:cubicBezTo>
                    <a:pt x="41" y="1056"/>
                    <a:pt x="615" y="0"/>
                    <a:pt x="933" y="0"/>
                  </a:cubicBezTo>
                  <a:cubicBezTo>
                    <a:pt x="1251" y="0"/>
                    <a:pt x="1817" y="1008"/>
                    <a:pt x="1906" y="139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21160" y="3492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51280" y="15858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x/d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41520" y="361620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956120" y="3685680"/>
              <a:ext cx="2934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88200" y="362232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16360" y="364320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4277880" y="3680640"/>
              <a:ext cx="2934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7542360" y="3648960"/>
              <a:ext cx="2930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642000" y="3672720"/>
              <a:ext cx="2934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612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4233600" y="2166840"/>
            <a:ext cx="1230120" cy="25448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37320" y="2252520"/>
            <a:ext cx="1023840" cy="200052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60720" y="4929120"/>
            <a:ext cx="76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rox lineare in un intorno del punto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per la velocità di convergenza (ma solo in un intor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0" y="798480"/>
          <a:ext cx="3932280" cy="60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8480"/>
                    <a:ext cx="3932280" cy="60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2" name=""/>
          <p:cNvGrpSpPr/>
          <p:nvPr/>
        </p:nvGrpSpPr>
        <p:grpSpPr>
          <a:xfrm>
            <a:off x="3757680" y="157320"/>
            <a:ext cx="5386320" cy="4117320"/>
            <a:chOff x="3757680" y="157320"/>
            <a:chExt cx="5386320" cy="4117320"/>
          </a:xfrm>
        </p:grpSpPr>
        <p:sp>
          <p:nvSpPr>
            <p:cNvPr id="313" name=""/>
            <p:cNvSpPr/>
            <p:nvPr/>
          </p:nvSpPr>
          <p:spPr>
            <a:xfrm>
              <a:off x="3757680" y="157320"/>
              <a:ext cx="538632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e in un punto di equilibrio x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di un sistema dinamico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x = f(x)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si ha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f’(x</a:t>
              </a:r>
              <a:r>
                <a:rPr b="0" i="1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) = 0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nulla si può concludere sulla sua stabilità. Si tratta di una situazione di instabilità strutturale e una piccola (anche minima) variazione di un parametro può cambiare la classificazione qualitativa del diagramma di fas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 tutti questi casi, ad esempio. Abbiamo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e 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f’(0) = 0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51520" y="16344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496960" y="12906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84360" y="286848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71760" y="44244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63680" y="578484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61200" cy="17589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68120" y="1654200"/>
            <a:ext cx="6718320" cy="52038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951600" y="2798640"/>
            <a:ext cx="219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Un sistema dinamico è strutturalmente stabile se una  piccola modifica nella struttura della equazione di evouzione (es, la modifica del valore di un parametro) non comporta un cambiamento qualitativo dello scenario dina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73040" y="998640"/>
            <a:ext cx="81979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87360" y="555480"/>
            <a:ext cx="83692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46040" y="0"/>
            <a:ext cx="594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60"/>
            <a:ext cx="914400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Times New Roman"/>
              </a:rPr>
              <a:t>Newton: The fundamental Anagram of Calculus</a:t>
            </a:r>
            <a:r>
              <a:rPr b="0" lang="it-IT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476440"/>
            <a:ext cx="2779560" cy="4381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35160" y="4676400"/>
            <a:ext cx="610884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un’equazione che contiene 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ero qualunque di “quantità fluenti” [derivate] trovare le “flussioni” [primitive], e viceversa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3071880"/>
            <a:ext cx="599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ata aequatione quotcunque fluentes quantitae involvente fluxiones invenire et vice vers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01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alla seconda lettera di Newton a Leibniz (1667): “The foundations of these operations is evident enough, in fact; but because I cannot proceed with the explanation of it now, I have preferred to conceal it thus: 6accdae13eff7i3l9n4o4qrr4s8t12ux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24720" y="2436840"/>
            <a:ext cx="45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iccolo esercizio di crittograf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6235560"/>
            <a:ext cx="259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ge esponen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427640" y="896760"/>
                <a:ext cx="43876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149760" y="4006800"/>
            <a:ext cx="3664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x(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) = 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 cond.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1240" y="4770360"/>
            <a:ext cx="1553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oluzio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3600" y="146160"/>
            <a:ext cx="8837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ge di crescita di una popolazione. Sia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&gt;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&gt;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tassi specifici di natalità e mortalità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ge di evoluzi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5120" y="5345280"/>
                <a:ext cx="273528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028520" y="195912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asso di crescita n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 unità di popol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30320" y="1712880"/>
                <a:ext cx="7714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3949560" y="1963800"/>
            <a:ext cx="5019840" cy="4630680"/>
            <a:chOff x="3949560" y="1963800"/>
            <a:chExt cx="5019840" cy="4630680"/>
          </a:xfrm>
        </p:grpSpPr>
        <p:sp>
          <p:nvSpPr>
            <p:cNvPr id="73" name=""/>
            <p:cNvSpPr/>
            <p:nvPr/>
          </p:nvSpPr>
          <p:spPr>
            <a:xfrm>
              <a:off x="3949560" y="1963800"/>
              <a:ext cx="5019840" cy="46306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4148280" y="2041560"/>
                  <a:ext cx="307944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x</m:t>
                      </m:r>
                      <m:r>
                        <m:rPr>
                          <m:lit/>
                          <m:nor/>
                        </m:rPr>
                        <m:t xml:space="preserve">    con   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022640" y="3141720"/>
                <a:ext cx="11970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970440" y="3011400"/>
                <a:ext cx="17683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5889600" y="3471840"/>
            <a:ext cx="631800" cy="239760"/>
          </a:xfrm>
          <a:prstGeom prst="rightArrow">
            <a:avLst>
              <a:gd name="adj1" fmla="val 50000"/>
              <a:gd name="adj2" fmla="val 658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624720" y="3294000"/>
                <a:ext cx="2135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r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132440" y="4424400"/>
                <a:ext cx="3036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168800" y="5151600"/>
                <a:ext cx="21956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281720" y="5159520"/>
                <a:ext cx="1630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3920" y="2986200"/>
                <a:ext cx="11412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467000" y="2948040"/>
            <a:ext cx="21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azione differenziale primo ordine line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32480" y="5462640"/>
            <a:ext cx="631800" cy="239760"/>
          </a:xfrm>
          <a:prstGeom prst="rightArrow">
            <a:avLst>
              <a:gd name="adj1" fmla="val 50000"/>
              <a:gd name="adj2" fmla="val 658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0320" y="2819520"/>
            <a:ext cx="3614760" cy="17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27240" y="2258280"/>
            <a:ext cx="279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040" y="54000"/>
            <a:ext cx="416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5160" y="54720"/>
            <a:ext cx="8892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4040" y="2101320"/>
            <a:ext cx="28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7920" y="2292480"/>
            <a:ext cx="416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18800" y="2479680"/>
            <a:ext cx="2689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83120" y="60480"/>
            <a:ext cx="416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26800" y="151560"/>
            <a:ext cx="1038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06880" y="430200"/>
            <a:ext cx="416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6200" y="2425680"/>
            <a:ext cx="3146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53240" y="2459160"/>
            <a:ext cx="416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3280" y="15228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70040" y="2335320"/>
            <a:ext cx="2171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4720" y="182520"/>
            <a:ext cx="1612800" cy="2121120"/>
          </a:xfrm>
          <a:custGeom>
            <a:avLst/>
            <a:gdLst/>
            <a:ahLst/>
            <a:rect l="l" t="t" r="r" b="b"/>
            <a:pathLst>
              <a:path w="1016" h="1336">
                <a:moveTo>
                  <a:pt x="0" y="1336"/>
                </a:moveTo>
                <a:cubicBezTo>
                  <a:pt x="120" y="1324"/>
                  <a:pt x="396" y="1332"/>
                  <a:pt x="660" y="1020"/>
                </a:cubicBezTo>
                <a:cubicBezTo>
                  <a:pt x="924" y="708"/>
                  <a:pt x="992" y="212"/>
                  <a:pt x="101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02520" y="277920"/>
            <a:ext cx="0" cy="21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299280" y="2460600"/>
            <a:ext cx="24336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15120" y="627120"/>
            <a:ext cx="2405160" cy="1819080"/>
          </a:xfrm>
          <a:custGeom>
            <a:avLst/>
            <a:gdLst/>
            <a:ahLst/>
            <a:rect l="l" t="t" r="r" b="b"/>
            <a:pathLst>
              <a:path w="1529" h="1146">
                <a:moveTo>
                  <a:pt x="0" y="0"/>
                </a:moveTo>
                <a:cubicBezTo>
                  <a:pt x="14" y="103"/>
                  <a:pt x="185" y="624"/>
                  <a:pt x="439" y="885"/>
                </a:cubicBezTo>
                <a:cubicBezTo>
                  <a:pt x="693" y="1146"/>
                  <a:pt x="1234" y="1132"/>
                  <a:pt x="1529" y="113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79600" y="6253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(0)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05080" y="2262960"/>
            <a:ext cx="2763000" cy="2250360"/>
            <a:chOff x="505080" y="2262960"/>
            <a:chExt cx="2763000" cy="2250360"/>
          </a:xfrm>
        </p:grpSpPr>
        <p:sp>
          <p:nvSpPr>
            <p:cNvPr id="105" name=""/>
            <p:cNvSpPr/>
            <p:nvPr/>
          </p:nvSpPr>
          <p:spPr>
            <a:xfrm flipV="1">
              <a:off x="768240" y="2366280"/>
              <a:ext cx="1613160" cy="2120760"/>
            </a:xfrm>
            <a:custGeom>
              <a:avLst/>
              <a:gdLst/>
              <a:ahLst/>
              <a:rect l="l" t="t" r="r" b="b"/>
              <a:pathLst>
                <a:path w="1016" h="1336">
                  <a:moveTo>
                    <a:pt x="0" y="1336"/>
                  </a:moveTo>
                  <a:cubicBezTo>
                    <a:pt x="120" y="1324"/>
                    <a:pt x="396" y="1332"/>
                    <a:pt x="660" y="1020"/>
                  </a:cubicBezTo>
                  <a:cubicBezTo>
                    <a:pt x="924" y="708"/>
                    <a:pt x="992" y="212"/>
                    <a:pt x="101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3280" y="2336760"/>
              <a:ext cx="0" cy="21765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5080" y="2262960"/>
              <a:ext cx="3387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840" rIns="105840" tIns="52920" bIns="529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58280" y="312732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(0)= -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7485480" y="8190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(0)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801040" y="2465280"/>
            <a:ext cx="2895120" cy="2176200"/>
            <a:chOff x="5801040" y="2465280"/>
            <a:chExt cx="2895120" cy="2176200"/>
          </a:xfrm>
        </p:grpSpPr>
        <p:sp>
          <p:nvSpPr>
            <p:cNvPr id="111" name=""/>
            <p:cNvSpPr/>
            <p:nvPr/>
          </p:nvSpPr>
          <p:spPr>
            <a:xfrm>
              <a:off x="6302520" y="2465280"/>
              <a:ext cx="0" cy="21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65960" y="332388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x(0)= -4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291360" y="2488320"/>
              <a:ext cx="2404800" cy="1819080"/>
            </a:xfrm>
            <a:custGeom>
              <a:avLst/>
              <a:gdLst/>
              <a:ahLst/>
              <a:rect l="l" t="t" r="r" b="b"/>
              <a:pathLst>
                <a:path w="1529" h="1146">
                  <a:moveTo>
                    <a:pt x="0" y="0"/>
                  </a:moveTo>
                  <a:cubicBezTo>
                    <a:pt x="14" y="103"/>
                    <a:pt x="185" y="624"/>
                    <a:pt x="439" y="885"/>
                  </a:cubicBezTo>
                  <a:cubicBezTo>
                    <a:pt x="693" y="1146"/>
                    <a:pt x="1234" y="1132"/>
                    <a:pt x="1529" y="11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01040" y="4089240"/>
              <a:ext cx="53388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840" rIns="105840" tIns="52920" bIns="529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435840" y="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(t) = x(0)e</a:t>
            </a:r>
            <a:r>
              <a:rPr b="0" i="1" lang="it-IT" sz="2800" spc="-1" strike="noStrike" baseline="30000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057320" y="5116320"/>
            <a:ext cx="1936800" cy="15778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4600" y="5182560"/>
            <a:ext cx="1033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  &lt; 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9280" y="5206680"/>
            <a:ext cx="3243240" cy="1338120"/>
            <a:chOff x="179280" y="5206680"/>
            <a:chExt cx="3243240" cy="1338120"/>
          </a:xfrm>
        </p:grpSpPr>
        <p:sp>
          <p:nvSpPr>
            <p:cNvPr id="119" name=""/>
            <p:cNvSpPr/>
            <p:nvPr/>
          </p:nvSpPr>
          <p:spPr>
            <a:xfrm>
              <a:off x="179280" y="6089760"/>
              <a:ext cx="324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-55800" bIns="-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9560" y="5206680"/>
              <a:ext cx="434880" cy="11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840" rIns="105840" tIns="52920" bIns="529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r>
                <a:rPr b="0" lang="en-US" sz="7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1221840" y="6084720"/>
              <a:ext cx="2257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-51120" bIns="-51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2182680" y="6084720"/>
              <a:ext cx="22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-51120" bIns="-51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31880" y="6072840"/>
              <a:ext cx="36468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840" rIns="105840" tIns="52920" bIns="529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06680" y="5031720"/>
            <a:ext cx="1033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  &gt; 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075280" y="5225760"/>
            <a:ext cx="3243240" cy="1334880"/>
            <a:chOff x="5075280" y="5225760"/>
            <a:chExt cx="3243240" cy="1334880"/>
          </a:xfrm>
        </p:grpSpPr>
        <p:sp>
          <p:nvSpPr>
            <p:cNvPr id="126" name=""/>
            <p:cNvSpPr/>
            <p:nvPr/>
          </p:nvSpPr>
          <p:spPr>
            <a:xfrm>
              <a:off x="5075280" y="6105600"/>
              <a:ext cx="324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-55800" bIns="-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94400" y="5225760"/>
              <a:ext cx="434880" cy="11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840" rIns="105840" tIns="52920" bIns="529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r>
                <a:rPr b="0" lang="en-US" sz="7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6118200" y="6100560"/>
              <a:ext cx="2257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-51120" bIns="-51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7078680" y="6100560"/>
              <a:ext cx="225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-51120" bIns="-51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50200" y="6088680"/>
              <a:ext cx="36468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840" rIns="105840" tIns="52920" bIns="529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489480" y="4425840"/>
                <a:ext cx="527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938760" y="461808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3300"/>
                </a:solidFill>
                <a:latin typeface="Times New Roman"/>
              </a:rPr>
              <a:t>= 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834160" y="5211360"/>
            <a:ext cx="1482480" cy="14828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14360" y="536400"/>
            <a:ext cx="88920" cy="3895920"/>
            <a:chOff x="414360" y="536400"/>
            <a:chExt cx="88920" cy="3895920"/>
          </a:xfrm>
        </p:grpSpPr>
        <p:sp>
          <p:nvSpPr>
            <p:cNvPr id="135" name=""/>
            <p:cNvSpPr/>
            <p:nvPr/>
          </p:nvSpPr>
          <p:spPr>
            <a:xfrm flipH="1" flipV="1">
              <a:off x="464760" y="536400"/>
              <a:ext cx="11160" cy="3895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5800" bIns="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71240" y="2730600"/>
              <a:ext cx="4680" cy="225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5800" bIns="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471240" y="1770120"/>
              <a:ext cx="4680" cy="225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5800" bIns="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58640" y="952560"/>
              <a:ext cx="5040" cy="225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5800" bIns="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69800" y="3621240"/>
              <a:ext cx="5040" cy="225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5800" bIns="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4360" y="2295360"/>
              <a:ext cx="88920" cy="88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78360" y="618840"/>
            <a:ext cx="88920" cy="3895560"/>
            <a:chOff x="5778360" y="618840"/>
            <a:chExt cx="88920" cy="3895560"/>
          </a:xfrm>
        </p:grpSpPr>
        <p:sp>
          <p:nvSpPr>
            <p:cNvPr id="142" name=""/>
            <p:cNvSpPr/>
            <p:nvPr/>
          </p:nvSpPr>
          <p:spPr>
            <a:xfrm flipH="1" flipV="1">
              <a:off x="5819400" y="618840"/>
              <a:ext cx="11160" cy="3895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5800" bIns="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5825880" y="2812320"/>
              <a:ext cx="4680" cy="225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5800" bIns="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825880" y="1852200"/>
              <a:ext cx="4680" cy="225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5800" bIns="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5813280" y="1034640"/>
              <a:ext cx="5040" cy="2253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5800" bIns="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824440" y="3702960"/>
              <a:ext cx="5040" cy="225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111960" rIns="111960" tIns="55800" bIns="55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78360" y="2433240"/>
              <a:ext cx="88920" cy="88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2440" y="19836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igrazione c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411360" y="0"/>
                <a:ext cx="17132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2440" y="969840"/>
                <a:ext cx="37926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er  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-9000" y="2127240"/>
            <a:ext cx="633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ano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 &lt;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b &gt;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r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x+b &gt; 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per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x &lt; x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esiste un unico equilibrio positivo e st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44600" y="41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302520" y="1584360"/>
            <a:ext cx="2689200" cy="2906280"/>
            <a:chOff x="6302520" y="1584360"/>
            <a:chExt cx="2689200" cy="2906280"/>
          </a:xfrm>
        </p:grpSpPr>
        <p:sp>
          <p:nvSpPr>
            <p:cNvPr id="154" name=""/>
            <p:cNvSpPr/>
            <p:nvPr/>
          </p:nvSpPr>
          <p:spPr>
            <a:xfrm>
              <a:off x="6599160" y="1584360"/>
              <a:ext cx="0" cy="27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324840" y="3247920"/>
              <a:ext cx="266688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02520" y="2031840"/>
              <a:ext cx="2430360" cy="2458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2240" y="209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49640" y="28638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-b/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6773760" y="3348000"/>
              <a:ext cx="29376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8089920" y="3279600"/>
              <a:ext cx="29376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58200" y="32731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359960" y="121284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co 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640" y="3720960"/>
            <a:ext cx="63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rcizio: studiare cosa succede cambiando segno a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e/o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3440" y="4314960"/>
            <a:ext cx="8640720" cy="2495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63520" y="4489560"/>
                <a:ext cx="3513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con   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106520" y="4705200"/>
            <a:ext cx="33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mbio di variabile: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X = x+b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2240" y="5180040"/>
            <a:ext cx="8178480" cy="901800"/>
            <a:chOff x="192240" y="5180040"/>
            <a:chExt cx="8178480" cy="901800"/>
          </a:xfrm>
        </p:grpSpPr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92240" y="5291280"/>
                  <a:ext cx="386856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X</m:t>
                      </m:r>
                      <m:r>
                        <m:rPr>
                          <m:lit/>
                          <m:nor/>
                        </m:rPr>
                        <m:t xml:space="preserve">    con   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69" name=""/>
            <p:cNvGrpSpPr/>
            <p:nvPr/>
          </p:nvGrpSpPr>
          <p:grpSpPr>
            <a:xfrm>
              <a:off x="4196520" y="5180040"/>
              <a:ext cx="4174200" cy="879480"/>
              <a:chOff x="4196520" y="5180040"/>
              <a:chExt cx="4174200" cy="879480"/>
            </a:xfrm>
          </p:grpSpPr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5627520" y="5180040"/>
                    <a:ext cx="2743200" cy="87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1" name=""/>
              <p:cNvSpPr/>
              <p:nvPr/>
            </p:nvSpPr>
            <p:spPr>
              <a:xfrm>
                <a:off x="4196520" y="5446800"/>
                <a:ext cx="127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oluzione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668680" y="4292640"/>
            <a:ext cx="41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gli appassionati dei metodi anali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6680" y="6284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la variabile origina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525840" y="5978520"/>
                <a:ext cx="31305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453760" y="-71280"/>
            <a:ext cx="49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scita logistica di una popo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693720" y="971640"/>
                <a:ext cx="2162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-3960" y="425520"/>
            <a:ext cx="43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uova ipotesi: mortalità =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m + 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08680" y="1046160"/>
                <a:ext cx="21938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x</m:t>
                    </m:r>
                    <m:r>
                      <m:t xml:space="preserve">)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94320" y="1201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88760" y="134316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passa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9440" y="2116080"/>
            <a:ext cx="883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o membro dell’equazione di evoluzione                                     (una parabo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4160" y="2630520"/>
            <a:ext cx="393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x)x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er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r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745160" y="2092320"/>
            <a:ext cx="4244760" cy="2644920"/>
            <a:chOff x="4745160" y="2092320"/>
            <a:chExt cx="4244760" cy="2644920"/>
          </a:xfrm>
        </p:grpSpPr>
        <p:sp>
          <p:nvSpPr>
            <p:cNvPr id="184" name="Line 21"/>
            <p:cNvSpPr/>
            <p:nvPr/>
          </p:nvSpPr>
          <p:spPr>
            <a:xfrm flipH="1">
              <a:off x="5409720" y="2211480"/>
              <a:ext cx="42840" cy="2438280"/>
            </a:xfrm>
            <a:custGeom>
              <a:avLst/>
              <a:gdLst/>
              <a:ahLst/>
              <a:rect l="l" t="t" r="r" b="b"/>
              <a:pathLst>
                <a:path w="5" h="1187">
                  <a:moveTo>
                    <a:pt x="5" y="1187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4745160" y="4116600"/>
              <a:ext cx="4127760" cy="42840"/>
            </a:xfrm>
            <a:custGeom>
              <a:avLst/>
              <a:gdLst/>
              <a:ahLst/>
              <a:rect l="l" t="t" r="r" b="b"/>
              <a:pathLst>
                <a:path w="2175" h="2">
                  <a:moveTo>
                    <a:pt x="0" y="2"/>
                  </a:moveTo>
                  <a:lnTo>
                    <a:pt x="217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26480" y="2527560"/>
              <a:ext cx="3025800" cy="2209680"/>
            </a:xfrm>
            <a:custGeom>
              <a:avLst/>
              <a:gdLst/>
              <a:ahLst/>
              <a:rect l="l" t="t" r="r" b="b"/>
              <a:pathLst>
                <a:path w="1906" h="1392">
                  <a:moveTo>
                    <a:pt x="0" y="1392"/>
                  </a:moveTo>
                  <a:cubicBezTo>
                    <a:pt x="41" y="1056"/>
                    <a:pt x="615" y="0"/>
                    <a:pt x="933" y="0"/>
                  </a:cubicBezTo>
                  <a:cubicBezTo>
                    <a:pt x="1251" y="0"/>
                    <a:pt x="1817" y="1008"/>
                    <a:pt x="1906" y="139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96520" y="39988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26640" y="20923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x/d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16520" y="412272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/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631120" y="4143240"/>
              <a:ext cx="293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63200" y="4079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1360" y="410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4953240" y="4138200"/>
              <a:ext cx="293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8217000" y="4106520"/>
              <a:ext cx="2934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317000" y="4130280"/>
              <a:ext cx="29376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60760" y="4087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49120" y="3809880"/>
                <a:ext cx="22575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-11160" y="3800520"/>
                <a:ext cx="7653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5160" y="3387600"/>
            <a:ext cx="33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proprio si vuole integra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784520" y="3798720"/>
                <a:ext cx="7650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847960" y="3886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43360" y="4352760"/>
            <a:ext cx="5146200" cy="2679120"/>
            <a:chOff x="3843360" y="4352760"/>
            <a:chExt cx="5146200" cy="2679120"/>
          </a:xfrm>
        </p:grpSpPr>
        <p:sp>
          <p:nvSpPr>
            <p:cNvPr id="203" name=""/>
            <p:cNvSpPr/>
            <p:nvPr/>
          </p:nvSpPr>
          <p:spPr>
            <a:xfrm>
              <a:off x="4379040" y="5280120"/>
              <a:ext cx="4369320" cy="756360"/>
            </a:xfrm>
            <a:custGeom>
              <a:avLst/>
              <a:gdLst/>
              <a:ahLst/>
              <a:rect l="l" t="t" r="r" b="b"/>
              <a:pathLst>
                <a:path w="3109" h="857">
                  <a:moveTo>
                    <a:pt x="0" y="857"/>
                  </a:moveTo>
                  <a:cubicBezTo>
                    <a:pt x="628" y="672"/>
                    <a:pt x="636" y="267"/>
                    <a:pt x="1152" y="136"/>
                  </a:cubicBezTo>
                  <a:cubicBezTo>
                    <a:pt x="1670" y="0"/>
                    <a:pt x="2785" y="55"/>
                    <a:pt x="3109" y="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3120" y="6101280"/>
              <a:ext cx="463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4366080" y="4491360"/>
              <a:ext cx="10440" cy="254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49880" y="5250600"/>
              <a:ext cx="4619880" cy="720"/>
            </a:xfrm>
            <a:prstGeom prst="line">
              <a:avLst/>
            </a:prstGeom>
            <a:ln w="3816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45960" y="509832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/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58880" y="4792680"/>
              <a:ext cx="4233600" cy="418680"/>
            </a:xfrm>
            <a:custGeom>
              <a:avLst/>
              <a:gdLst/>
              <a:ahLst/>
              <a:rect l="l" t="t" r="r" b="b"/>
              <a:pathLst>
                <a:path w="3012" h="475">
                  <a:moveTo>
                    <a:pt x="3012" y="453"/>
                  </a:moveTo>
                  <a:cubicBezTo>
                    <a:pt x="2619" y="466"/>
                    <a:pt x="1727" y="475"/>
                    <a:pt x="1225" y="400"/>
                  </a:cubicBezTo>
                  <a:cubicBezTo>
                    <a:pt x="723" y="325"/>
                    <a:pt x="255" y="83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476560" y="60411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32000" y="43527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90160" y="473724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(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43360" y="584640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(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75800" y="6206400"/>
              <a:ext cx="951840" cy="792720"/>
            </a:xfrm>
            <a:custGeom>
              <a:avLst/>
              <a:gdLst/>
              <a:ahLst/>
              <a:rect l="l" t="t" r="r" b="b"/>
              <a:pathLst>
                <a:path w="624" h="672">
                  <a:moveTo>
                    <a:pt x="624" y="672"/>
                  </a:moveTo>
                  <a:cubicBezTo>
                    <a:pt x="521" y="268"/>
                    <a:pt x="452" y="228"/>
                    <a:pt x="288" y="117"/>
                  </a:cubicBezTo>
                  <a:cubicBezTo>
                    <a:pt x="124" y="6"/>
                    <a:pt x="151" y="32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1600" y="5322960"/>
                <a:ext cx="350532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46520" y="515304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1200" y="117360"/>
            <a:ext cx="83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oppi no…ma in branco si sta meglio e ci si difende dai pred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001160" y="1243080"/>
            <a:ext cx="42840" cy="2438280"/>
          </a:xfrm>
          <a:custGeom>
            <a:avLst/>
            <a:gdLst/>
            <a:ahLst/>
            <a:rect l="l" t="t" r="r" b="b"/>
            <a:pathLst>
              <a:path w="5" h="1187">
                <a:moveTo>
                  <a:pt x="5" y="118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2"/>
          <p:cNvSpPr/>
          <p:nvPr/>
        </p:nvSpPr>
        <p:spPr>
          <a:xfrm>
            <a:off x="336600" y="3137040"/>
            <a:ext cx="5402160" cy="54000"/>
          </a:xfrm>
          <a:custGeom>
            <a:avLst/>
            <a:gdLst/>
            <a:ahLst/>
            <a:rect l="l" t="t" r="r" b="b"/>
            <a:pathLst>
              <a:path w="2175" h="2">
                <a:moveTo>
                  <a:pt x="0" y="2"/>
                </a:moveTo>
                <a:lnTo>
                  <a:pt x="21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33560" y="2077920"/>
            <a:ext cx="3321000" cy="2494080"/>
          </a:xfrm>
          <a:custGeom>
            <a:avLst/>
            <a:gdLst/>
            <a:ahLst/>
            <a:rect l="l" t="t" r="r" b="b"/>
            <a:pathLst>
              <a:path w="2092" h="1571">
                <a:moveTo>
                  <a:pt x="0" y="686"/>
                </a:moveTo>
                <a:cubicBezTo>
                  <a:pt x="138" y="899"/>
                  <a:pt x="199" y="999"/>
                  <a:pt x="391" y="824"/>
                </a:cubicBezTo>
                <a:cubicBezTo>
                  <a:pt x="574" y="730"/>
                  <a:pt x="815" y="0"/>
                  <a:pt x="1098" y="124"/>
                </a:cubicBezTo>
                <a:cubicBezTo>
                  <a:pt x="1381" y="248"/>
                  <a:pt x="1955" y="1180"/>
                  <a:pt x="2092" y="157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7960" y="30304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18080" y="112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x/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88600" y="3154320"/>
            <a:ext cx="3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49360" y="3174480"/>
            <a:ext cx="2937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54280" y="3111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82800" y="31320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295280" y="3169800"/>
            <a:ext cx="2937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808440" y="3138120"/>
            <a:ext cx="2937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908440" y="3161880"/>
            <a:ext cx="293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0120" y="313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554280" y="928800"/>
                <a:ext cx="28828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729080" y="3141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36880" y="3160440"/>
            <a:ext cx="293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89200" y="3130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7600" y="5291280"/>
            <a:ext cx="45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stabilità, bacini di att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00080" y="2874960"/>
            <a:ext cx="2471760" cy="1479600"/>
          </a:xfrm>
          <a:custGeom>
            <a:avLst/>
            <a:gdLst/>
            <a:ahLst/>
            <a:rect l="l" t="t" r="r" b="b"/>
            <a:pathLst>
              <a:path w="1557" h="932">
                <a:moveTo>
                  <a:pt x="0" y="196"/>
                </a:moveTo>
                <a:cubicBezTo>
                  <a:pt x="38" y="234"/>
                  <a:pt x="47" y="647"/>
                  <a:pt x="241" y="630"/>
                </a:cubicBezTo>
                <a:cubicBezTo>
                  <a:pt x="435" y="613"/>
                  <a:pt x="735" y="0"/>
                  <a:pt x="1043" y="75"/>
                </a:cubicBezTo>
                <a:cubicBezTo>
                  <a:pt x="1262" y="125"/>
                  <a:pt x="1413" y="562"/>
                  <a:pt x="1557" y="93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1880" y="34596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fruttamento della pes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 flipH="1">
            <a:off x="990720" y="1243080"/>
            <a:ext cx="54000" cy="2927160"/>
          </a:xfrm>
          <a:custGeom>
            <a:avLst/>
            <a:gdLst/>
            <a:ahLst/>
            <a:rect l="l" t="t" r="r" b="b"/>
            <a:pathLst>
              <a:path w="5" h="1187">
                <a:moveTo>
                  <a:pt x="5" y="118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"/>
          <p:cNvSpPr/>
          <p:nvPr/>
        </p:nvSpPr>
        <p:spPr>
          <a:xfrm>
            <a:off x="336600" y="3147840"/>
            <a:ext cx="4421160" cy="43200"/>
          </a:xfrm>
          <a:custGeom>
            <a:avLst/>
            <a:gdLst/>
            <a:ahLst/>
            <a:rect l="l" t="t" r="r" b="b"/>
            <a:pathLst>
              <a:path w="2175" h="2">
                <a:moveTo>
                  <a:pt x="0" y="2"/>
                </a:moveTo>
                <a:lnTo>
                  <a:pt x="21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33560" y="2179800"/>
            <a:ext cx="2950920" cy="1782720"/>
          </a:xfrm>
          <a:custGeom>
            <a:avLst/>
            <a:gdLst/>
            <a:ahLst/>
            <a:rect l="l" t="t" r="r" b="b"/>
            <a:pathLst>
              <a:path w="1859" h="1123">
                <a:moveTo>
                  <a:pt x="0" y="622"/>
                </a:moveTo>
                <a:cubicBezTo>
                  <a:pt x="138" y="835"/>
                  <a:pt x="199" y="935"/>
                  <a:pt x="391" y="760"/>
                </a:cubicBezTo>
                <a:cubicBezTo>
                  <a:pt x="574" y="666"/>
                  <a:pt x="853" y="0"/>
                  <a:pt x="1098" y="60"/>
                </a:cubicBezTo>
                <a:cubicBezTo>
                  <a:pt x="1343" y="120"/>
                  <a:pt x="1722" y="732"/>
                  <a:pt x="1859" y="112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87960" y="30304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18080" y="1123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x/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64800" y="3165480"/>
            <a:ext cx="3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49360" y="3174480"/>
            <a:ext cx="2937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1320" y="3122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82800" y="31320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295280" y="3169800"/>
            <a:ext cx="2937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101760" y="3158640"/>
            <a:ext cx="293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332080" y="3161880"/>
            <a:ext cx="29376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0120" y="313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48240" y="166680"/>
                <a:ext cx="3790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qE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2011680" y="31417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23840" y="1905120"/>
            <a:ext cx="3014640" cy="1253880"/>
          </a:xfrm>
          <a:custGeom>
            <a:avLst/>
            <a:gdLst/>
            <a:ahLst/>
            <a:rect l="l" t="t" r="r" b="b"/>
            <a:pathLst>
              <a:path w="1899" h="790">
                <a:moveTo>
                  <a:pt x="0" y="790"/>
                </a:moveTo>
                <a:lnTo>
                  <a:pt x="18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04920" y="31305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182800">
            <a:off x="3457440" y="16606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q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5480" y="4356000"/>
            <a:ext cx="4442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34680" y="6305400"/>
            <a:ext cx="344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146560" y="4694040"/>
            <a:ext cx="2232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165280" y="4138560"/>
            <a:ext cx="9720" cy="29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51600" y="5954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16880" y="4784760"/>
            <a:ext cx="1265040" cy="1309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032600" y="64990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q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74200" y="601668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rreversibilità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35280" y="4245120"/>
            <a:ext cx="33480" cy="23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689280" y="6540480"/>
            <a:ext cx="44071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62800" y="5757840"/>
            <a:ext cx="465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it-IT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668760" y="6562440"/>
            <a:ext cx="294948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46440" y="5170320"/>
            <a:ext cx="2590920" cy="768600"/>
          </a:xfrm>
          <a:custGeom>
            <a:avLst/>
            <a:gdLst/>
            <a:ahLst/>
            <a:rect l="l" t="t" r="r" b="b"/>
            <a:pathLst>
              <a:path w="1632" h="484">
                <a:moveTo>
                  <a:pt x="0" y="484"/>
                </a:moveTo>
                <a:cubicBezTo>
                  <a:pt x="206" y="454"/>
                  <a:pt x="962" y="382"/>
                  <a:pt x="1234" y="301"/>
                </a:cubicBezTo>
                <a:cubicBezTo>
                  <a:pt x="1506" y="220"/>
                  <a:pt x="1549" y="63"/>
                  <a:pt x="1632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543360" y="4672080"/>
            <a:ext cx="20520" cy="164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720" y="4759200"/>
            <a:ext cx="3573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o della pesca e profit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fitto =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(q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sca sostenibile (lungo perio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46440" y="4362480"/>
            <a:ext cx="2579760" cy="785880"/>
          </a:xfrm>
          <a:custGeom>
            <a:avLst/>
            <a:gdLst/>
            <a:ahLst/>
            <a:rect l="l" t="t" r="r" b="b"/>
            <a:pathLst>
              <a:path w="1625" h="495">
                <a:moveTo>
                  <a:pt x="0" y="36"/>
                </a:moveTo>
                <a:cubicBezTo>
                  <a:pt x="162" y="46"/>
                  <a:pt x="535" y="0"/>
                  <a:pt x="967" y="97"/>
                </a:cubicBezTo>
                <a:cubicBezTo>
                  <a:pt x="1399" y="194"/>
                  <a:pt x="1276" y="159"/>
                  <a:pt x="1440" y="249"/>
                </a:cubicBezTo>
                <a:cubicBezTo>
                  <a:pt x="1604" y="339"/>
                  <a:pt x="1587" y="444"/>
                  <a:pt x="1625" y="49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316200" y="5175360"/>
            <a:ext cx="9720" cy="53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671800" y="577368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95920" y="58309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93240" y="6234120"/>
            <a:ext cx="3020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43040" y="5622840"/>
            <a:ext cx="3110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cc3300"/>
                </a:solidFill>
                <a:latin typeface="Times New Roman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42840" y="2266920"/>
            <a:ext cx="9058320" cy="4525920"/>
            <a:chOff x="42840" y="2266920"/>
            <a:chExt cx="9058320" cy="4525920"/>
          </a:xfrm>
        </p:grpSpPr>
        <p:graphicFrame>
          <p:nvGraphicFramePr>
            <p:cNvPr id="277" name=""/>
            <p:cNvGraphicFramePr/>
            <p:nvPr/>
          </p:nvGraphicFramePr>
          <p:xfrm>
            <a:off x="42840" y="2770200"/>
            <a:ext cx="5078520" cy="37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2840" y="2770200"/>
                      <a:ext cx="5078520" cy="371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9" name=""/>
            <p:cNvSpPr/>
            <p:nvPr/>
          </p:nvSpPr>
          <p:spPr>
            <a:xfrm>
              <a:off x="412560" y="2266920"/>
              <a:ext cx="24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umatori sn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43680" y="4638600"/>
              <a:ext cx="39574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pico esempio di bistabilità: due equilibri stabili con uno instabile intermedio che fa da spartiacque (separatore dei bacini di attrazio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E’ cruciale il prezzo di parten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7440" y="4035600"/>
              <a:ext cx="2952720" cy="2757240"/>
            </a:xfrm>
            <a:custGeom>
              <a:avLst/>
              <a:gdLst/>
              <a:ahLst/>
              <a:rect l="l" t="t" r="r" b="b"/>
              <a:pathLst>
                <a:path w="1860" h="1737">
                  <a:moveTo>
                    <a:pt x="0" y="0"/>
                  </a:moveTo>
                  <a:cubicBezTo>
                    <a:pt x="15" y="269"/>
                    <a:pt x="459" y="1267"/>
                    <a:pt x="653" y="1250"/>
                  </a:cubicBezTo>
                  <a:cubicBezTo>
                    <a:pt x="847" y="1233"/>
                    <a:pt x="968" y="859"/>
                    <a:pt x="1208" y="887"/>
                  </a:cubicBezTo>
                  <a:cubicBezTo>
                    <a:pt x="1448" y="915"/>
                    <a:pt x="1599" y="1339"/>
                    <a:pt x="1860" y="1737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-1080" y="189000"/>
            <a:ext cx="41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namica del prezzo di un prodot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pende da domanda e offer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98360" y="1203480"/>
                <a:ext cx="36846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[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559400" y="-12600"/>
            <a:ext cx="3429000" cy="4674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76680" y="5737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06480" y="5757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73240" y="5734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7:29:09Z</dcterms:created>
  <dc:creator>Proprietario</dc:creator>
  <dc:description/>
  <dc:language>en-US</dc:language>
  <cp:lastModifiedBy>Proprietario</cp:lastModifiedBy>
  <dcterms:modified xsi:type="dcterms:W3CDTF">2012-10-11T14:25:41Z</dcterms:modified>
  <cp:revision>43</cp:revision>
  <dc:subject/>
  <dc:title>Diapositiva 1</dc:title>
</cp:coreProperties>
</file>